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7E8-2311-4029-BEB6-281F44D8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C16B-CC58-46B8-A726-9E389CA4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604-441A-4AD8-90D2-BD9AF494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E7CC-6780-4463-A619-2B8775DF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8FC9-42F5-4C04-BD58-E4A6F3C2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6726-8A91-4E85-B358-5982E7D8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CC4D-CA6A-45BB-9FC8-D1E102A8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BF4F-8C54-4AE5-B37C-888C9BE9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3F6D-19EF-490D-9EC4-CB503B0D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39FB-B2E0-41C9-B9E3-511D3387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90FA-4026-41DF-8E0C-4808235D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D098-32D3-493B-8AB0-3FF38956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701E-50BA-498C-84EE-30BA8FA8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1E87-C32C-4747-A765-8C8BFB04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812C-785C-442A-BBD9-4400373B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2771-66E0-485F-82CC-690A8ED4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436C-6D37-406E-A3B3-6F14D8D4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4851-F3C6-41AD-9C66-757A18A5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D4C-A087-49BB-AF65-5519A1EB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F872-DBB7-401E-9445-AF5019DF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393-49D9-4DD0-8690-8E75A398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C17-BD07-47FF-9A94-65A0C596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87A5-E696-44AD-A93A-6CC7DB25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4A1-A9CB-4168-BA25-A8176EB6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7163-5D36-47B1-A4AC-801EF47EA583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357B-D1B6-44E4-9878-2F7DAC4CFE88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6289-E0B7-46E9-9182-7BEDF387EC10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4273-9A7E-4D89-980B-AD006471CFC0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개발 전략 </a:t>
            </a:r>
            <a:br>
              <a:rPr sz="54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 —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hapter 4 —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Engineering L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ool of Computing Science and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ngshin Women’s University, Ko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8EB5-9270-46E5-82E0-EC0FC859EEC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7B662-76BF-4EF6-AF82-1755CFD78B5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조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그림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-4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핵심 구성 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변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응용 프로그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관리 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 의사 결정 지원 도구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 workst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F465-4169-4F4D-9AE1-800072A57FC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4D736-3347-4274-B196-3D7117190EF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술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기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플랫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 관련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ool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건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기술이 데이터 웨어하우징에 적합한지를 확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술 범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 action="ppaction://hlinksldjump"/>
              </a:rPr>
              <a:t>그림 4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술 플랫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드웨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프트웨어 그리고 통신 네트워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련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산성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 의사 결정 지원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3CC1-AC88-4C52-B776-9D4E5CED74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4A385-54E3-4393-A09C-F9C3BF7764B0}" type="datetime3">
              <a:rPr lang="en-US"/>
              <a:t>July 31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57200" y="1523880"/>
          <a:ext cx="8381880" cy="5024520"/>
        </p:xfrm>
        <a:graphic>
          <a:graphicData uri="http://schemas.openxmlformats.org/drawingml/2006/table">
            <a:tbl>
              <a:tblPr/>
              <a:tblGrid>
                <a:gridCol w="2057040"/>
                <a:gridCol w="2667240"/>
                <a:gridCol w="1752480"/>
                <a:gridCol w="1905120"/>
              </a:tblGrid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플랫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스 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최종 사용자 도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서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모델링과 데이터베이스의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특별조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저장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운영체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리엔니지니어링과 클리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관리조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DB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추출과 변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다차원 분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응용프로그램 서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운영과 성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마이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네트워크 프로토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의사결정지원 응용프로그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워크스테이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시스템 유틸리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447920" y="457200"/>
            <a:ext cx="6476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 action="ppaction://hlinksldjump"/>
              </a:rPr>
              <a:t>그림 4-5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술 범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87F-67F8-472D-8359-7023F5E747C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0D03D-5DF3-4793-8047-875693EC91F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5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조직체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을 조직체 내의 배치 위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 시스템 조직과 업무 사용자 조직의 역할과 책임 명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4-6 :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데이터 웨어하우징 팀의 역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적 구성 수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숙련 기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정보 자원 관리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RM: information resource manage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업무 사용자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처리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응용 프로그램 시스템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술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CA40-195A-4CA1-A3EE-056B1DD5C3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7EE77-E14D-434A-AB74-4214EEE02ED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3880" y="8380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6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의 역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447920"/>
          <a:ext cx="8076960" cy="4749840"/>
        </p:xfrm>
        <a:graphic>
          <a:graphicData uri="http://schemas.openxmlformats.org/drawingml/2006/table">
            <a:tbl>
              <a:tblPr/>
              <a:tblGrid>
                <a:gridCol w="2438280"/>
                <a:gridCol w="563868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역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주요 책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스 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전략 수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계획 및 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징 목표 전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구축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업 데이터 모델 개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요건 분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징 데이터 구조 설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데이터 시각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저장소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표준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저장소 및 사용자 디렉토리 관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베이스 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물리적 데이터베이스 구조 작성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적재 감시 및  조회 수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E435-FB12-4F1C-960E-7551C93AAF32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F8761-D640-4432-BD20-C0380804E74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838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6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의 역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계속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120" y="1447920"/>
          <a:ext cx="8076960" cy="5043240"/>
        </p:xfrm>
        <a:graphic>
          <a:graphicData uri="http://schemas.openxmlformats.org/drawingml/2006/table">
            <a:tbl>
              <a:tblPr/>
              <a:tblGrid>
                <a:gridCol w="2438280"/>
                <a:gridCol w="5638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역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주요 책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사용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설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규칙 지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변환 결과 시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응용프로그램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처리분석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의사 결정 지원 응용 프로그램 개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응용프로그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시스템전문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존 시스템 데이터의 정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변환분석가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프로그래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 데이터와 데이터 웨어하우스의 대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를 선택 및 적재할 프로그램 작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술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도구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술 구성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교육 전문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접근에 관한 교육 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생산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 시스템 작업 진행 및 데이터 웨어하우징 적재 감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2683-AC37-4198-89D2-0CD49904DA2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B5C33-B736-43BD-A892-EB9281BF42C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6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발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환경을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작업 세분화 구조와 작업 계획의 근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반복적인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소한의 일련의 데이터를 시작으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가적인 데이터가 연속적으로 반복해서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7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5E7-7890-40F8-9D85-02F561DF17D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2A0B7-B0A5-47B8-A76B-E78E966CF5E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09680" y="20574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운영 환경 수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6002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프로젝트 착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25146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기업정보 구조개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3048120"/>
            <a:ext cx="1676520" cy="47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데이터베이스 설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4290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데이터 변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26708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4724280"/>
            <a:ext cx="198108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 인터페이스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52578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생산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5410080"/>
            <a:ext cx="167652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도구 및 응용 프로그램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5867280"/>
            <a:ext cx="167652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및 롤아웃 개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838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7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개발 과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676520" y="2209680"/>
            <a:ext cx="533160" cy="228600"/>
            <a:chOff x="1676520" y="2209680"/>
            <a:chExt cx="533160" cy="228600"/>
          </a:xfrm>
        </p:grpSpPr>
        <p:sp>
          <p:nvSpPr>
            <p:cNvPr id="142" name=""/>
            <p:cNvSpPr/>
            <p:nvPr/>
          </p:nvSpPr>
          <p:spPr>
            <a:xfrm>
              <a:off x="1676520" y="2438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765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895480" y="2666880"/>
            <a:ext cx="533160" cy="228600"/>
            <a:chOff x="2895480" y="2666880"/>
            <a:chExt cx="533160" cy="228600"/>
          </a:xfrm>
        </p:grpSpPr>
        <p:sp>
          <p:nvSpPr>
            <p:cNvPr id="145" name=""/>
            <p:cNvSpPr/>
            <p:nvPr/>
          </p:nvSpPr>
          <p:spPr>
            <a:xfrm>
              <a:off x="2895480" y="2895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95480" y="2666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124080"/>
            <a:ext cx="533160" cy="228600"/>
            <a:chOff x="4191120" y="3124080"/>
            <a:chExt cx="533160" cy="228600"/>
          </a:xfrm>
        </p:grpSpPr>
        <p:sp>
          <p:nvSpPr>
            <p:cNvPr id="148" name=""/>
            <p:cNvSpPr/>
            <p:nvPr/>
          </p:nvSpPr>
          <p:spPr>
            <a:xfrm>
              <a:off x="4191120" y="33526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91120" y="3124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533160" cy="228600"/>
            <a:chOff x="5791320" y="3505320"/>
            <a:chExt cx="533160" cy="228600"/>
          </a:xfrm>
        </p:grpSpPr>
        <p:sp>
          <p:nvSpPr>
            <p:cNvPr id="151" name=""/>
            <p:cNvSpPr/>
            <p:nvPr/>
          </p:nvSpPr>
          <p:spPr>
            <a:xfrm>
              <a:off x="5791320" y="37339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132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362320" y="4038480"/>
            <a:ext cx="4419360" cy="381240"/>
            <a:chOff x="2362320" y="4038480"/>
            <a:chExt cx="4419360" cy="381240"/>
          </a:xfrm>
        </p:grpSpPr>
        <p:sp>
          <p:nvSpPr>
            <p:cNvPr id="154" name=""/>
            <p:cNvSpPr/>
            <p:nvPr/>
          </p:nvSpPr>
          <p:spPr>
            <a:xfrm flipH="1">
              <a:off x="2362320" y="441972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816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752480" y="4876920"/>
            <a:ext cx="533160" cy="228600"/>
            <a:chOff x="1752480" y="4876920"/>
            <a:chExt cx="533160" cy="228600"/>
          </a:xfrm>
        </p:grpSpPr>
        <p:sp>
          <p:nvSpPr>
            <p:cNvPr id="157" name=""/>
            <p:cNvSpPr/>
            <p:nvPr/>
          </p:nvSpPr>
          <p:spPr>
            <a:xfrm>
              <a:off x="1752480" y="5105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876920" y="5638680"/>
            <a:ext cx="533160" cy="228600"/>
            <a:chOff x="4876920" y="5638680"/>
            <a:chExt cx="533160" cy="228600"/>
          </a:xfrm>
        </p:grpSpPr>
        <p:sp>
          <p:nvSpPr>
            <p:cNvPr id="160" name=""/>
            <p:cNvSpPr/>
            <p:nvPr/>
          </p:nvSpPr>
          <p:spPr>
            <a:xfrm>
              <a:off x="4876920" y="5867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76920" y="5638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81280" y="5334120"/>
            <a:ext cx="533160" cy="228600"/>
            <a:chOff x="3581280" y="5334120"/>
            <a:chExt cx="533160" cy="228600"/>
          </a:xfrm>
        </p:grpSpPr>
        <p:sp>
          <p:nvSpPr>
            <p:cNvPr id="163" name=""/>
            <p:cNvSpPr/>
            <p:nvPr/>
          </p:nvSpPr>
          <p:spPr>
            <a:xfrm>
              <a:off x="3581280" y="55627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1280" y="5334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77120" y="6019920"/>
            <a:ext cx="533160" cy="228600"/>
            <a:chOff x="6477120" y="6019920"/>
            <a:chExt cx="533160" cy="228600"/>
          </a:xfrm>
        </p:grpSpPr>
        <p:sp>
          <p:nvSpPr>
            <p:cNvPr id="166" name=""/>
            <p:cNvSpPr/>
            <p:nvPr/>
          </p:nvSpPr>
          <p:spPr>
            <a:xfrm>
              <a:off x="6477120" y="6248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77120" y="6019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7294-535E-4E42-9640-E5770B2024BC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43FB6-892B-4F04-9C12-31D9F71A409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발 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에 알맞은 구현 및 개발 순서 제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반복적이며 단계 지향적인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전환과 제거에 대한 논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현 순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교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9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10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은 제거되었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E61E-019B-41FB-A7A2-813A3000087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EA394-4553-40C4-944F-E5E9F47105C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념 증명 프로젝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적으로 가능할 때마다 방법론이나 도구들에서 나타나는 모순을 파악하고 정정하기 위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제되고 제한된 환경에서 데이터 웨어하우스를 개발하고 시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 성공 요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 편이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수 조회 및 응용 프로그램을 이용한 데이터 접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융통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투명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젝트 구현 계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규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간 및 다원을 추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CDA3-7A4D-474F-83DD-8DEE63BF712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99B54-75FF-4F81-B017-F994445CD17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4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개발 전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점</a:t>
            </a: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  <a:ea typeface="굴림"/>
              </a:rPr>
              <a:t>point)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나의 부서에서 필요한 구체적이고 협소한 의미의 요건들을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통 접근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후 업무에 대한 통합된 시각을 제공하는 의사 결정 지원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의 개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전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문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내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8AE-4D23-4ACE-8A5A-E7587F93D8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6658D-9B05-46FC-81FA-2EED31DB8BD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관리 관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포함 요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성공 요인과 성과 측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높은 수준의 가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위험 요소와 위험을 줄이기 위한 제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대 사항 관리에 관한 토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목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결정적 성공 요인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4-11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가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위험 평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대사항 관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081-16B9-4C6B-ACB2-9B9C5E4E762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4CE5C-7601-4988-89F1-5D3578D8546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결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을 개발하기위한 한 가지 접근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문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계획된 그리고 조정된 데이터 웨어하우징 개발이 이루어질 수 있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체계화된 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구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목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목표 그리고 개념들을 조직체에게 전달하고 이해시키기 위한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미래의 비전 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에 도달하는 확실한 단계들 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0DF6-0DEC-4E60-AA86-C79718F38C3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FC92C-CB91-48DD-B04E-2BEB40D05CD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전략 개발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의 개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작성 및 발표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월 이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의 규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면담 횟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전에 문서화된 구조상의 노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 상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후원자의 긴급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팀 규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8755-A4C1-43CE-AE24-419AF7C491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B9E44-D0FA-40DB-86DA-AC1B4F390A0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목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의 정보 필요성 만족 범위 평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영역에서의 실행 과정을 권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목적을 위하여 전략 정보의 적시 포착과 배포에 적합한 구조 창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 기반 도구를 비롯한 새로운 기술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36A8-E2D9-48A8-BC2F-8B6E6EF7BE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5F429-97A8-40F6-AA82-84D1AAB6D7D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 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연구팀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명 –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외부 자문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일제 팀 구성원 중 한 명은 내부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A7E-574E-4FDF-9285-00996BCB6B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D1727-B9A0-4A21-8669-B11332328E5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 연구 활동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건 수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요 사업 관계 인사와 면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의 잔존 시스템과 관련된 문서 조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의 구조 문서 검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권고사항 전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실행 과정을 권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업 조직체의 우선 순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정보 필요사항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및 기술 환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321-29E4-4599-A821-C3F00B7622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3308D-AA1E-4DE6-8D44-A840F6B86C9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전략 문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 차례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평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 요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 고려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E99B-64DD-4BAF-93B6-4431967C9A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05AF6-AC14-460C-AF18-EC26E2A34CF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에 전략과 관련된 핵심적인 권고 사항들을 요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에 대한 타당한 사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과 조직체 요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점진적 결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음 단계를 진행하기 위한 경영진의 행동 또는 승인에 대한 요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2FF-3048-4BE0-83DA-1FC000653C7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9ECA2-DFA6-469A-8AE9-BD5C9AD0441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현재 평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리 우선 순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4-3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데이터 주제 지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분화 정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부 사항 수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품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확성 완전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일관성과 무결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도 패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공유 및 분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시성과 과거 기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소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 워크스테이션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D04D-3EDB-420D-AA54-E853791B180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DB416-5C45-4AAD-B6D6-2274C5DEE7D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박종수</dc:creator>
  <dc:description/>
  <dc:language>en-US</dc:language>
  <cp:lastModifiedBy>박종수</cp:lastModifiedBy>
  <cp:lastPrinted>1999-09-10T20:38:56Z</cp:lastPrinted>
  <dcterms:modified xsi:type="dcterms:W3CDTF">2002-04-09T05:57:08Z</dcterms:modified>
  <cp:revision>217</cp:revision>
  <dc:subject/>
  <dc:title>데이터 웨어하우징 개발 전략</dc:title>
</cp:coreProperties>
</file>