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141-B325-441C-8C9A-12C88B6E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A875-D2AD-4718-8226-EABB7F1F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F22-BE16-4EA9-8904-30DED85C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34E-20B5-4DEE-ACA3-57DBFC98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6EFE-B8AD-429E-A37E-FE0A6912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13EF-1CAC-4AAA-8356-65457E90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F7DF-937C-4D1A-977A-FE904585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847F-87A6-45CF-8987-B0466F71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6E7E-0E21-471F-9409-FC24014A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9850-800B-4966-ACAE-E4073655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99EF-99B4-45A9-8F4A-63B0573F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4C6-4B2E-47B9-B5DB-89471C47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1810-464F-4F1E-BF6B-ED7F5C2F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C7E4-B03C-4520-A607-47C88E94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0B2B-33A4-49FF-8312-CCD869C2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3D10-138E-4D75-AC62-AAD2BED9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CD7D-CA0D-4634-A090-4A0CF306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FE03-F659-4AB5-9BB4-73861D85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F96-3B36-41FD-8857-F89D5DD5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479-595D-466A-BDDD-D16F511A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71A-9631-4FB0-B548-2E2C2C0E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D62-61DA-4B76-A6B2-770956AB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233-E276-46C3-8A77-671FAAC7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EE7-6EC6-484F-8EE6-8929EB5E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19D7-647F-406A-9CE1-070383BFFE93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D556-51AF-4520-B458-1A81EF5E4CDA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C4D3-B5CC-49DB-AE4B-FFEF2632FFC4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F96E-0E15-4361-BB18-98785BE97E9C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정당화하고 최고 경영진의 지원을 얻는 방법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EE4-89AC-4923-BC00-E4D807DBAA6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8F8BE-C329-4653-8B16-5F1F95A25C9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능력 발전의 단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상태 보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심 설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보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 관계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에 의한 동적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B93-3F2E-4941-898F-E02B32DEC9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1AB69-D888-4285-8DA1-78C811ADCC5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웨어하우스에 무엇을 어떤 순서로 넣을지 어떻게 판단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데이터는 똑같이 가치있는 것이 아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가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정의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모델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분석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432-19E6-4326-B5EA-AEB6E7FEAF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B8F23-ECF5-4CF6-ADC0-356A79B42DE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과 자원 면에서 당신의 조직체 내에서 데이터 웨어하우스의 그림자는 얼마나 큰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자 데이터 웨어하우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매번 처음부터 시작하지 않아도 될 수 있도록 분석 조각들을 모으고 반복할 수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309-528A-4F0D-B6EF-1B8986B548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E53ED-53C0-4ABF-ACD3-565FEFB37D5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0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회의를 통제하게 만들 준비가 되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방침을 취하고 당신의 각본을 벗어날 각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상회의에서 발표하는 당신을 비디오 촬영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E8F-5F01-4E91-953F-CA1C35F200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D4B62-F175-479B-A2A4-2155573E8DF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언제 수석 경영진을 납득시키기를 끝낼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이 회사 경영 과정에서 확고히 뿌리를 내린 때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CAF-25F3-4C1E-83B3-0BDA803C14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A84D2-D26A-4314-9699-D88E0612E98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2: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들이 데이터 웨어하우스를 이용하면서 시간을 얼마나 낭비할 것인지에 대해 중역들이 걱정하는 것은 얼마나 타당성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몇 가지 역사적인 증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관계들이 변경시켰을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정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필요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지능형 에이전트 소프트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에 관한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6F7-D252-4E94-BA3A-A4BE46479D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F8EEA-2A71-411E-9DDD-9287BBBA0F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가 단 한 그룹의 필요성에 의해 윤색되지 않도록 폭넓은 충분한 지원 기반을 갖추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근본적으로 많은 기업 노력들을 지원할 잠재력을 가진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174-5BD6-4793-B6B2-1B5AEAEA29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0CA3B-CC7F-4659-9CE1-3706A79F5AD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의사결정에 개입된 중역들의 개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능력 그리고 스타일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어떻게 지식을 습득하고 다른 사람과 어떻게 상호작용을 하는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무엇이 그들을 지루하게 하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엇이 그들을 흥미롭게 하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들의 기분을 상하게 할 것인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만일 대답이 ‘아니오’라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사항들을 고려하는 것이 좋을 것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 일곱 가지의 중요하고도 뚜렷이 구분되는 지능의 종류 – 부분적으로 탁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73C-6168-4088-A109-7E8F8A5100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1E1B0-50C5-4F19-9197-29E495C5CA4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성의 특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석 경영진에게 프리젠테이션을 실시하기전에 제시해야 될 두 가지 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외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내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직관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체계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가지 스타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EAB-62C4-4FA7-8566-FE2F47EB7C3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F5EB0-E532-45C8-88F4-A57BF5DFBD5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의 구성요소는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5-9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목표와의 연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반 설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종류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1DB-0ADB-48C5-900E-EBA2BED0846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702AD-C161-47B3-B731-38CE4525329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5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모든 것이 준비에 달려 있다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의 전에 지금 스스로 질문을 던지고 해답을 전개할 기회를 갖는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동안 데이터 웨어하우스에 관하여 일해온 많은 사람들의 경험을 반영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D3F-296E-4BB7-8896-D30E158EBB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0E9F5-B407-4934-BC85-BAFE822CDEA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단 그들이 필요성에 대해 의견 일치를 보일 경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고 경영진은 당신이 그것을 해낼 수 있다는 것을 어떻게 알 수 있을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대 시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출을 눈에 보이는 대로 수입 이내로 억제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 있는 제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공식 데이터의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성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13C-70A0-48A9-95B5-37E97877B1F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0FFFF-89E5-48DC-8B5A-AA70BECA2B1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하나의 조직체로서 어떻게 사람들로 하여금 이러한 설비를 새롭고 혁신적으로 사용하도록 교육하고 부추길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사람들이 그것을 이용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공적인 데이터 웨어하우스는 지속적인 사용자 개입과 학습을 지원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EF7-40EE-49D8-A3BB-FA874797C0B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78232-BDD8-43A9-989C-A14F2A472D7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슨 무엇이 될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반에는 어떻게 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공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작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성취하기 위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잠재력 이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파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업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지지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과 전달이라는 두 가지 근본적인 업무 활동을 조화시키는 경영시스템을 지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093-7726-48C5-B9E3-0AD7AB7583E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85D8E-B344-4D27-94D2-0BFAF11116E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의 데이터 웨어하우스 노력은 경영진에 의해 “단순히 또다른 형태의 정보 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“그들의 기업 전략 중 하나 이상의 부분을 성공적으로 시행할 때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잠재력의 이해와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에 근거한 의사 결정으로 전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 및 고객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재정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83A-A0E6-4400-95C1-2D66D4CFEC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8735A-8431-41E6-BCD2-4CD9B324A04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어떤 기업 추진 계획들을 지원할 수 있는지 어떻게 찾아낼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계획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 작성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역 보좌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재정비 계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문위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1D2-8DFD-4516-8E59-43F9B66658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9790F-C79A-4C3B-AE9F-27588AB2213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왜 데이터 웨어하우스와 동일한 문장에서 “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전략적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이라는 단어를 쓸 때 주의를 기울어야 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이나 수입 증대에 연결시킬 방법을 찾을 수 없으면서 투자를 요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oo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체적이고 이미 합의된 전략적 목적을 달성하는 데 필요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또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F85-D1C0-49D0-9AF0-FCABB2574A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1C5DD-52E5-40EE-AB2C-E6F941D0615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경영진은 당신의 프리젠테이션이 있기 전에 데이터 웨어하우스에 관하여 무엇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착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ea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는 조심해야 할 </a:t>
            </a:r>
            <a:r>
              <a:rPr b="0" lang="ko-KR" sz="2400" spc="-1" strike="noStrike">
                <a:solidFill>
                  <a:srgbClr val="3333cc"/>
                </a:solidFill>
                <a:latin typeface="Tahoma"/>
                <a:ea typeface="굴림"/>
              </a:rPr>
              <a:t>순환 주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란 무엇인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가지고 있으니 우리도 하나 갖추어야 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우리에게도 예전에 그런 것이 하나 있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런데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것이 효과는 없고 시간과 돈만 낭비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진은 아이디어의 순환 주기 중 어디에 위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566-944D-4420-BF48-9D5CD2AAD9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04E5E-09E4-4A8C-8ADD-A91CE70F9C0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왜 납득시키기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자원들이 수직적 연통이 될 경향이 있는 세계에서 펼쳐지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수평적 게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힘과 능력을 부여하는 실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업무 문제점들에 영향을 주도록 도입될 수 있는 내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및 분석학의 여러 능력으로 구성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160-A092-4376-A86F-A785480F08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3ADF7-2720-478F-8F22-4AF69D06B1D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른 사람들은 어떤 종류의 정당화를 이용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노력에 드는 비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보고서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그것을 하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업무에 관한 공통적인 시각과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간단한 도매 금융업 수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손실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7C1B-5F08-4ABE-BA97-BA630FF67E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5654A-5517-4285-9D34-65AE1A96E30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를 무엇이라고 설명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반 설비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그밖의 다른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을 여러 가지 기업 노력들을 지원하는 기반 설비로 생각하는 것이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유익할 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2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일관성 있는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모델을 제공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D17-ED08-4F1E-B901-A112971C5A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3FEBA-2134-432A-8F97-282FA0EFA79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10T05:36:11Z</dcterms:modified>
  <cp:revision>219</cp:revision>
  <dc:subject/>
  <dc:title>No Slide Title</dc:title>
</cp:coreProperties>
</file>