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72A-78F2-4337-B9F7-98440862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D05-6A96-4E74-B390-FC6DE21A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39B-0167-4A30-8A7A-F20282A3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070-19CA-4AB2-842A-C885A1F6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F3E0-68BB-4671-BB1C-D742A44E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BE9D-1042-4964-BB2F-A628C751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58A7-B4B1-4819-B922-704CEFCA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7966-0F33-41AD-9623-B8FE25EB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13DF-7318-4DF0-8FCC-6B7C0C34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23F1-0B38-40F7-9602-95C171BC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1C04-888A-460D-B4B3-EA0B6305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62A-DFCB-4C1C-BFD2-41A6519A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E22A-E1C2-4604-9FC8-D9B379A5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4CAC-A16E-4BD5-8334-2485BB44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DEF6-2F16-44D9-B504-760D74CA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3EFF-640F-4CF4-92B7-D81C7A54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70FB-FE52-494A-8533-5AAF79E2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6FE1-D0E5-4D71-9EA8-0457DC83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F1E6-F51D-460E-B70F-84ABAB95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40E-2C19-4231-B548-D3F8DBF3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CE4-8078-46A1-B270-353584F5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3D4D-8F60-4E97-A6AE-E836BAE6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6C2-4080-416A-928F-79A2C0D6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DD5-2BCE-41A3-B66C-7DDDED5E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15238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7C88-884E-490D-B24B-186C45A7ADAF}" type="datetime3"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286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38CD-27CF-4373-B5B8-04585296A3FF}" type="slidenum">
              <a:rPr b="0" lang="ko-KR" sz="1400" spc="-1" strike="noStrike">
                <a:solidFill>
                  <a:srgbClr val="ffffff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BB5A-73A0-492F-AA57-2D15EAC51806}" type="datetime3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2072-AE3F-4EE8-9959-56AF7B700B13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92320" y="655308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4A20-2D1F-4568-9D01-B7AFA5F1A2CB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Data Mining: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Concepts and Techniqu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— Slides for Textbook —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 — Chapter 1 —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©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Jiawei Han and Micheline Ka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lligent Database Systems Research La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hool of Computing Scie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imon Fraser University, Can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732-3440-4671-BF65-FA544DAD87B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11D6F-7AD3-4CAA-86E5-BBA87F75657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ere are the data sources for analysi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dit card transactions, loyalty cards, discount coupons, customer complaint calls, plus (public) lifestyle stud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 clusters of “model” customers who share the same characteristics: interest, income level, spending habit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termine customer purchasing patterns over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version of single to a joint bank account: marriag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ross-market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s/co-relations between product s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 based on the association inform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959-6A9E-4D5E-AA7F-BE101BDDEB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2C4A0-C728-4516-82D9-BEDED5A88E2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ustomer profi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can tell you what types of customers buy what products (clustering or classific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dentifying custom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dentifying the best products for different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prediction to find what factors will attract new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ovides summary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various multidimensional summary repo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tatistical summary information (data central tendency and vari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A42-692A-46E1-B5DE-7D1CB7E05F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4F903-07C9-419C-BA42-A1B0378A10F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orporate Analysis and Risk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Finance planning and asset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sh flow analysis and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tingent claim analysis to evaluate asse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oss-sectional and time series analysis (financial-ratio, trend analysis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ource plann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ummarize and compare the resources and spen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mpeti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onitor competitors and market direc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roup customers into classes and a class-based pricing proced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t pricing strategy in a highly competitive mar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0F8-25C2-49E2-9BE6-78D531F0F9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BE963-6406-4D13-9830-2B747CFA04B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widely used in health care, retail, credit card services, telecommunications (phone card fraud)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roa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historical data to build models of fraudulent behavior and use data mining to help identify similar insta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uto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a group of people who stage accidents to collect on insur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ney launder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suspicious money transactions (US Treasury's Financial Crimes Enforcement Network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edical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professional patients and ring of doctors and ring of refer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AA82-04D2-42C0-9D85-980C72B21E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EA193-F426-4CDE-B316-7E92F6F0F8F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inappropriate medical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stralian Health Insurance Commission identifies that in many cases blanket screening tests were requested  (save Australian $1m/yr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telephone frau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elephone call model: destination of the call, duration, time of day or week.  Analyze patterns that deviate from an expected nor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British Telecom identified discrete groups of callers with frequent intra-group calls, especially mobile phones, and broke a multimillion dollar frau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t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nalysts estimate that 38% of retail shrink is due to dishonest employe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C9AE-754B-43AF-871C-1FFC4409FA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B07FC-CC70-4489-82C2-0DB294AD2D0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Advanced Scout analyzed NBA game statistics (shots blocked, assists, and fouls) to gain competitive advantage for New York Knicks and Miami He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strono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JPL and the Palomar Observatory discovered 22 quasars with the help of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net Web Surf-A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Surf-Aid applies data mining algorithms to Web access logs for market-related pages to discover customer preference and behavior pages, analyzing effectiveness of Web marketing, improving Web site organization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E243-4B61-4351-B725-18F090E5CD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4FB0C-1EE6-46FC-8B5E-4A15F150942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KDD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the core of knowledge discovery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51051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781680" y="15998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05520" y="2666880"/>
            <a:ext cx="99036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276720" y="37335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556272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563868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0199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63244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57150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7913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60958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2760" y="4876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6240" y="54100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62485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114800"/>
            <a:ext cx="19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4572000"/>
            <a:ext cx="685800" cy="6858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3429000"/>
            <a:ext cx="457200" cy="4572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1981080"/>
            <a:ext cx="75960" cy="609840"/>
          </a:xfrm>
          <a:prstGeom prst="rect">
            <a:avLst/>
          </a:prstGeom>
          <a:solidFill>
            <a:srgbClr val="ff5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2209680"/>
            <a:ext cx="76320" cy="38124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133720"/>
            <a:ext cx="76320" cy="45720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2362320"/>
            <a:ext cx="76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590920"/>
            <a:ext cx="685800" cy="7596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362320"/>
            <a:ext cx="152280" cy="228600"/>
          </a:xfrm>
          <a:prstGeom prst="rect">
            <a:avLst/>
          </a:prstGeom>
          <a:solidFill>
            <a:srgbClr val="ff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086600" y="990720"/>
            <a:ext cx="17431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nowledg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2511000" y="3276720"/>
            <a:ext cx="22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Task-relevant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40528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Se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5280" y="259092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  <a:ea typeface="굴림"/>
              </a:rPr>
              <a:t>Data M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4560" y="167652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attern 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124080"/>
            <a:ext cx="0" cy="2133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2057400"/>
            <a:ext cx="0" cy="320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962160" y="525780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962520" y="4343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5257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86000" y="60958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1905120" y="5409720"/>
            <a:ext cx="380880" cy="685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5410080"/>
            <a:ext cx="16002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657600" y="4191120"/>
            <a:ext cx="0" cy="12189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6B3-62C1-4A7C-B612-5B6EAACA66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09172-D337-4EFB-ADCD-D9ADDB64D1D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teps of a KDD Proces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Learning the application domai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levant prior knowledge and goals of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ating a target data set: data sel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clea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and preprocessing: (may take 60% of effort!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reduction and transform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ind useful features, dimensionality/variable reduction, invariant represent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functions of data min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mmarization, classification, regression, association, cluster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the mining algorithm(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mi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search for patterns of inter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Pattern evaluation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visualization, transformation, removing redundant pattern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1AE-7585-4C45-B064-08B2272554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1C4FF-E08C-4303-B8CE-D2B9C617245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Business Intelligenc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5029200"/>
          </a:xfrm>
          <a:prstGeom prst="flowChartExtra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58672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5257800"/>
            <a:ext cx="5638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49568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7339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954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3352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83908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7960" y="1509840"/>
            <a:ext cx="191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Increasing poten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to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 deci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50440" y="19558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End 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54400" y="2946240"/>
            <a:ext cx="94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3320" y="3784680"/>
            <a:ext cx="8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03600" y="5689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3960" y="2057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Ma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eci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8680" y="29988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7440" y="335268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Visualization Techni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1440" y="377208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M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2360" y="40384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Information Discov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4572000"/>
            <a:ext cx="1889280" cy="36828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Expl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7280" y="556272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OLAP, M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1240" y="48006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Statistical Analysis, Querying and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480" y="525780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Warehouses / Data Ma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1680" y="5867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600" y="6095880"/>
            <a:ext cx="60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Paper, Files, Information Providers, Database Systems, OL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64771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99CE-5D23-4BD3-A59D-3AF8FBA5AD4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17310-EB4F-4C14-9243-CC7364C2B4E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rchitecture of a Typical Data Mining Syst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617220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548640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5334120"/>
            <a:ext cx="1295640" cy="30456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55627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38098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5029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 &amp; 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4952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579132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4343400"/>
            <a:ext cx="350496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4343400"/>
            <a:ext cx="2667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or data warehous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3505320"/>
            <a:ext cx="350532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666880"/>
            <a:ext cx="350496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1752480"/>
            <a:ext cx="365760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raphical use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2971800"/>
            <a:ext cx="106704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3200400"/>
            <a:ext cx="99072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3124080"/>
            <a:ext cx="914400" cy="838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29718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8098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nowledge-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812-80A2-4C38-8F88-2607E05CB0B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B1FDF-FAE7-4377-B974-714F3163454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cknowledge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is work on this set of slides started with my (Han’s) tutorial for UCLA Extension course in February 199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r.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Hongjun L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from Hong Kong Univ. of Science and Technology taught jointly with me a Data Mining Summer Course in Shanghai, China in July 1998.  He has contributed many excellent slides to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ome graduate students have contributed many new slides in the following years.  Notable contributors include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Eugene Belchev, Jian Pe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, and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Osmar R. Zaia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now teaching in Univ. of Albert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8154-8292-485B-97FB-E0A7234EC2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449DC-8C8D-4144-A61D-0D322889BC0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la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wareho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ansac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dvanced DB and information reposi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-oriented and object-relation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pati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ime-series data and temporal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xt databases and multimedia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Heterogeneous and legacy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D83-F125-40CD-86CD-0D861C5D1CC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A09F0-DF9E-4504-BA7B-FF8F95B7DA6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120" y="685440"/>
            <a:ext cx="649620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oncept description: Characterization and discri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eneralize, summarize, and contrast data characteristics, e.g., dry vs. wet reg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ssoci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correlation and causal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ulti-dimensional vs. single-dimensional associ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ge(X, “20..29”) ^ income(X, “20..29K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buys(X, “PC”) [support = 2%, confidence = 60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ntains(T, “computer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contains(x, “software”) [1%, 75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732-2B32-42F0-AC06-1CF287102E7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529ED-4A35-4A4A-BDA4-56DB2A3787A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assification and Predic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ing models (functions) that describe and distinguish classes or concepts for future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.g., classify countries based on climate, or classify cars based on gas mile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sentation: decision-tree, classification rule, neural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: Predict some unknown or missing numerical valu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ust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 label is unknown: Group data to form new classes, e.g., cluster houses to find distribution patter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ustering based on the principle: maximizing the intra-class similarity and minimizing the interclass simila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65D9-CA72-4804-B84C-4266B18A415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AD0E9-20EC-4559-9B23-6CBE8634F05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3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utli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Outlier: a data object that does not comply with the general behavior of the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t can be considered as noise or exception but is quite useful in fraud detection, rare events analy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end and evolution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rend and deviation:  regression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quential pattern mining, periodicity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imilarity-based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ther pattern-directed or statistical analy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2A3-AAA2-4962-8371-4467E5B2DB7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6B888-17CC-4451-ADD6-587BB78D737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re All the “Discovered” Patterns Interest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data mining system/query may generate thousands of patterns, not all of them are interes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ggested approach: Human-centered, query-based, focused mi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nterestingness measur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A pattern is </a:t>
            </a:r>
            <a:r>
              <a:rPr b="0" lang="en-US" sz="2000" spc="-1" strike="noStrike">
                <a:solidFill>
                  <a:srgbClr val="ff5050"/>
                </a:solidFill>
                <a:latin typeface="Tahoma"/>
                <a:ea typeface="굴림"/>
              </a:rPr>
              <a:t>interes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if it i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easily understoo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by humans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alid on new or test dat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with some degree of certainty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otentially usefu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novel, or validates some hypothesi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at a user seeks to confir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 vs. subjective interestingness measur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statistics and structures of patterns, e.g., support, confid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u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user’s belief in the data, e.g., unexpectedness, novelty, actionability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EDB-0A0F-461E-922B-EE1B04633A7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37F02-8A4E-4A48-877A-0225E944F73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an We Find All and Only Interesting Pattern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Find all the interesting patterns: Complet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 vs. classification vs. clust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earch for only interesting patterns: Optim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nl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roach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rst general all the patterns and then filter out the uninteresting o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enerate only the interesting patterns—mining query optimiz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48D-4039-47B9-AD83-A969F7171BE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54890-4C6E-4CE6-9920-EC4FE4BD62A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4678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onfluence of Multiple Disciplin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3429000"/>
            <a:ext cx="2209680" cy="914400"/>
          </a:xfrm>
          <a:prstGeom prst="rect">
            <a:avLst/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9051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1905120"/>
            <a:ext cx="198108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5257800"/>
            <a:ext cx="198144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iscip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5181480"/>
            <a:ext cx="198108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Visu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6232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2666880"/>
            <a:ext cx="129564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76560" y="2666880"/>
            <a:ext cx="114300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71464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5028840" y="4419720"/>
            <a:ext cx="152388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438280" y="4419720"/>
            <a:ext cx="16002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30A-6877-49EE-829B-70A8D7F9D7D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C9C8E-86E5-42FE-A93C-66D34B2ED34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lassification Sche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General function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scriptive data mi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edictive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ifferent views, different classif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databases to be mi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knowledge to be discove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techniques util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applications adap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A0D-B1B9-46B7-B8CF-3DBE476602B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5FAAD-9FB2-4AD9-8070-FB627EA17FA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Multi-Dimensional View of Data Mining Classifi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s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, transactional, object-oriented, object-relational, active, spatial, time-series, text, multi-media, heterogeneous, legacy, WWW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Knowledge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ation, discrimination, association, classification, clustering, trend, deviation and outlier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ultiple/integrated functions and mining at multiple leve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chniques utiliz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-oriented, data warehouse (OLAP), machine learning, statistics, visualization, neural network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pplications adap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tail, telecommunication, banking, fraud analysis, DNA mining, stock market analysis, Web mining, Weblog analys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4C3E-5609-442F-87C3-9CD11BF9165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347F6-6FF2-41C0-A8DA-4FEB0182667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LAP Mining: An Integration of Data Mining and Data Warehou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systems, DBMS, Data warehouse systems coup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o coupling, loose-coupling, semi-tight-coupling, tight-coupl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mining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ining and OLAP technolog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multi-level know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ecessity of mining knowledge and patterns at different levels of abstraction by drilling/rolling, pivoting, slicing/dicing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ultiple mining fun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ed classification, first clustering and then associ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374-98D8-4658-AF0D-9B34C84F18E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E0760-7B51-4C9D-9313-2AC35808276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16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459-00.3 Course Schedu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. Introduction {W1:L2, 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2. Data warehousing and OLAP technology for data mining {W2:L1-3, W3:L1-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 1 distribution (SQLServer7.0+ DBMiner2.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3. Data preprocessing {W3:L3, W4: L1-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4. Data mining primitives, languages and system architectures  {W4: L3, W5: L1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1 due, homework #2 distribu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5. Concept description: Characterization and comparison  {W5: L2, L3, W6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6:L1 Thanksgiving Da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6. Mining association rules in large databases  {W6: L3, W7: L1-3, W8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{W8: L2}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7. Classification and prediction {W8:L3, W9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8. Clustering analysis  {W10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0: L3 Homework #2 du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9. Mining complex types of data {W11: L2-L3, W12: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1:L1 Remembrance Day, W12:L3 Course project du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0. Data mining applications and trends in data mining {W13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Final Exam (W14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15A-64E3-4056-8C2D-113EAA1A3C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08085-33DE-4A05-A65A-6EDFC833DCB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n OLAM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4495680"/>
            <a:ext cx="685800" cy="22860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15000" y="41148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41911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886200"/>
            <a:ext cx="11430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647712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579132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5638680"/>
            <a:ext cx="1295640" cy="30492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5867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648320"/>
            <a:ext cx="13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Meta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MD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724280" y="4343040"/>
            <a:ext cx="83844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16765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35053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2362320" y="3657600"/>
            <a:ext cx="9144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133360" y="3809880"/>
            <a:ext cx="106668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876920" y="3657600"/>
            <a:ext cx="60948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952880" y="36572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243828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74320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38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096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1676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User GUI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6680" y="312408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Cub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5181480"/>
            <a:ext cx="5715000" cy="7632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438280" y="464796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4495320" y="4800600"/>
            <a:ext cx="685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2640" y="518148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5480" y="6248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61722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1480" y="586728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6248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35812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51814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167652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20574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OLAP/OL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38862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MD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38880" y="5562720"/>
            <a:ext cx="1905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Reposi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8880" y="83808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User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7692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477120" y="11426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5257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&amp;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6095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523880" y="12952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100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res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095880" y="3657600"/>
            <a:ext cx="228600" cy="457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34F-A30A-45D3-810E-C8ABF7A4D96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F31AF-A4A7-4232-BA8A-1F2ECFDBE72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ining methodology and user inte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different kinds of knowledge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o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at multiple levels of abstr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corporation of backgroun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query languages and ad-hoc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ression and visualization of data mining resul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noise and incomplete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: the interestingness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erformance and scal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fficiency and scalability of data mining algorith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rallel, distributed and incremental mining metho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E7D-3BF2-413D-BC0F-A2C2126D588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DBA56-459E-4084-BF97-0EC67E51D5D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ing to the diversity of data ty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relational and complex type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information from heterogeneous databases and global information systems (WWW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ed to applications and social imp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lication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omain-specific data mining too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cess control and decision ma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the discovered knowledge with existing knowledge: A knowledge fusion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tection of data security, integrity, and priv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E8A-F06F-49D3-B67E-D4A8E9B748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751F3-1D98-47F4-A44D-90E1E6E1D3E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discovering interesting patterns from large amount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natural evolution of database technology, in great demand, with wide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KDD process includes data cleaning, data integration, data selection, transformation, data mining, pattern evaluation,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can be performed in a variety of information reposit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: characterization, discrimination, association, classification, clustering, outlier and trend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D3B-5BCF-4717-91F0-1C5FF3E35E2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3AEF2-3080-4B03-AFA8-AE7D7C88C66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Brief History of Data Mining Socie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89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JCAI Workshop on Knowledge Discovery in Databases (Piatetsky-Shapir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 in Databases (G. Piatetsky-Shapiro and W. Frawley, 1991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1-1994 Workshops on Knowledge Discovery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Advances in Knowledge Discovery and Data Mining (U. Fayyad, G. Piatetsky-Shapiro, P. Smyth, and R. Uthurusamy, 199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5-1998 International Conferences on Knowledge Discovery in Databases and Data Mining (KDD’95-9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ournal of Data Mining and Knowledge Discovery (199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8 ACM SIGKDD, SIGKDD’1999-2001 conferences, and SIGKDD Explo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re conferences o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PAKDD, PKDD, SIAM-Data Mining, (IEEE) ICDM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9990-7867-4AD9-9EC9-5DD2D3022AC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88603-E61A-4D10-8BE2-B8D9766A4DE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Referenc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mining and KDD (SIGKDD member CD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KDD, and others, such as PKDD, PAKDD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: Data Mining and Knowledge Discove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 field (SIGMOD member CD 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ACM-SIGMOD, ACM-PODS, VLDB, ICDE, EDBT, DASFA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CM-TODS, J. ACM, IEEE-TKDE, JI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I and Machine Learn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Machine learning, AAAI, IJCA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Machine Learning, Artificial Intellig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tatistic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Joint Stat. Meeting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nnals of statist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isualiza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CH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IEEE Trans. visualization and computer graph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24F7-E782-44B7-8316-7A95280A54B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802D0-F889-44E5-8B32-62B04570764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99760" y="609480"/>
            <a:ext cx="7155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U. M. Fayyad, G. Piatetsky-Shapiro, P. Smyth, and R. Uthurusamy. Advances in Knowledge Discovery and Data Mining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. Han and M. Kamber. Data Mining: Concepts and Techniques. Morgan Kaufmann, 2000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T. Imielinski and H. Mannila. A database perspective on knowledge discovery. Communications of ACM, 39:58-64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, U. Fayyad, and P. Smith. From data mining to knowledge discovery: An overview. In U.M. Fayyad, et al. (eds.), Advances in Knowledge Discovery and Data Mining, 1-35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 and W. J. Frawley. Knowledge Discovery in Databases. AAAI/MIT Press, 1991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706-BFD6-4A7B-960F-95B525DA5B0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70989-F0F0-4771-B2C5-8E17A2CCBDC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31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54097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"/>
                <a:ea typeface="굴림"/>
              </a:rPr>
              <a:t>Thank you !!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590920" y="1219320"/>
          <a:ext cx="418932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219320"/>
                    <a:ext cx="41893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73C-F788-4A4B-B2C5-0C4420369D7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1F5B3-1F7E-4A72-ACB6-BABAD83BF8F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843 Course Arran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st week: full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2nd to 11th week: 1/2 graduate student + 1/2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2-13th week: full student graduate project present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Course evalua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esentation (quality of presentation slides 7% + presentation 8%) 1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exam 3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(presentation 5% + report 25%)  total 3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 (2): 2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Deadline for the selection of your work in the semester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course presentation: at the end of the 1st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the course project: at the end of the 3rd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proposal due date: at the end of the 4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due dates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due date: end of the semes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Your presentation slides due date: one day before the present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date: end of the 8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341E-3F15-43C9-976F-5A17ABAE6DC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23BE2-B6D4-432D-8769-5CC8DBC4D6C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the Set of Slid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utorial sections (MS PowerPoint file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/dmb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 conference presentation slides (.ppt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earch papers, DBMiner system, and other related informatio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AA9-80FD-4F3C-8136-8402A83464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92E04-2AC4-4D66-BD86-2BE904D2FB5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Chapter 1.  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otivation: Why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re all the patterns interest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DE7-1D1F-449F-9F18-CDD5AF9BA5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05FC2-4027-4C43-805C-644A0B1053B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otivation:  “Necessity is the Mother of Invention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explosion proble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tomated data collection tools and mature database technology lead to tremendous amounts of data stored in databases, data warehouses and other information repositories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e are drowning in data, but starving for knowledge!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olution: Data warehousing and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Data warehousing an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proce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knowledge (rules, regularities,  patterns, constraints) from data in 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447-3BC5-4AA5-941F-44082B74E6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CB147-DB6A-4906-86DE-F7443B5C9B9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Evolution of Database Technology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(See Fig. 1.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196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collection, database creation, IMS and network DB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7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 data model, relational DBMS imple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8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DBMS, advanced data models (extended-relational, OO, deductive, etc.) and application-oriented DBMS (spatial, scientific, engineering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90s—200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data warehousing, multimedia databases, and Web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4F0-82A8-4C00-954E-6B14AEE637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9EACE-B155-4435-81B6-D556F150A2D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8640" y="699840"/>
            <a:ext cx="750708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(knowledge discovery in databases):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(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non-trivial,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implici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reviously unknow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otentially useful)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formation or patterns from data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lternative names and their “inside stories”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misnome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(mining) in databases (KDD), knowledge extraction, data/pattern analysis, data archeology, data dredging, information harvesting, business intelligenc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not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(Deductive) query processing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ert systems or small ML/statistical progra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087560" cy="1174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38880" y="4932360"/>
            <a:ext cx="190512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0A0-8D02-4A0C-8A56-9CCB89B3A3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EB27A-E2FF-4E87-BCCD-A28B75ADBE5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y Data Mining? — Potential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 analysis and decision supp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, customer relation management,  market basket analysis, cross selling, market seg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isk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orecasting, customer retention, improved underwriting, quality control, competitive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Text mining (news group, email, documents) and Web analy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E92-B90D-4D9C-B6A6-A272410AC6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9F5E8-3464-4F64-B515-C9232229DE4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1T22:01:55Z</dcterms:created>
  <dc:creator>Jiawei Han</dc:creator>
  <dc:description/>
  <dc:language>en-US</dc:language>
  <cp:lastModifiedBy>Jong Soo Park</cp:lastModifiedBy>
  <cp:lastPrinted>2000-06-01T21:00:25Z</cp:lastPrinted>
  <dcterms:modified xsi:type="dcterms:W3CDTF">2002-05-14T02:30:51Z</dcterms:modified>
  <cp:revision>167</cp:revision>
  <dc:subject/>
  <dc:title>Mining Frequent Patterns Without Candidate Generation</dc:title>
</cp:coreProperties>
</file>