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34D0-DE8A-481E-A592-2F3C920A0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6EA0-52BB-41E8-8B38-B57FB260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C747-42A5-49FC-908A-BB909743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6217-A417-4D41-A615-95EEF2E6F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39FE-DEEF-45CD-8342-7183DF9BD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28DA-C9A4-42F7-8E5A-DA42163C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5CC4-FA76-4F2A-B195-66D23061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5BC7-6A21-4BB1-A2B5-0418FCCD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B799-B670-45BC-A688-EAF5D3F9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3A2F-2E39-4BE8-979B-ACBBD480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A8C5-0D6B-47B3-8961-B52B087D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98CA-164A-4393-826A-96041F41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A06D-B5AE-45CE-9527-A43B9545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E40C-4047-4613-93BE-86A5C146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5958-6571-4E67-9649-AEEAA44E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8FD2-D004-4545-99EA-BA7813B4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D030-6DDC-4F58-935A-268BBB55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65C4-36B1-4FE9-B67E-70996598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ACB4-1718-462B-B355-E88CC9B4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4642-0756-4ABF-9B6F-41CC9977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7838-93C5-49CC-9108-F8122D24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4E5E-A267-46E0-BB56-5D91AD54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6779-06F5-49BF-AC3A-7798920D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3BFA-205C-4EFB-8C38-49E472D8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EAAD-BC8D-4CB7-BFC5-99250B8F1D6C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6616-B9C9-4DE6-8E49-842C0BC20772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11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구축 방법론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4193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박 종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신여자대학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컴퓨터정보학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837D-943C-4097-9562-A9F399DA354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단계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-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정의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시스템의 목적 선언문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ission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B4F8-1BDE-47D6-BA38-A601472A95C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11 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장 구축 방법론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프로젝트 추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프로젝트 추진의 주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선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방법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다른 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Project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과 시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구축 방법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97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설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천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발견과 발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모든 단계에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문서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9977-9A9F-45C0-A033-84DD535B1AC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축 원칙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안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업이 사용하는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현업의 요구 사항이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100%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반영되어야 한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양이 많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강력한 하드웨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섬세한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설계 및 튜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신속한 추출과 로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시스템을 구축해본 경험으로 하면 실패하기 쉽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499B-C439-4F4F-AD0B-9E62B1311A3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프로젝트 추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제트 추진 주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업에서 주도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제일 바람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현업에서 원하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구축 가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컴퓨터 비전문가로 인한 신기술 도입에 어려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산실에서 주도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대개의 경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파일럿 시스템 구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외국 컨설팅 업체에서 맡길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국내 기술로도 가능하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4CC5-9625-4CD3-9AA1-01A76BE08BB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업무 선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Project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안시 가장 고민하는 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제 영역 선정 작업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민감한 부분을 해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국내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제 영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port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만들기 힘든 부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경영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장표 분석 결과가 운영계 시스템과 일치하지 않는 부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을 배치 작업으로 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의 정보 가동 방식으로는 전혀 분석할 수 없는 부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C935-DDD9-46D7-9EB7-9989E217D42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구축방법이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OLT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다른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사용자 수를 기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데이터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보다 약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ardwar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량 산정에 오류 가능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실제 데이터로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병목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네트워크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서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병목 현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 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현업이 프로젝트의 처음에서 끝까지 참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주인은 현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스템의 주인은 전산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D5CE-C7D4-45DD-8BEF-85ED09DF817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 Projec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시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드웨어 발주와 도착 시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에서 설치까지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월 가량 걸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원시 데이터를 정의하고 초기의 원시 데이터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 내리는 시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생각보다 시간이 많이 걸린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와 기존의 운영계 시스템에서 데이터를 맞추는 시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안 맞을 것이다’라는 자세에서 출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업무를 협의하는 시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많으면 곤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7481-7136-4977-8356-1F681188143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축 방법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모든 단계를 체계적으로 정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밀 지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회사마다 구축 방법론이 다르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projec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시스템 개발과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다른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cycl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을 갖는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18D9-9054-46A0-95EC-90E069A5529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19320" y="762120"/>
            <a:ext cx="5638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685800"/>
            <a:ext cx="779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Oracle 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구축 방법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447920" y="1600200"/>
            <a:ext cx="5333760" cy="5016240"/>
            <a:chOff x="1447920" y="1600200"/>
            <a:chExt cx="5333760" cy="5016240"/>
          </a:xfrm>
        </p:grpSpPr>
        <p:sp>
          <p:nvSpPr>
            <p:cNvPr id="117" name=""/>
            <p:cNvSpPr/>
            <p:nvPr/>
          </p:nvSpPr>
          <p:spPr>
            <a:xfrm>
              <a:off x="1447920" y="1600200"/>
              <a:ext cx="52578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정  의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47920" y="2516040"/>
              <a:ext cx="3124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분  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47920" y="3432240"/>
              <a:ext cx="3124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0000"/>
                  </a:solidFill>
                  <a:latin typeface="Tahoma"/>
                  <a:ea typeface="굴림"/>
                </a:rPr>
                <a:t>설  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47920" y="4348080"/>
              <a:ext cx="3124080" cy="47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0000"/>
                  </a:solidFill>
                  <a:latin typeface="Tahoma"/>
                  <a:ea typeface="굴림"/>
                </a:rPr>
                <a:t>구  축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47920" y="5221440"/>
              <a:ext cx="3124080" cy="47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천  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47920" y="6095880"/>
              <a:ext cx="533376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발견과 발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0000">
              <a:off x="4489560" y="3892680"/>
              <a:ext cx="3124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문 서 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1992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19920" y="5715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71800" y="2133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71800" y="3048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71800" y="3962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71800" y="4800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1800" y="5715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0" y="2819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37339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0" y="4572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54864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5DF0-5B8A-4939-B43A-C9F2AEE6C6C6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6-03T06:11:41Z</dcterms:modified>
  <cp:revision>288</cp:revision>
  <dc:subject/>
  <dc:title>제6장 데이터 웨어하우스의 관리</dc:title>
</cp:coreProperties>
</file>