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320-A485-4694-AC32-4AA28588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3D1-405B-40C2-8652-C3283369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E292-24AA-4C88-8324-18E82247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009-C425-4C19-9BBA-E3F0F114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98D2-9AEE-4396-84AB-8940C652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8D6C-C7FE-4ACD-A4C9-377AFDD6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7DB0-DBFD-4B2C-B4C3-5B9E15FD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DF65-82F4-40A9-8891-873514BD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31E0-40D6-4CE8-B3A7-280C06AB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7DF9-1560-4FE1-8EF5-0AEE1C5E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C0DF-67D4-471A-A197-695B3446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13D-1B03-4680-9A8A-F904511D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CF2B-45FA-44E1-BE9F-1D52DCA4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AA3E-20F6-4663-ADD3-678B946F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1E4D-4287-4832-87C8-818C2F1C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8EDF-22D8-4C57-BD74-9782347D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B4A1-AD67-4140-8E76-38D7AB46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B6D-2C50-4367-9EAB-B4456A09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7B1-9BDB-4CD4-9CF2-8631755A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307-8CFA-45B4-824E-51503DD1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F00-79BE-4262-BCDC-A1D4030E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FCC-573C-4FA7-B2F3-F2064B2B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47A-09B8-4656-B5C4-FEF02A0B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37F-42DC-4C18-B60D-E2DFFD5B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EA28-0F94-45A2-B247-FAA7B884705D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572F-3D0E-4BC3-BD06-1341544CAAB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E9C1-3B14-402E-86C5-DC9DBADE7F1E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BD9E-881E-44F3-800D-D0D2C6597A5E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위한 데이터베이스 설계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기본요건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C1A-7C67-41F4-8F72-7284289197F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8987A-79FD-446C-B4E7-9582499A5E8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신뢰할 수 있는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있는 해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번째 중요한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일괄 형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atch format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으로 적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클린징 또는 변환 과정이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결성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형 스키마에 함축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 키 외부 키 참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imary key foreign key 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결합 경로의 명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744D-3E90-445E-80C9-B123F1370DA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E1CF4-3C08-4D87-9C68-72BAE7C46F6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9_3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F243-7AC3-475A-B5D9-75E0B15B71E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F73C6-5C40-46FA-A121-342F68FB77E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회 처리 속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세 번째 중요한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분석가들의 조회를 신속히 처리하고 그들의 사고 흐름을 따라잡을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안정된 고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ko-KR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 시에 고려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표 열 위에 구축된 색인의 유형과 색인 수의 함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 차원 표의 모든 열마다 색인을 붙이는 것이 훌륭한 전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차원에 대해 각기  다른 유형의 색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C90-FFAE-4301-92F0-8C47ADB077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C3FA5-FE3B-465F-8D1E-3D1717E8AA3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적재 처리와 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번째 중요한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설계에서 더 결정적인 측정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에서 웨어하우스로 데이터를 적재하는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몇 시간 대 며칠의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재 속도는 웨어하우스 설계의 다른 기본 원칙을 고수하면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시 성형 스키마 스타일 단순성의 원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 구조의 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깨끗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 등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1F7-758D-4DAB-B4D6-A083A9B7FE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46C70-1325-45FA-BA2E-73BD10BD60A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의 갖가지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스키마의 점증하는 복잡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ulti-fact star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30A-635D-4400-869B-906692AC7B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04C17-16EF-499E-8174-34BEF91D9EA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utboard T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외부 키 참조를 통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rigger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라 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 차원에 너무 많은 부담을 주게 될 데이터를 격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 단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4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5F4-D104-40F6-A978-24EFAD5682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0820E-1BAA-49FE-B3C6-06D4A88BD07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9_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605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C70-1A71-46E5-9C11-3BD61F60517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69D5F-558E-466F-B17F-A956A3B0E7C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 표 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치 체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기업 전반에 걸쳐 종종 가치 체인의 부분들을 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조직체를 통틀어 제품 또는 서비스의 흐름을 반영하는 일련의 연결된 업무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공유 차원들을 갖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사실 “군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family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다음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265-5769-4F80-A9B2-23959A7F52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2F96E-50C8-4A80-854A-8D3B274DC48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9_5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696080" cy="659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11D-5729-4E93-AED8-D091E5AA1C7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29EBD-4F4A-4F9C-8054-1FD77260C2A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다성형 사실 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 키의 어떤 조합이 사실 표에서 둘 이상의 행을 가리킬 경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ulti-star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6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E8D-F10F-4723-82A3-F363C7D4FE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2E598-0142-4033-98FE-55760554676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9 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설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본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가지 규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간단하게 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em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시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속도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조회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자 데이터 적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변경되지 않고 무결성이 엄격히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EAA-12E7-47B2-B679-BBA4590988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50C10-6DFB-48DD-8899-7C3B1873FB2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9_6" descr="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653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D31-05E2-4BA7-9163-1E1A8BB8B041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5E742-12B4-4DDC-B0A4-39A98F760C4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onceptual Modeling of Data Warehou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odeling data warehouses: dimensions &amp;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tar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fact table in the middle connected to a set of dimension tabl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nowflake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refinement of star schema where some dimensional hierarchy i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normalized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 into a set of smaller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forming a shape similar to snowfl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Fact constella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Multiple fact tables share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viewed as a collection of stars, therefore call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galaxy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or fact constel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9E4-10A4-41AD-A0BE-3007B651128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8B3C2-A8AE-4160-899C-617608C27E1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tar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419880" y="1676160"/>
            <a:ext cx="249552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548160" y="31622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40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06360" y="3867120"/>
            <a:ext cx="1902600" cy="1873800"/>
            <a:chOff x="6606360" y="3867120"/>
            <a:chExt cx="1902600" cy="1873800"/>
          </a:xfrm>
        </p:grpSpPr>
        <p:sp>
          <p:nvSpPr>
            <p:cNvPr id="143" name=""/>
            <p:cNvSpPr/>
            <p:nvPr/>
          </p:nvSpPr>
          <p:spPr>
            <a:xfrm>
              <a:off x="6606360" y="4276800"/>
              <a:ext cx="1902600" cy="1464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06720" y="386712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448800" y="227952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48160" y="26971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74320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76600" y="319248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48160" y="36273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6240" y="363852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48160" y="40910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75160" y="411480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48160" y="455616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5880" y="460692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48160" y="502128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76240" y="50515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48160" y="548640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57880" y="549756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5905440"/>
            <a:ext cx="121932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47811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52560" y="53240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752560" y="56926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328840" y="39495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4356000"/>
            <a:ext cx="1040040" cy="3873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580000" y="2709360"/>
            <a:ext cx="1077840" cy="677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613200" y="1603080"/>
            <a:ext cx="1431720" cy="1910880"/>
            <a:chOff x="6613200" y="1603080"/>
            <a:chExt cx="1431720" cy="1910880"/>
          </a:xfrm>
        </p:grpSpPr>
        <p:sp>
          <p:nvSpPr>
            <p:cNvPr id="168" name=""/>
            <p:cNvSpPr/>
            <p:nvPr/>
          </p:nvSpPr>
          <p:spPr>
            <a:xfrm>
              <a:off x="6613200" y="2049840"/>
              <a:ext cx="143172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23440" y="160308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44200" y="3886200"/>
            <a:ext cx="1499760" cy="1383120"/>
            <a:chOff x="844200" y="3886200"/>
            <a:chExt cx="1499760" cy="1383120"/>
          </a:xfrm>
        </p:grpSpPr>
        <p:sp>
          <p:nvSpPr>
            <p:cNvPr id="171" name=""/>
            <p:cNvSpPr/>
            <p:nvPr/>
          </p:nvSpPr>
          <p:spPr>
            <a:xfrm>
              <a:off x="9244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42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399-E20F-4C85-9B18-C75952675C4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57EFF-47FD-4FAE-BBCE-48E347A1B47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nowflake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317760" y="31050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76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869440" y="3809880"/>
            <a:ext cx="1369800" cy="1321200"/>
            <a:chOff x="5869440" y="3809880"/>
            <a:chExt cx="1369800" cy="1321200"/>
          </a:xfrm>
        </p:grpSpPr>
        <p:sp>
          <p:nvSpPr>
            <p:cNvPr id="179" name=""/>
            <p:cNvSpPr/>
            <p:nvPr/>
          </p:nvSpPr>
          <p:spPr>
            <a:xfrm>
              <a:off x="5870160" y="4215600"/>
              <a:ext cx="1369080" cy="91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9440" y="380988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272400" y="215280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7760" y="263988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1240" y="268596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6560" y="313524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7760" y="357012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5840" y="358128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17760" y="40338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45120" y="405756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7760" y="44989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45480" y="454968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17760" y="496404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45840" y="499428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17760" y="54291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7480" y="54403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5867280"/>
            <a:ext cx="121896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590920" y="4723920"/>
            <a:ext cx="769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571840" y="5267160"/>
            <a:ext cx="788760" cy="5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571840" y="5635800"/>
            <a:ext cx="90468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133720" y="388620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4267080"/>
            <a:ext cx="457200" cy="5335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334120" y="2819160"/>
            <a:ext cx="60948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946840" y="1526760"/>
            <a:ext cx="1367640" cy="1910880"/>
            <a:chOff x="5946840" y="1526760"/>
            <a:chExt cx="1367640" cy="1910880"/>
          </a:xfrm>
        </p:grpSpPr>
        <p:sp>
          <p:nvSpPr>
            <p:cNvPr id="204" name=""/>
            <p:cNvSpPr/>
            <p:nvPr/>
          </p:nvSpPr>
          <p:spPr>
            <a:xfrm>
              <a:off x="5946840" y="1973520"/>
              <a:ext cx="136764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56360" y="152676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15600" y="3886200"/>
            <a:ext cx="1499760" cy="1383120"/>
            <a:chOff x="615600" y="3886200"/>
            <a:chExt cx="1499760" cy="1383120"/>
          </a:xfrm>
        </p:grpSpPr>
        <p:sp>
          <p:nvSpPr>
            <p:cNvPr id="207" name=""/>
            <p:cNvSpPr/>
            <p:nvPr/>
          </p:nvSpPr>
          <p:spPr>
            <a:xfrm>
              <a:off x="6958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56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699320" y="1984680"/>
            <a:ext cx="1441080" cy="984960"/>
            <a:chOff x="7699320" y="1984680"/>
            <a:chExt cx="1441080" cy="984960"/>
          </a:xfrm>
        </p:grpSpPr>
        <p:sp>
          <p:nvSpPr>
            <p:cNvPr id="210" name=""/>
            <p:cNvSpPr/>
            <p:nvPr/>
          </p:nvSpPr>
          <p:spPr>
            <a:xfrm>
              <a:off x="7708680" y="2328480"/>
              <a:ext cx="1431720" cy="641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99320" y="1984680"/>
              <a:ext cx="116532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V="1">
            <a:off x="7238880" y="2971440"/>
            <a:ext cx="533520" cy="3049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547040" y="4800600"/>
            <a:ext cx="1712520" cy="1471680"/>
            <a:chOff x="7547040" y="4800600"/>
            <a:chExt cx="1712520" cy="1471680"/>
          </a:xfrm>
        </p:grpSpPr>
        <p:sp>
          <p:nvSpPr>
            <p:cNvPr id="214" name=""/>
            <p:cNvSpPr/>
            <p:nvPr/>
          </p:nvSpPr>
          <p:spPr>
            <a:xfrm>
              <a:off x="7550640" y="5206320"/>
              <a:ext cx="1708920" cy="106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7040" y="4800600"/>
              <a:ext cx="5659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162920" y="5105520"/>
            <a:ext cx="45720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ECE-0207-4BD2-A92E-66A5C36BCE7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27B4B-271B-4745-8A46-A00D3FFBE70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468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Fact Constel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0481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2200" y="1219320"/>
            <a:ext cx="1631520" cy="1967040"/>
            <a:chOff x="232200" y="1219320"/>
            <a:chExt cx="1631520" cy="1967040"/>
          </a:xfrm>
        </p:grpSpPr>
        <p:sp>
          <p:nvSpPr>
            <p:cNvPr id="220" name=""/>
            <p:cNvSpPr/>
            <p:nvPr/>
          </p:nvSpPr>
          <p:spPr>
            <a:xfrm>
              <a:off x="232560" y="1633680"/>
              <a:ext cx="1631160" cy="15526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2200" y="1219320"/>
              <a:ext cx="593640" cy="3668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108760" y="4038480"/>
            <a:ext cx="1712160" cy="1718640"/>
            <a:chOff x="5108760" y="4038480"/>
            <a:chExt cx="1712160" cy="1718640"/>
          </a:xfrm>
        </p:grpSpPr>
        <p:sp>
          <p:nvSpPr>
            <p:cNvPr id="223" name=""/>
            <p:cNvSpPr/>
            <p:nvPr/>
          </p:nvSpPr>
          <p:spPr>
            <a:xfrm>
              <a:off x="5112000" y="4447800"/>
              <a:ext cx="1708920" cy="130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8760" y="4038480"/>
              <a:ext cx="924120" cy="366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740320" y="2133720"/>
            <a:ext cx="170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5909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2666880"/>
            <a:ext cx="160200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312408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35053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3505320"/>
            <a:ext cx="1600200" cy="641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9625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0800" y="3981600"/>
            <a:ext cx="160056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60560" y="4419720"/>
            <a:ext cx="1635120" cy="4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1880" y="4473720"/>
            <a:ext cx="15886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60560" y="48769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2960" y="4917960"/>
            <a:ext cx="159300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60560" y="53341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72080" y="5364000"/>
            <a:ext cx="159624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715000"/>
            <a:ext cx="1219320" cy="366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084400" y="46479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065320" y="51908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065320" y="55594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641600" y="38163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905120" y="2362320"/>
            <a:ext cx="914400" cy="380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42670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95680" y="2743200"/>
            <a:ext cx="762120" cy="525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186520" y="1527480"/>
            <a:ext cx="1293120" cy="1725120"/>
            <a:chOff x="5186520" y="1527480"/>
            <a:chExt cx="1293120" cy="1725120"/>
          </a:xfrm>
        </p:grpSpPr>
        <p:sp>
          <p:nvSpPr>
            <p:cNvPr id="248" name=""/>
            <p:cNvSpPr/>
            <p:nvPr/>
          </p:nvSpPr>
          <p:spPr>
            <a:xfrm>
              <a:off x="5186520" y="1943280"/>
              <a:ext cx="1293120" cy="1309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9240" y="1527480"/>
              <a:ext cx="63180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10320" y="3962520"/>
            <a:ext cx="1279440" cy="1216440"/>
            <a:chOff x="310320" y="3962520"/>
            <a:chExt cx="1279440" cy="1216440"/>
          </a:xfrm>
        </p:grpSpPr>
        <p:sp>
          <p:nvSpPr>
            <p:cNvPr id="251" name=""/>
            <p:cNvSpPr/>
            <p:nvPr/>
          </p:nvSpPr>
          <p:spPr>
            <a:xfrm>
              <a:off x="310320" y="4356360"/>
              <a:ext cx="1279440" cy="822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960" y="3962520"/>
              <a:ext cx="8038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012080" y="24955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6560" y="1581120"/>
            <a:ext cx="20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ing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2080" y="20383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2080" y="2114640"/>
            <a:ext cx="160164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12080" y="257184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2080" y="29527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12080" y="2952720"/>
            <a:ext cx="1600200" cy="366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er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12080" y="34099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07760" y="3429000"/>
            <a:ext cx="159948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from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77160" y="3867120"/>
            <a:ext cx="1635120" cy="45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07760" y="3943440"/>
            <a:ext cx="156420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o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77160" y="43243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09200" y="4365720"/>
            <a:ext cx="158076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77160" y="47815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90840" y="4811760"/>
            <a:ext cx="16300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hip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6629400" y="152352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742840" y="152388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905120" y="152388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6553080" y="2666880"/>
            <a:ext cx="533520" cy="76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248160" y="3657600"/>
            <a:ext cx="68580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477120" y="419112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991720" y="32004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618320" y="5410080"/>
            <a:ext cx="1332360" cy="1458720"/>
            <a:chOff x="7618320" y="5410080"/>
            <a:chExt cx="1332360" cy="1458720"/>
          </a:xfrm>
        </p:grpSpPr>
        <p:sp>
          <p:nvSpPr>
            <p:cNvPr id="276" name=""/>
            <p:cNvSpPr/>
            <p:nvPr/>
          </p:nvSpPr>
          <p:spPr>
            <a:xfrm>
              <a:off x="7625520" y="5802840"/>
              <a:ext cx="1325160" cy="1065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8320" y="5410080"/>
              <a:ext cx="8542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8610120" y="4800600"/>
            <a:ext cx="38124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10480" y="32004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866920" y="5790960"/>
            <a:ext cx="175284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736-38E9-4562-B60D-D0608368060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C74E1-3249-4E6A-A787-7E09C06D578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본적인 설계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일관성과 정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적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적인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비스를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설계는 매우 기본적이 되게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의 의견을 들은 뒤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일관성 있고 가치 있는 정보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E6C-7BF2-473C-A37B-2B374397CE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37755-493C-4EB3-B6C4-22FE6A206B9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데이터베이스의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지 기본적인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는 간단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깨끗하고 일관성이 있으며 정확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회처리는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를 데이터베이스에 상당히 빠르게 적재할 수 있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66D4-7A7F-4AD4-8A26-623ECDE470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96029-3D22-414B-B642-117F5A31315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순환적 결합 경로를 가진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OLTP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스키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9_1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49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44B-60BC-48F3-B305-4D7E23AD59F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B43E1-C7DC-4833-BBE9-FF8D7EC0FA0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단순성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chema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의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기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이 편리하도록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MIS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원들에게 이익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되도록 설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 개의 표를 결합하는 지정된 경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가의 업무 요건들을 평가 – “차원”을 파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사용되고 있는 보고서들을 분석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집단이 사용하는 “표”를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99"/>
                </a:solidFill>
                <a:latin typeface="Tahoma"/>
                <a:ea typeface="굴림"/>
              </a:rPr>
              <a:t>실제 차원과 업무 자체의 조건에 바탕을 둔 직관적인 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547-404B-4F1D-85C7-FA669D8EAB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B0B2D-3FC2-475B-8144-CAE7C27A9DE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 스키마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순하고 직관적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나의 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St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에 관한 모든 수집된 사실과 숫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별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뾰족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차원들을 설명하는 일군의 표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2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37C-B192-4B81-8ACE-FDC6D121DE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83731-6F66-4BE9-AF29-BF2E1ED3B71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간단한 성형 스키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9_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10280" cy="545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DAD-685C-4CE1-AF25-A420D494174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0E51B-EBCC-43DF-8DB1-FBCA3270532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장 규모가 큰 – 수백만 개 또는 수억 개의 행이 포함된 – 중앙에 있는 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측정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업무 값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공간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95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뼈만 추린” 대부분 숫자로 된 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에 저장된 사실들은 분석가가 추적할 필요가 있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실제 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선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약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16C-5E0B-4463-B9E7-B591A34BC6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2A31A-29E3-40BA-B7B2-92BEB596934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차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의 “기정 사실”일 가능성이 많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보고서의 행 제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숫자 데이터보다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문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사용하는 경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가 필요로 하는 디스크 공간은 비교적 적게 차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기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품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업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구통계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홍보활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263-CF34-4824-8162-FF3B826596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EEA68-7A42-448A-BC82-299FFFDCF63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6-03T08:22:04Z</dcterms:modified>
  <cp:revision>301</cp:revision>
  <dc:subject/>
  <dc:title>No Slide Title</dc:title>
</cp:coreProperties>
</file>