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5B2A-4B84-4AC9-A31B-E9F3931DC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7720" y="380628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429A-05EF-4265-A204-9F4015733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7720" y="380628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77000" y="380628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A604-0C02-4D7D-A9C4-F7F08B368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68680" y="121932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00000" y="121932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7720" y="380628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68680" y="380628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00000" y="380628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A5A4-B4E5-4631-AAA1-55061C5A9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51ABE-C511-4830-89C2-25E55F0D2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83772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911E7-6782-4317-922E-CBB366C42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DD8C3-5873-40D3-9743-2DFA4E5FD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E3832-B552-427D-9D46-D91A6D80D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5ACFA-5001-4AC1-9D89-353FAEC34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762120" y="304920"/>
            <a:ext cx="81532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4B824-A48A-471E-8587-92C6EDCC7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7720" y="380628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824D4-0FD6-4702-922A-4B36818C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772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1418-0786-4199-94EB-EF253461E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77000" y="380628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FF70D-84D5-4B7D-8D87-D61B3DDF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7720" y="380628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F9C44-7139-4A40-A252-DA83B9D7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837720" y="380628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FEA41-165A-40BE-8182-8B6C9098A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37720" y="380628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977000" y="380628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4D22F-47F2-4F59-84C4-74D44909E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68680" y="121932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300000" y="121932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837720" y="380628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68680" y="380628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300000" y="380628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731B7-07B0-4EDF-AB54-09EBEA078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0936-6029-47A9-B2DC-B4AB295C1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F7C4-AFDD-4840-87B0-F88464AB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6989-FF2D-411D-A396-6E34669C6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762120" y="304920"/>
            <a:ext cx="81532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0B3F-4A40-4116-BD75-868194548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7720" y="380628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A7DB-A996-4635-918E-E916ECF3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77000" y="380628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195C-8362-49B3-B560-C3603850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380628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7C31-5251-4ADE-9F92-8564DD7B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33520" y="68580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99072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11430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76212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14300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772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ff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2666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4190760" y="632448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2F0C6-D3A2-4857-A0AE-55D716E5353C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f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f5f5f"/>
                </a:solidFill>
                <a:latin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5f5f5f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f5f5f"/>
                </a:solidFill>
                <a:latin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5f5f5f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f5f5f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02819-E771-4656-B76A-53E6CB48A6B5}" type="slidenum">
              <a:rPr b="0" lang="ko-KR" sz="1400" spc="-1" strike="noStrike">
                <a:solidFill>
                  <a:srgbClr val="5f5f5f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ccffcc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990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333399"/>
                </a:solidFill>
                <a:latin typeface="Arial"/>
              </a:rPr>
              <a:t>데이터 웨어하우스와 </a:t>
            </a:r>
            <a:br>
              <a:rPr sz="4800"/>
            </a:br>
            <a:r>
              <a:rPr b="0" lang="ko-KR" sz="4800" spc="-1" strike="noStrike">
                <a:solidFill>
                  <a:srgbClr val="333399"/>
                </a:solidFill>
                <a:latin typeface="Arial"/>
              </a:rPr>
              <a:t>데이터마이닝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박  종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컴퓨터정보학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성신여자대학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3333cc"/>
                </a:solidFill>
                <a:latin typeface="Arial"/>
              </a:rPr>
              <a:t>http://cs.sungshin.ac.kr/~jp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2_2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6781680" cy="52606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통합에 대한 문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6D09-1A59-410E-994E-8E03B5A2049A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2_3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7543800" cy="49035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데이터의 비휘발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07BE-5F1F-4BD5-93E7-A16F2085E09B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2_4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391520" cy="49561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데이터의 시간 변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E005-21B6-4396-A686-8BCB962C9508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2438280" y="1752120"/>
            <a:ext cx="5715360" cy="4000680"/>
            <a:chOff x="2438280" y="1752120"/>
            <a:chExt cx="5715360" cy="4000680"/>
          </a:xfrm>
        </p:grpSpPr>
        <p:grpSp>
          <p:nvGrpSpPr>
            <p:cNvPr id="124" name=""/>
            <p:cNvGrpSpPr/>
            <p:nvPr/>
          </p:nvGrpSpPr>
          <p:grpSpPr>
            <a:xfrm>
              <a:off x="5638680" y="1752120"/>
              <a:ext cx="2514960" cy="1495440"/>
              <a:chOff x="5638680" y="1752120"/>
              <a:chExt cx="2514960" cy="1495440"/>
            </a:xfrm>
          </p:grpSpPr>
          <p:grpSp>
            <p:nvGrpSpPr>
              <p:cNvPr id="125" name=""/>
              <p:cNvGrpSpPr/>
              <p:nvPr/>
            </p:nvGrpSpPr>
            <p:grpSpPr>
              <a:xfrm>
                <a:off x="6552000" y="2666880"/>
                <a:ext cx="686880" cy="580680"/>
                <a:chOff x="6552000" y="2666880"/>
                <a:chExt cx="686880" cy="58068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6553080" y="2666880"/>
                  <a:ext cx="68580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6553080" y="274284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238880" y="274284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29" name=""/>
                <p:cNvCxnSpPr>
                  <a:stCxn id="127" idx="0"/>
                  <a:endCxn id="128" idx="0"/>
                </p:cNvCxnSpPr>
                <p:nvPr/>
              </p:nvCxnSpPr>
              <p:spPr>
                <a:xfrm flipH="1" rot="16200000">
                  <a:off x="6894360" y="2781360"/>
                  <a:ext cx="2160" cy="686520"/>
                </a:xfrm>
                <a:prstGeom prst="curvedConnector5">
                  <a:avLst>
                    <a:gd name="adj1" fmla="val 6880000"/>
                    <a:gd name="adj2" fmla="val 50000"/>
                    <a:gd name="adj3" fmla="val 68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30" name=""/>
              <p:cNvGrpSpPr/>
              <p:nvPr/>
            </p:nvGrpSpPr>
            <p:grpSpPr>
              <a:xfrm>
                <a:off x="5638680" y="1980720"/>
                <a:ext cx="381240" cy="460080"/>
                <a:chOff x="5638680" y="1980720"/>
                <a:chExt cx="381240" cy="460080"/>
              </a:xfrm>
            </p:grpSpPr>
            <p:sp>
              <p:nvSpPr>
                <p:cNvPr id="131" name=""/>
                <p:cNvSpPr/>
                <p:nvPr/>
              </p:nvSpPr>
              <p:spPr>
                <a:xfrm flipV="1">
                  <a:off x="5638680" y="1980360"/>
                  <a:ext cx="3808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5638680" y="20570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6019560" y="20570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34" name=""/>
                <p:cNvCxnSpPr>
                  <a:stCxn id="132" idx="0"/>
                  <a:endCxn id="133" idx="0"/>
                </p:cNvCxnSpPr>
                <p:nvPr/>
              </p:nvCxnSpPr>
              <p:spPr>
                <a:xfrm flipH="1" rot="16200000">
                  <a:off x="5828400" y="2171880"/>
                  <a:ext cx="2160" cy="381600"/>
                </a:xfrm>
                <a:prstGeom prst="curvedConnector5">
                  <a:avLst>
                    <a:gd name="adj1" fmla="val 4380000"/>
                    <a:gd name="adj2" fmla="val 49952"/>
                    <a:gd name="adj3" fmla="val 43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35" name=""/>
              <p:cNvGrpSpPr/>
              <p:nvPr/>
            </p:nvGrpSpPr>
            <p:grpSpPr>
              <a:xfrm>
                <a:off x="7772400" y="1980720"/>
                <a:ext cx="381240" cy="460080"/>
                <a:chOff x="7772400" y="1980720"/>
                <a:chExt cx="381240" cy="460080"/>
              </a:xfrm>
            </p:grpSpPr>
            <p:sp>
              <p:nvSpPr>
                <p:cNvPr id="136" name=""/>
                <p:cNvSpPr/>
                <p:nvPr/>
              </p:nvSpPr>
              <p:spPr>
                <a:xfrm flipV="1">
                  <a:off x="7772400" y="1980360"/>
                  <a:ext cx="3808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7772400" y="20570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8153280" y="20570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39" name=""/>
                <p:cNvCxnSpPr>
                  <a:stCxn id="137" idx="0"/>
                  <a:endCxn id="138" idx="0"/>
                </p:cNvCxnSpPr>
                <p:nvPr/>
              </p:nvCxnSpPr>
              <p:spPr>
                <a:xfrm flipH="1" rot="16200000">
                  <a:off x="7962120" y="2171880"/>
                  <a:ext cx="2160" cy="381600"/>
                </a:xfrm>
                <a:prstGeom prst="curvedConnector5">
                  <a:avLst>
                    <a:gd name="adj1" fmla="val 4380000"/>
                    <a:gd name="adj2" fmla="val 49952"/>
                    <a:gd name="adj3" fmla="val 43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40" name=""/>
              <p:cNvGrpSpPr/>
              <p:nvPr/>
            </p:nvGrpSpPr>
            <p:grpSpPr>
              <a:xfrm>
                <a:off x="6172200" y="1828440"/>
                <a:ext cx="381240" cy="460080"/>
                <a:chOff x="6172200" y="1828440"/>
                <a:chExt cx="381240" cy="460080"/>
              </a:xfrm>
            </p:grpSpPr>
            <p:sp>
              <p:nvSpPr>
                <p:cNvPr id="141" name=""/>
                <p:cNvSpPr/>
                <p:nvPr/>
              </p:nvSpPr>
              <p:spPr>
                <a:xfrm flipV="1">
                  <a:off x="6172200" y="1828080"/>
                  <a:ext cx="3808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6172200" y="190476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6553080" y="190476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44" name=""/>
                <p:cNvCxnSpPr>
                  <a:stCxn id="142" idx="0"/>
                  <a:endCxn id="143" idx="0"/>
                </p:cNvCxnSpPr>
                <p:nvPr/>
              </p:nvCxnSpPr>
              <p:spPr>
                <a:xfrm flipH="1" rot="16200000">
                  <a:off x="6361920" y="2019600"/>
                  <a:ext cx="2160" cy="381600"/>
                </a:xfrm>
                <a:prstGeom prst="curvedConnector5">
                  <a:avLst>
                    <a:gd name="adj1" fmla="val 4380000"/>
                    <a:gd name="adj2" fmla="val 49952"/>
                    <a:gd name="adj3" fmla="val 43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45" name=""/>
              <p:cNvGrpSpPr/>
              <p:nvPr/>
            </p:nvGrpSpPr>
            <p:grpSpPr>
              <a:xfrm>
                <a:off x="6705360" y="1752120"/>
                <a:ext cx="381240" cy="460080"/>
                <a:chOff x="6705360" y="1752120"/>
                <a:chExt cx="381240" cy="460080"/>
              </a:xfrm>
            </p:grpSpPr>
            <p:sp>
              <p:nvSpPr>
                <p:cNvPr id="146" name=""/>
                <p:cNvSpPr/>
                <p:nvPr/>
              </p:nvSpPr>
              <p:spPr>
                <a:xfrm flipV="1">
                  <a:off x="6705360" y="1751760"/>
                  <a:ext cx="3808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705360" y="18284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086240" y="18284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49" name=""/>
                <p:cNvCxnSpPr>
                  <a:stCxn id="147" idx="0"/>
                  <a:endCxn id="148" idx="0"/>
                </p:cNvCxnSpPr>
                <p:nvPr/>
              </p:nvCxnSpPr>
              <p:spPr>
                <a:xfrm flipH="1" rot="16200000">
                  <a:off x="6895080" y="1943280"/>
                  <a:ext cx="2160" cy="381600"/>
                </a:xfrm>
                <a:prstGeom prst="curvedConnector5">
                  <a:avLst>
                    <a:gd name="adj1" fmla="val 4380000"/>
                    <a:gd name="adj2" fmla="val 49952"/>
                    <a:gd name="adj3" fmla="val 43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50" name=""/>
              <p:cNvGrpSpPr/>
              <p:nvPr/>
            </p:nvGrpSpPr>
            <p:grpSpPr>
              <a:xfrm>
                <a:off x="7238880" y="1828440"/>
                <a:ext cx="381240" cy="460080"/>
                <a:chOff x="7238880" y="1828440"/>
                <a:chExt cx="381240" cy="460080"/>
              </a:xfrm>
            </p:grpSpPr>
            <p:sp>
              <p:nvSpPr>
                <p:cNvPr id="151" name=""/>
                <p:cNvSpPr/>
                <p:nvPr/>
              </p:nvSpPr>
              <p:spPr>
                <a:xfrm flipV="1">
                  <a:off x="7238880" y="1828080"/>
                  <a:ext cx="3808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238880" y="190476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619760" y="190476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54" name=""/>
                <p:cNvCxnSpPr>
                  <a:stCxn id="152" idx="0"/>
                  <a:endCxn id="153" idx="0"/>
                </p:cNvCxnSpPr>
                <p:nvPr/>
              </p:nvCxnSpPr>
              <p:spPr>
                <a:xfrm flipH="1" rot="16200000">
                  <a:off x="7428600" y="2019600"/>
                  <a:ext cx="2160" cy="381600"/>
                </a:xfrm>
                <a:prstGeom prst="curvedConnector5">
                  <a:avLst>
                    <a:gd name="adj1" fmla="val 4380000"/>
                    <a:gd name="adj2" fmla="val 49952"/>
                    <a:gd name="adj3" fmla="val 43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cxnSp>
            <p:nvCxnSpPr>
              <p:cNvPr id="155" name=""/>
              <p:cNvCxnSpPr>
                <a:stCxn id="133" idx="1"/>
                <a:endCxn id="127" idx="0"/>
              </p:cNvCxnSpPr>
              <p:nvPr/>
            </p:nvCxnSpPr>
            <p:spPr>
              <a:xfrm>
                <a:off x="6019560" y="2361600"/>
                <a:ext cx="534240" cy="381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56" name=""/>
              <p:cNvCxnSpPr>
                <a:stCxn id="148" idx="1"/>
                <a:endCxn id="126" idx="0"/>
              </p:cNvCxnSpPr>
              <p:nvPr/>
            </p:nvCxnSpPr>
            <p:spPr>
              <a:xfrm flipH="1">
                <a:off x="6895440" y="2133360"/>
                <a:ext cx="191160" cy="534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57" name=""/>
              <p:cNvCxnSpPr>
                <a:stCxn id="143" idx="1"/>
                <a:endCxn id="126" idx="1"/>
              </p:cNvCxnSpPr>
              <p:nvPr/>
            </p:nvCxnSpPr>
            <p:spPr>
              <a:xfrm>
                <a:off x="6553080" y="2209680"/>
                <a:ext cx="100800" cy="480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58" name=""/>
              <p:cNvCxnSpPr>
                <a:stCxn id="153" idx="1"/>
                <a:endCxn id="126" idx="7"/>
              </p:cNvCxnSpPr>
              <p:nvPr/>
            </p:nvCxnSpPr>
            <p:spPr>
              <a:xfrm flipH="1">
                <a:off x="7138440" y="2209680"/>
                <a:ext cx="481680" cy="480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59" name=""/>
              <p:cNvCxnSpPr>
                <a:stCxn id="137" idx="1"/>
                <a:endCxn id="128" idx="0"/>
              </p:cNvCxnSpPr>
              <p:nvPr/>
            </p:nvCxnSpPr>
            <p:spPr>
              <a:xfrm flipH="1">
                <a:off x="7238520" y="2361600"/>
                <a:ext cx="534240" cy="381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160" name=""/>
            <p:cNvGrpSpPr/>
            <p:nvPr/>
          </p:nvGrpSpPr>
          <p:grpSpPr>
            <a:xfrm>
              <a:off x="2438280" y="1752120"/>
              <a:ext cx="2514960" cy="1495440"/>
              <a:chOff x="2438280" y="1752120"/>
              <a:chExt cx="2514960" cy="1495440"/>
            </a:xfrm>
          </p:grpSpPr>
          <p:grpSp>
            <p:nvGrpSpPr>
              <p:cNvPr id="161" name=""/>
              <p:cNvGrpSpPr/>
              <p:nvPr/>
            </p:nvGrpSpPr>
            <p:grpSpPr>
              <a:xfrm>
                <a:off x="3351600" y="2666880"/>
                <a:ext cx="686880" cy="580680"/>
                <a:chOff x="3351600" y="2666880"/>
                <a:chExt cx="686880" cy="58068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3352680" y="2666880"/>
                  <a:ext cx="68580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3352680" y="274284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038480" y="274284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65" name=""/>
                <p:cNvCxnSpPr>
                  <a:stCxn id="163" idx="0"/>
                  <a:endCxn id="164" idx="0"/>
                </p:cNvCxnSpPr>
                <p:nvPr/>
              </p:nvCxnSpPr>
              <p:spPr>
                <a:xfrm flipH="1" rot="16200000">
                  <a:off x="3693960" y="2781360"/>
                  <a:ext cx="2160" cy="686520"/>
                </a:xfrm>
                <a:prstGeom prst="curvedConnector5">
                  <a:avLst>
                    <a:gd name="adj1" fmla="val 6880000"/>
                    <a:gd name="adj2" fmla="val 50000"/>
                    <a:gd name="adj3" fmla="val 68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66" name=""/>
              <p:cNvGrpSpPr/>
              <p:nvPr/>
            </p:nvGrpSpPr>
            <p:grpSpPr>
              <a:xfrm>
                <a:off x="2438280" y="1980720"/>
                <a:ext cx="381240" cy="460080"/>
                <a:chOff x="2438280" y="1980720"/>
                <a:chExt cx="381240" cy="460080"/>
              </a:xfrm>
            </p:grpSpPr>
            <p:sp>
              <p:nvSpPr>
                <p:cNvPr id="167" name=""/>
                <p:cNvSpPr/>
                <p:nvPr/>
              </p:nvSpPr>
              <p:spPr>
                <a:xfrm flipV="1">
                  <a:off x="2438280" y="1980360"/>
                  <a:ext cx="3808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2438280" y="20570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2819160" y="20570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70" name=""/>
                <p:cNvCxnSpPr>
                  <a:stCxn id="168" idx="0"/>
                  <a:endCxn id="169" idx="0"/>
                </p:cNvCxnSpPr>
                <p:nvPr/>
              </p:nvCxnSpPr>
              <p:spPr>
                <a:xfrm flipH="1" rot="16200000">
                  <a:off x="2628000" y="2171880"/>
                  <a:ext cx="2160" cy="381600"/>
                </a:xfrm>
                <a:prstGeom prst="curvedConnector5">
                  <a:avLst>
                    <a:gd name="adj1" fmla="val 4380000"/>
                    <a:gd name="adj2" fmla="val 49952"/>
                    <a:gd name="adj3" fmla="val 43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71" name=""/>
              <p:cNvGrpSpPr/>
              <p:nvPr/>
            </p:nvGrpSpPr>
            <p:grpSpPr>
              <a:xfrm>
                <a:off x="4572000" y="1980720"/>
                <a:ext cx="381240" cy="460080"/>
                <a:chOff x="4572000" y="1980720"/>
                <a:chExt cx="381240" cy="460080"/>
              </a:xfrm>
            </p:grpSpPr>
            <p:sp>
              <p:nvSpPr>
                <p:cNvPr id="172" name=""/>
                <p:cNvSpPr/>
                <p:nvPr/>
              </p:nvSpPr>
              <p:spPr>
                <a:xfrm flipV="1">
                  <a:off x="4572000" y="1980360"/>
                  <a:ext cx="3808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4572000" y="20570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952880" y="20570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75" name=""/>
                <p:cNvCxnSpPr>
                  <a:stCxn id="173" idx="0"/>
                  <a:endCxn id="174" idx="0"/>
                </p:cNvCxnSpPr>
                <p:nvPr/>
              </p:nvCxnSpPr>
              <p:spPr>
                <a:xfrm flipH="1" rot="16200000">
                  <a:off x="4761720" y="2171880"/>
                  <a:ext cx="2160" cy="381600"/>
                </a:xfrm>
                <a:prstGeom prst="curvedConnector5">
                  <a:avLst>
                    <a:gd name="adj1" fmla="val 4380000"/>
                    <a:gd name="adj2" fmla="val 49952"/>
                    <a:gd name="adj3" fmla="val 43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76" name=""/>
              <p:cNvGrpSpPr/>
              <p:nvPr/>
            </p:nvGrpSpPr>
            <p:grpSpPr>
              <a:xfrm>
                <a:off x="2971800" y="1828440"/>
                <a:ext cx="381240" cy="460080"/>
                <a:chOff x="2971800" y="1828440"/>
                <a:chExt cx="381240" cy="460080"/>
              </a:xfrm>
            </p:grpSpPr>
            <p:sp>
              <p:nvSpPr>
                <p:cNvPr id="177" name=""/>
                <p:cNvSpPr/>
                <p:nvPr/>
              </p:nvSpPr>
              <p:spPr>
                <a:xfrm flipV="1">
                  <a:off x="2971800" y="1828080"/>
                  <a:ext cx="3808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2971800" y="190476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3352680" y="190476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80" name=""/>
                <p:cNvCxnSpPr>
                  <a:stCxn id="178" idx="0"/>
                  <a:endCxn id="179" idx="0"/>
                </p:cNvCxnSpPr>
                <p:nvPr/>
              </p:nvCxnSpPr>
              <p:spPr>
                <a:xfrm flipH="1" rot="16200000">
                  <a:off x="3161520" y="2019600"/>
                  <a:ext cx="2160" cy="381600"/>
                </a:xfrm>
                <a:prstGeom prst="curvedConnector5">
                  <a:avLst>
                    <a:gd name="adj1" fmla="val 4380000"/>
                    <a:gd name="adj2" fmla="val 49952"/>
                    <a:gd name="adj3" fmla="val 43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81" name=""/>
              <p:cNvGrpSpPr/>
              <p:nvPr/>
            </p:nvGrpSpPr>
            <p:grpSpPr>
              <a:xfrm>
                <a:off x="3504960" y="1752120"/>
                <a:ext cx="381240" cy="460080"/>
                <a:chOff x="3504960" y="1752120"/>
                <a:chExt cx="381240" cy="460080"/>
              </a:xfrm>
            </p:grpSpPr>
            <p:sp>
              <p:nvSpPr>
                <p:cNvPr id="182" name=""/>
                <p:cNvSpPr/>
                <p:nvPr/>
              </p:nvSpPr>
              <p:spPr>
                <a:xfrm flipV="1">
                  <a:off x="3504960" y="1751760"/>
                  <a:ext cx="3808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504960" y="18284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3885840" y="18284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85" name=""/>
                <p:cNvCxnSpPr>
                  <a:stCxn id="183" idx="0"/>
                  <a:endCxn id="184" idx="0"/>
                </p:cNvCxnSpPr>
                <p:nvPr/>
              </p:nvCxnSpPr>
              <p:spPr>
                <a:xfrm flipH="1" rot="16200000">
                  <a:off x="3694680" y="1943280"/>
                  <a:ext cx="2160" cy="381600"/>
                </a:xfrm>
                <a:prstGeom prst="curvedConnector5">
                  <a:avLst>
                    <a:gd name="adj1" fmla="val 4380000"/>
                    <a:gd name="adj2" fmla="val 49952"/>
                    <a:gd name="adj3" fmla="val 43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86" name=""/>
              <p:cNvGrpSpPr/>
              <p:nvPr/>
            </p:nvGrpSpPr>
            <p:grpSpPr>
              <a:xfrm>
                <a:off x="4038480" y="1828440"/>
                <a:ext cx="381240" cy="460080"/>
                <a:chOff x="4038480" y="1828440"/>
                <a:chExt cx="381240" cy="460080"/>
              </a:xfrm>
            </p:grpSpPr>
            <p:sp>
              <p:nvSpPr>
                <p:cNvPr id="187" name=""/>
                <p:cNvSpPr/>
                <p:nvPr/>
              </p:nvSpPr>
              <p:spPr>
                <a:xfrm flipV="1">
                  <a:off x="4038480" y="1828080"/>
                  <a:ext cx="3808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038480" y="190476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419360" y="190476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90" name=""/>
                <p:cNvCxnSpPr>
                  <a:stCxn id="188" idx="0"/>
                  <a:endCxn id="189" idx="0"/>
                </p:cNvCxnSpPr>
                <p:nvPr/>
              </p:nvCxnSpPr>
              <p:spPr>
                <a:xfrm flipH="1" rot="16200000">
                  <a:off x="4228200" y="2019600"/>
                  <a:ext cx="2160" cy="381600"/>
                </a:xfrm>
                <a:prstGeom prst="curvedConnector5">
                  <a:avLst>
                    <a:gd name="adj1" fmla="val 4380000"/>
                    <a:gd name="adj2" fmla="val 49952"/>
                    <a:gd name="adj3" fmla="val 43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cxnSp>
            <p:nvCxnSpPr>
              <p:cNvPr id="191" name=""/>
              <p:cNvCxnSpPr>
                <a:stCxn id="169" idx="1"/>
                <a:endCxn id="163" idx="0"/>
              </p:cNvCxnSpPr>
              <p:nvPr/>
            </p:nvCxnSpPr>
            <p:spPr>
              <a:xfrm>
                <a:off x="2819160" y="2361600"/>
                <a:ext cx="534240" cy="381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92" name=""/>
              <p:cNvCxnSpPr>
                <a:stCxn id="184" idx="1"/>
                <a:endCxn id="162" idx="0"/>
              </p:cNvCxnSpPr>
              <p:nvPr/>
            </p:nvCxnSpPr>
            <p:spPr>
              <a:xfrm flipH="1">
                <a:off x="3695040" y="2133360"/>
                <a:ext cx="191160" cy="534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93" name=""/>
              <p:cNvCxnSpPr>
                <a:stCxn id="179" idx="1"/>
                <a:endCxn id="162" idx="1"/>
              </p:cNvCxnSpPr>
              <p:nvPr/>
            </p:nvCxnSpPr>
            <p:spPr>
              <a:xfrm>
                <a:off x="3352680" y="2209680"/>
                <a:ext cx="100800" cy="480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94" name=""/>
              <p:cNvCxnSpPr>
                <a:stCxn id="189" idx="1"/>
                <a:endCxn id="162" idx="7"/>
              </p:cNvCxnSpPr>
              <p:nvPr/>
            </p:nvCxnSpPr>
            <p:spPr>
              <a:xfrm flipH="1">
                <a:off x="3938040" y="2209680"/>
                <a:ext cx="481680" cy="480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95" name=""/>
              <p:cNvCxnSpPr>
                <a:stCxn id="173" idx="1"/>
                <a:endCxn id="164" idx="0"/>
              </p:cNvCxnSpPr>
              <p:nvPr/>
            </p:nvCxnSpPr>
            <p:spPr>
              <a:xfrm flipH="1">
                <a:off x="4038120" y="2361600"/>
                <a:ext cx="534240" cy="381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196" name=""/>
            <p:cNvGrpSpPr/>
            <p:nvPr/>
          </p:nvGrpSpPr>
          <p:grpSpPr>
            <a:xfrm>
              <a:off x="3809880" y="3771720"/>
              <a:ext cx="2895480" cy="1981080"/>
              <a:chOff x="3809880" y="3771720"/>
              <a:chExt cx="2895480" cy="1981080"/>
            </a:xfrm>
          </p:grpSpPr>
          <p:sp>
            <p:nvSpPr>
              <p:cNvPr id="197" name=""/>
              <p:cNvSpPr/>
              <p:nvPr/>
            </p:nvSpPr>
            <p:spPr>
              <a:xfrm>
                <a:off x="4267080" y="3771720"/>
                <a:ext cx="175248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267080" y="392400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019560" y="392400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00" name=""/>
              <p:cNvCxnSpPr>
                <a:stCxn id="198" idx="0"/>
                <a:endCxn id="199" idx="0"/>
              </p:cNvCxnSpPr>
              <p:nvPr/>
            </p:nvCxnSpPr>
            <p:spPr>
              <a:xfrm flipH="1" rot="16200000">
                <a:off x="5142600" y="3657960"/>
                <a:ext cx="2160" cy="1753200"/>
              </a:xfrm>
              <a:prstGeom prst="curvedConnector5">
                <a:avLst>
                  <a:gd name="adj1" fmla="val 13380000"/>
                  <a:gd name="adj2" fmla="val 49989"/>
                  <a:gd name="adj3" fmla="val 1338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grpSp>
            <p:nvGrpSpPr>
              <p:cNvPr id="201" name=""/>
              <p:cNvGrpSpPr/>
              <p:nvPr/>
            </p:nvGrpSpPr>
            <p:grpSpPr>
              <a:xfrm>
                <a:off x="3809880" y="5295600"/>
                <a:ext cx="457200" cy="457200"/>
                <a:chOff x="3809880" y="5295600"/>
                <a:chExt cx="457200" cy="45720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3809880" y="529560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962160" y="5676480"/>
                  <a:ext cx="30492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4419360" y="5295600"/>
                <a:ext cx="457200" cy="457200"/>
                <a:chOff x="4419360" y="5295600"/>
                <a:chExt cx="457200" cy="45720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4419360" y="529560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4571640" y="5676480"/>
                  <a:ext cx="30492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5029200" y="5295600"/>
                <a:ext cx="457200" cy="457200"/>
                <a:chOff x="5029200" y="5295600"/>
                <a:chExt cx="457200" cy="45720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5029200" y="529560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5181480" y="5676480"/>
                  <a:ext cx="30492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638680" y="5295600"/>
                <a:ext cx="457200" cy="457200"/>
                <a:chOff x="5638680" y="5295600"/>
                <a:chExt cx="457200" cy="4572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5638680" y="529560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790960" y="5676480"/>
                  <a:ext cx="30492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6248160" y="5295600"/>
                <a:ext cx="457200" cy="457200"/>
                <a:chOff x="6248160" y="5295600"/>
                <a:chExt cx="457200" cy="45720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6248160" y="529560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400440" y="5676480"/>
                  <a:ext cx="30492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 flipH="1">
                <a:off x="4038120" y="4762440"/>
                <a:ext cx="114300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>
                <a:off x="4647960" y="4762440"/>
                <a:ext cx="53352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181480" y="4762440"/>
                <a:ext cx="7632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181480" y="4762440"/>
                <a:ext cx="60948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181480" y="4762440"/>
                <a:ext cx="121932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3733920" y="3238200"/>
              <a:ext cx="121896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5333760" y="3238200"/>
              <a:ext cx="15238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307440" y="2971800"/>
            <a:ext cx="911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Meta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371600" y="30492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굴림"/>
              </a:rPr>
              <a:t>데이터웨어하우스의 구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238880" y="1143000"/>
            <a:ext cx="17528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nthly s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y product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81-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238880" y="2666880"/>
            <a:ext cx="17528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weekly sales b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subproduct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1984-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5880" y="3962520"/>
            <a:ext cx="1752840" cy="4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ales det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990-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705720" y="5257800"/>
            <a:ext cx="1752480" cy="4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les det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84-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76720" y="3962520"/>
            <a:ext cx="990360" cy="4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et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81080" y="2666880"/>
            <a:ext cx="15242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light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summar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(datamar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048120" y="5257800"/>
            <a:ext cx="761760" cy="4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t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66680" y="1905120"/>
            <a:ext cx="1524240" cy="4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mmar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19320" y="5029200"/>
            <a:ext cx="1676160" cy="4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per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rans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2438280" y="4419720"/>
            <a:ext cx="21337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CEA7-820F-45F3-8923-916AF65E7D20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데이터웨어하우스 구축과정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한번에 한 단계씩 설계되고 구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Arial"/>
              </a:rPr>
              <a:t>점증적인 반복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2400" spc="-1" strike="noStrike">
                <a:solidFill>
                  <a:srgbClr val="ff0000"/>
                </a:solidFill>
                <a:latin typeface="Arial"/>
              </a:rPr>
              <a:t>과정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을 통해 완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첫째날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운영 활동 처리를 위한 시스템들만 존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둘째날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2000" spc="-1" strike="noStrike">
                <a:solidFill>
                  <a:srgbClr val="3333cc"/>
                </a:solidFill>
                <a:latin typeface="Arial"/>
              </a:rPr>
              <a:t>DW</a:t>
            </a:r>
            <a:r>
              <a:rPr b="0" lang="ko-KR" sz="2000" spc="-1" strike="noStrike">
                <a:solidFill>
                  <a:srgbClr val="3333cc"/>
                </a:solidFill>
                <a:latin typeface="Arial"/>
              </a:rPr>
              <a:t>의 첫번째 주제영역에 대한 몇몇 테이블 생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셋째날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더 많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DW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들이 생성되고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사용자들도 증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네째날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: DW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가 점점 확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, DW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는 분석적 처리를 위한 데이터 원천으로 인식 시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다섯째날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부서별 데이터베이스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데이터마트 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OLAP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가 활성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여섯째날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많은 부서별 시스템이 구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번째날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아키텍쳐가 완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몇 년은 일반적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일째부터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일째까지의 이동 과정 동안에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DSS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환경이 성숙되고 발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3FB7-5568-485C-94BD-C3ACF0975A5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2_10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6400800" cy="53337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데이터웨어하우스 구축과정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(1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일 –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n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일까지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82AA-D6F8-4827-892D-D58393014EE0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데이터웨어하우스 설계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2949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Star Jo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Database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설계에서는 모든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는 같다고 가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DW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에서는 “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는 결코 대등하지 않다”에서 출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3333cc"/>
                </a:solidFill>
                <a:latin typeface="Arial"/>
              </a:rPr>
              <a:t>Fact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대량의 데이터를 포함하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Jo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의 중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주위의 테이블을 참조할 수 있는 외래키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(foreign key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를 가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3333cc"/>
                </a:solidFill>
                <a:latin typeface="Arial"/>
              </a:rPr>
              <a:t>Dimension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주위의 엔터티들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테이블들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스타 조인 생성의 이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DSS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처리 과정에서 데이터를 능률적으로 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데이터를 미리 연결하고 선택적으로 중복 데이터를 생성하여 데이터 액세스와 분석을 더욱 간단하고 효율적으로 할 수 있게 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297A-B64F-40CA-918A-9713453106C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KDD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7720" y="1294920"/>
            <a:ext cx="8077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Knowledge Discovery in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데이터베이스에서 지식 탐사는 데이터에서 유효하고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귀하고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잠재적으로 유용하고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궁극적으로 이해될 수 있는 </a:t>
            </a:r>
            <a:r>
              <a:rPr b="1" i="1" lang="ko-KR" sz="2000" spc="-1" strike="noStrike">
                <a:solidFill>
                  <a:srgbClr val="ff0000"/>
                </a:solidFill>
                <a:latin typeface="Arial"/>
              </a:rPr>
              <a:t>패턴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을 알아내는 쉽지않은 과정이다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전체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KDD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과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데이터 마이닝 과정의 적용 영역과 목표의 이해를 밝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목적 데이터 집합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(target data set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을 선택하거나 얻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데이터 청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사전처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그리고 변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모델 개발과 가설 설정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0000"/>
                </a:solidFill>
                <a:latin typeface="Arial"/>
              </a:rPr>
              <a:t>적절한 데이터 마이닝 알고리즘의 선택</a:t>
            </a: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결과 해석 및 시각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결과 검사 및 검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Arial"/>
              </a:rPr>
              <a:t>발견된 지식을 사용하고 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B1ED-AD2C-4C84-9594-B5EF4E3CA3C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82440" y="692280"/>
            <a:ext cx="1282680" cy="7491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940440" y="5873760"/>
            <a:ext cx="2044800" cy="596880"/>
          </a:xfrm>
          <a:prstGeom prst="rect">
            <a:avLst/>
          </a:prstGeom>
          <a:solidFill>
            <a:srgbClr val="e8e8e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35720" y="760320"/>
            <a:ext cx="1151280" cy="641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돋움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956320" y="1157400"/>
            <a:ext cx="2064240" cy="51912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돋움"/>
              </a:rPr>
              <a:t>Target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310440" y="1303200"/>
            <a:ext cx="2382480" cy="945720"/>
          </a:xfrm>
          <a:prstGeom prst="rect">
            <a:avLst/>
          </a:prstGeom>
          <a:solidFill>
            <a:srgbClr val="3333cc"/>
          </a:solidFill>
          <a:ln w="12600">
            <a:solidFill>
              <a:srgbClr val="99ff99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돋움"/>
              </a:rPr>
              <a:t>Preproce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돋움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354320" y="3665520"/>
            <a:ext cx="2202840" cy="945720"/>
          </a:xfrm>
          <a:prstGeom prst="rect">
            <a:avLst/>
          </a:prstGeom>
          <a:solidFill>
            <a:srgbClr val="33ccff"/>
          </a:solidFill>
          <a:ln w="12600">
            <a:solidFill>
              <a:srgbClr val="00ccff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돋움"/>
              </a:rPr>
              <a:t>Transform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돋움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94240" y="3763800"/>
            <a:ext cx="2076480" cy="7020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cc"/>
                </a:solidFill>
                <a:latin typeface="Arial"/>
                <a:ea typeface="돋움"/>
              </a:rPr>
              <a:t>Patter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447920" y="1219320"/>
            <a:ext cx="1371600" cy="15228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011360" y="5867280"/>
            <a:ext cx="1945440" cy="51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Arial"/>
                <a:ea typeface="돋움"/>
              </a:rPr>
              <a:t>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81480" y="1523880"/>
            <a:ext cx="990720" cy="30492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2361960" y="2438280"/>
            <a:ext cx="5105160" cy="1143000"/>
          </a:xfrm>
          <a:prstGeom prst="line">
            <a:avLst/>
          </a:prstGeom>
          <a:ln w="25560">
            <a:solidFill>
              <a:srgbClr val="0099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733920" y="4191120"/>
            <a:ext cx="1523880" cy="0"/>
          </a:xfrm>
          <a:prstGeom prst="line">
            <a:avLst/>
          </a:prstGeom>
          <a:ln w="50760">
            <a:solidFill>
              <a:srgbClr val="0099ff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4572000"/>
            <a:ext cx="1143000" cy="121932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507320" y="944640"/>
            <a:ext cx="1231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933440" y="944640"/>
            <a:ext cx="1815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Pre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14480" y="2697120"/>
            <a:ext cx="189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Trans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71800" y="3794040"/>
            <a:ext cx="10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305400" y="4754520"/>
            <a:ext cx="17546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Interpretation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21520" y="60480"/>
            <a:ext cx="7216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Overview of the steps constituting the KDD proc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5DB1-EAF3-4AB4-B41B-E3B031FD62AA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Data Mining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관찰된 데이터로 부터 패턴이나 모델의 추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KDD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에서 한 단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데이터 마이닝 작업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(Data Mining Task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Data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Reg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3333cc"/>
                </a:solidFill>
                <a:latin typeface="Arial"/>
              </a:rPr>
              <a:t>Clus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Arial"/>
              </a:rPr>
              <a:t>Link Analysis (Associ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Model Visu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Exploratory Data Analysis (E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DB3B-4762-43FD-BD50-6844E0883B3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데이터웨어하우스 구축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방법론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의사결정 지원 시스템의 발전과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데이터웨어하우스 환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데이터웨어하우스와 설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데이터웨어하우스의 구체화 정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데이터웨어하우스와 기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KDD and Data M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77F2-8F60-44BF-9A0F-9FE5B670CFF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807696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Types of Data-Mining Problems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77720" y="1715760"/>
            <a:ext cx="3214800" cy="380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redi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Class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S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900240" y="1687680"/>
            <a:ext cx="4870440" cy="45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Knowledge Disco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iation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base 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Clus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Association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u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m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CA49-5C5E-454A-8967-1EEA2AE6B99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143360" y="304920"/>
            <a:ext cx="39661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  <a:ea typeface="돋움"/>
              </a:rPr>
              <a:t>Association Ru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22240" y="1127160"/>
            <a:ext cx="8016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Ex: the statement tha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90% of transactions that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bread and but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 also purch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mil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1428480" y="2155680"/>
            <a:ext cx="5956920" cy="458280"/>
            <a:chOff x="1428480" y="2155680"/>
            <a:chExt cx="5956920" cy="458280"/>
          </a:xfrm>
        </p:grpSpPr>
        <p:sp>
          <p:nvSpPr>
            <p:cNvPr id="270" name=""/>
            <p:cNvSpPr/>
            <p:nvPr/>
          </p:nvSpPr>
          <p:spPr>
            <a:xfrm>
              <a:off x="1428480" y="2155680"/>
              <a:ext cx="2323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[</a:t>
              </a:r>
              <a:r>
                <a:rPr b="0" lang="en-US" sz="2400" spc="-1" strike="noStrike">
                  <a:solidFill>
                    <a:srgbClr val="009900"/>
                  </a:solidFill>
                  <a:latin typeface="Arial"/>
                  <a:ea typeface="돋움"/>
                </a:rPr>
                <a:t>Brea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], [</a:t>
              </a:r>
              <a:r>
                <a:rPr b="0" lang="en-US" sz="2400" spc="-1" strike="noStrike">
                  <a:solidFill>
                    <a:srgbClr val="009900"/>
                  </a:solidFill>
                  <a:latin typeface="Arial"/>
                  <a:ea typeface="돋움"/>
                </a:rPr>
                <a:t>Butter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886200" y="2384280"/>
              <a:ext cx="53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54720" y="2155680"/>
              <a:ext cx="28306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[Milk] (12.5%, </a:t>
              </a:r>
              <a:r>
                <a:rPr b="0" lang="en-US" sz="2400" spc="-1" strike="noStrike">
                  <a:solidFill>
                    <a:srgbClr val="0000ff"/>
                  </a:solidFill>
                  <a:latin typeface="Arial"/>
                  <a:ea typeface="돋움"/>
                </a:rPr>
                <a:t>90%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1506240" y="3336840"/>
            <a:ext cx="6507360" cy="1357560"/>
            <a:chOff x="1506240" y="3336840"/>
            <a:chExt cx="6507360" cy="1357560"/>
          </a:xfrm>
        </p:grpSpPr>
        <p:sp>
          <p:nvSpPr>
            <p:cNvPr id="274" name=""/>
            <p:cNvSpPr/>
            <p:nvPr/>
          </p:nvSpPr>
          <p:spPr>
            <a:xfrm>
              <a:off x="1506240" y="3336840"/>
              <a:ext cx="6390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  <a:ea typeface="돋움"/>
                </a:rPr>
                <a:t>90%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 : confidence factor of the rule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돋움"/>
                </a:rPr>
                <a:t>(not 100%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506960" y="3870360"/>
              <a:ext cx="65066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12.5%: support for the rule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the fraction of transactions in datab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1886400" y="2697120"/>
            <a:ext cx="1445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돋움"/>
              </a:rPr>
              <a:t>antece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162760" y="2697120"/>
            <a:ext cx="1503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돋움"/>
              </a:rPr>
              <a:t>consequ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966600" y="5089680"/>
            <a:ext cx="6907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Find all rules that have “Diet Coke” as consequ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Find all rules that have “bagels” in the anteced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Find the “best”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 rules that have “bagels” in the consequ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D286-B201-4E82-AC39-090B26DB87D3}" type="slidenum">
              <a:t>2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81532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연관규칙의 정의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: a set of literals called i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: a set of items such that 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, trans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ssociation rule is an implication of the for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X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here 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, Y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 and 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X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upport, confid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1447920" y="4191120"/>
                <a:ext cx="67053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pport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# of transactions containing all the items in </m:t>
                        </m:r>
                        <m:r>
                          <m:t xml:space="preserve">X</m:t>
                        </m:r>
                        <m:r>
                          <m:t xml:space="preserve">∪</m:t>
                        </m:r>
                        <m:r>
                          <m:t xml:space="preserve">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 # of transactions in the databas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1447920" y="5105520"/>
                <a:ext cx="624816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nfidence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# of transactions that contain both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r>
                          <m:t xml:space="preserve">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# of transactions contaning 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B006-CAAE-4386-AEFE-82A2F5872CD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Generalized Association Rules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ing associations between items at any level of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xonom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ople who buy</a:t>
            </a:r>
            <a:r>
              <a:rPr b="1" lang="en-US" sz="1800" spc="-1" strike="noStrike">
                <a:solidFill>
                  <a:srgbClr val="ffcf01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33"/>
                </a:solidFill>
                <a:latin typeface="Arial"/>
              </a:rPr>
              <a:t>clothes</a:t>
            </a:r>
            <a:r>
              <a:rPr b="1" lang="en-US" sz="1800" spc="-1" strike="noStrike">
                <a:solidFill>
                  <a:srgbClr val="ffcf01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nd to buy shoes. (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ople who buy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uterwe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end to buy shoes. ( o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ople who buy</a:t>
            </a:r>
            <a:r>
              <a:rPr b="1" lang="en-US" sz="1800" spc="-1" strike="noStrike">
                <a:solidFill>
                  <a:srgbClr val="ffcf01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jacke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end to buy shoes. (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838080" y="3505320"/>
            <a:ext cx="7925040" cy="2743200"/>
            <a:chOff x="838080" y="3505320"/>
            <a:chExt cx="7925040" cy="2743200"/>
          </a:xfrm>
        </p:grpSpPr>
        <p:sp>
          <p:nvSpPr>
            <p:cNvPr id="286" name=""/>
            <p:cNvSpPr/>
            <p:nvPr/>
          </p:nvSpPr>
          <p:spPr>
            <a:xfrm>
              <a:off x="838080" y="3505320"/>
              <a:ext cx="7925040" cy="274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990720" y="3576960"/>
              <a:ext cx="7696080" cy="2418480"/>
              <a:chOff x="990720" y="3576960"/>
              <a:chExt cx="7696080" cy="2418480"/>
            </a:xfrm>
          </p:grpSpPr>
          <p:sp>
            <p:nvSpPr>
              <p:cNvPr id="288" name=""/>
              <p:cNvSpPr/>
              <p:nvPr/>
            </p:nvSpPr>
            <p:spPr>
              <a:xfrm>
                <a:off x="2819520" y="3576960"/>
                <a:ext cx="114300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loth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676520" y="4587480"/>
                <a:ext cx="152388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uterwea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886200" y="4587480"/>
                <a:ext cx="106704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hir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990720" y="5596560"/>
                <a:ext cx="152388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Jacke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971800" y="5596560"/>
                <a:ext cx="152424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ki Pa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105520" y="4587480"/>
                <a:ext cx="99072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ho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782040" y="4587480"/>
                <a:ext cx="190476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iking Boo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867640" y="3647880"/>
                <a:ext cx="152388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Footwea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353040" y="4010040"/>
                <a:ext cx="914400" cy="577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2514240" y="4010040"/>
                <a:ext cx="762120" cy="577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553440" y="4082040"/>
                <a:ext cx="914400" cy="57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5714640" y="4082040"/>
                <a:ext cx="762120" cy="57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514600" y="4948200"/>
                <a:ext cx="914400" cy="57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>
                <a:off x="1676160" y="4948200"/>
                <a:ext cx="762120" cy="57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A98D-1637-4471-96E9-F2019904A65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yclic Association Rules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Beer and chips are sold together primarily </a:t>
            </a:r>
            <a:r>
              <a:rPr b="0" i="1" lang="ko-KR" sz="2800" spc="-1" strike="noStrike">
                <a:solidFill>
                  <a:srgbClr val="ff0000"/>
                </a:solidFill>
                <a:latin typeface="Arial"/>
              </a:rPr>
              <a:t>between 6PM and 9PM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Association rules could also display regular hourly, daily, weekly, etc., variation that has the appearance of cyc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ff"/>
                </a:solidFill>
                <a:latin typeface="Arial"/>
              </a:rPr>
              <a:t>An association rule </a:t>
            </a:r>
            <a:r>
              <a:rPr b="0" i="1" lang="ko-KR" sz="2800" spc="-1" strike="noStrike">
                <a:solidFill>
                  <a:srgbClr val="0000ff"/>
                </a:solidFill>
                <a:latin typeface="Arial"/>
              </a:rPr>
              <a:t>X </a:t>
            </a:r>
            <a:r>
              <a:rPr b="0" i="1" lang="ko-KR" sz="2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i="1" lang="ko-KR" sz="2800" spc="-1" strike="noStrike">
                <a:solidFill>
                  <a:srgbClr val="0000ff"/>
                </a:solidFill>
                <a:latin typeface="Arial"/>
              </a:rPr>
              <a:t> Y</a:t>
            </a:r>
            <a:r>
              <a:rPr b="0" lang="ko-KR" sz="2800" spc="-1" strike="noStrike">
                <a:solidFill>
                  <a:srgbClr val="0000ff"/>
                </a:solidFill>
                <a:latin typeface="Arial"/>
              </a:rPr>
              <a:t> holds in time unit </a:t>
            </a:r>
            <a:r>
              <a:rPr b="0" i="1" lang="ko-KR" sz="28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0" i="1" lang="ko-KR" sz="2800" spc="-1" strike="noStrike" baseline="-25000">
                <a:solidFill>
                  <a:srgbClr val="0000ff"/>
                </a:solidFill>
                <a:latin typeface="Arial"/>
              </a:rPr>
              <a:t>i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if the support of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D[i]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exceeds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MinSup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the confidence of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D[i]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exceeds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MinConf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It has a cycle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c = (l, o),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a length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and an offset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33"/>
                </a:solidFill>
                <a:latin typeface="Arial"/>
              </a:rPr>
              <a:t>“</a:t>
            </a:r>
            <a:r>
              <a:rPr b="0" i="1" lang="ko-KR" sz="2800" spc="-1" strike="noStrike">
                <a:solidFill>
                  <a:srgbClr val="ff0033"/>
                </a:solidFill>
                <a:latin typeface="Arial"/>
              </a:rPr>
              <a:t>coffee </a:t>
            </a:r>
            <a:r>
              <a:rPr b="0" i="1" lang="ko-KR" sz="2800" spc="-1" strike="noStrike">
                <a:solidFill>
                  <a:srgbClr val="ff0033"/>
                </a:solidFill>
                <a:latin typeface="Symbol"/>
                <a:ea typeface="Symbol"/>
              </a:rPr>
              <a:t></a:t>
            </a:r>
            <a:r>
              <a:rPr b="0" i="1" lang="ko-KR" sz="2800" spc="-1" strike="noStrike">
                <a:solidFill>
                  <a:srgbClr val="ff0033"/>
                </a:solidFill>
                <a:latin typeface="Arial"/>
              </a:rPr>
              <a:t> doughnuts” </a:t>
            </a:r>
            <a:r>
              <a:rPr b="0" lang="ko-KR" sz="2800" spc="-1" strike="noStrike">
                <a:solidFill>
                  <a:srgbClr val="ff0033"/>
                </a:solidFill>
                <a:latin typeface="Arial"/>
              </a:rPr>
              <a:t>has a cycle (24, 7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if the unit of time is an hour and “coffee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doughnuts” holds during the interval 7AM-8AM everyday (I.e., every 24 hour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4A88-34D0-4D06-9CE8-55AA5AF51A2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When is Market Basket Analysis useful?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three rules are examples of real rules generated from real da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ursday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grocery store consumers often purchase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iapers and be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Arial"/>
              </a:rPr>
              <a:t>Useful ru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high quality, actionable inform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s who purchases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aintenance agre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very likely to purchase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large applian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vial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new hardware store opens, one of the most commonly sold items is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oilet rin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explicable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5942-3605-44D7-ABFB-CA6E3AC474B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71600" y="190080"/>
            <a:ext cx="647712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Sequential Patterns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90360" y="1371600"/>
            <a:ext cx="78483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Examples of patter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Customers typically rent “Star Wars”, then “Empire Strikes Back”, and then “Return of the jedi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Note that these rentals need not to be consecu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수강신청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관광과 여가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(1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학기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) </a:t>
            </a:r>
            <a:r>
              <a:rPr b="0" lang="ko-KR" sz="2400" spc="-1" strike="noStrike">
                <a:solidFill>
                  <a:srgbClr val="ff0033"/>
                </a:solidFill>
                <a:latin typeface="Symbol"/>
                <a:ea typeface="Symbol"/>
              </a:rPr>
              <a:t>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수도권과 주택문제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(2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학기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) </a:t>
            </a:r>
            <a:r>
              <a:rPr b="0" lang="ko-KR" sz="2400" spc="-1" strike="noStrike">
                <a:solidFill>
                  <a:srgbClr val="ff0033"/>
                </a:solidFill>
                <a:latin typeface="Symbol"/>
                <a:ea typeface="Symbol"/>
              </a:rPr>
              <a:t>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  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증권시장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(3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학기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주가 변동 패턴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2400" spc="-1" strike="noStrike">
                <a:solidFill>
                  <a:srgbClr val="0000ff"/>
                </a:solidFill>
                <a:latin typeface="Arial"/>
              </a:rPr>
              <a:t>삼성전자 주가 상승 </a:t>
            </a:r>
            <a:r>
              <a:rPr b="0" lang="ko-KR" sz="24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ko-KR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0000ff"/>
                </a:solidFill>
                <a:latin typeface="Arial"/>
              </a:rPr>
              <a:t>LG</a:t>
            </a:r>
            <a:r>
              <a:rPr b="0" lang="ko-KR" sz="2400" spc="-1" strike="noStrike">
                <a:solidFill>
                  <a:srgbClr val="0000ff"/>
                </a:solidFill>
                <a:latin typeface="Arial"/>
              </a:rPr>
              <a:t>전자 주가 상승 </a:t>
            </a:r>
            <a:r>
              <a:rPr b="0" lang="ko-KR" sz="24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ko-KR" sz="2400" spc="-1" strike="noStrike">
                <a:solidFill>
                  <a:srgbClr val="0000ff"/>
                </a:solidFill>
                <a:latin typeface="Arial"/>
              </a:rPr>
              <a:t> 보해양조 주가 상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구매패턴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양복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 와이셔츠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  검정색 구두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의료진단에서 질병 발생 순서 패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환자 치료에서 진료 및 투약 패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0E0A-9EB1-41C4-BC94-6631F07E06A9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Mining Path Traversal Patterns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Understanding </a:t>
            </a:r>
            <a:r>
              <a:rPr b="0" lang="ko-KR" sz="2800" spc="-1" strike="noStrike">
                <a:solidFill>
                  <a:srgbClr val="0000ff"/>
                </a:solidFill>
                <a:latin typeface="Arial"/>
              </a:rPr>
              <a:t>user access patterns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in a </a:t>
            </a:r>
            <a:r>
              <a:rPr b="0" lang="ko-KR" sz="2800" spc="-1" strike="noStrike">
                <a:solidFill>
                  <a:srgbClr val="ff0066"/>
                </a:solidFill>
                <a:latin typeface="Arial"/>
              </a:rPr>
              <a:t>distributed information providing environment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such as WWW, Hitel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help improving the system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lead to better marke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Capturing user access patterns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mining path traversal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capturing user traveling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improving the quality of such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2A00-0E3B-4514-9B1C-E66B0792CC4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4044960" y="76824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11240" y="526428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597040" y="404496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15960" y="404496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901960" y="282564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301760" y="282564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950080" y="282564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940440" y="282564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216160" y="183528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254640" y="183528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359160" y="526428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2514240" y="990720"/>
            <a:ext cx="152388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838080" y="3200400"/>
            <a:ext cx="609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2742840" y="3200400"/>
            <a:ext cx="3049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2133360" y="4343400"/>
            <a:ext cx="53316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895480" y="4343400"/>
            <a:ext cx="60984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419720" y="990720"/>
            <a:ext cx="190476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6171840" y="2133720"/>
            <a:ext cx="1522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553080" y="2133720"/>
            <a:ext cx="5335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514600" y="2133720"/>
            <a:ext cx="5335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1447920" y="2057400"/>
            <a:ext cx="7617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193840" y="1828800"/>
            <a:ext cx="387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79440" y="2803680"/>
            <a:ext cx="32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3640" y="402264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879640" y="28036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574000" y="402264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889280" y="52419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336120" y="5241960"/>
            <a:ext cx="47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231600" y="181296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927760" y="28036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918480" y="28036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022640" y="7462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2514240" y="838080"/>
            <a:ext cx="1219320" cy="76212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1371240" y="1981080"/>
            <a:ext cx="609480" cy="60984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533160" y="3048120"/>
            <a:ext cx="533160" cy="83808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1143000" y="3352320"/>
            <a:ext cx="609480" cy="83844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1828800" y="2361960"/>
            <a:ext cx="457200" cy="60948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2590920" y="3200400"/>
            <a:ext cx="304560" cy="76212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2057400" y="4267080"/>
            <a:ext cx="457200" cy="83844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2362320" y="4572000"/>
            <a:ext cx="304560" cy="91440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200760" y="-2819160"/>
            <a:ext cx="1065960" cy="8076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ff"/>
            </a:solidFill>
            <a:custDash>
              <a:ds d="499000" sp="20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495680" y="838080"/>
            <a:ext cx="1828800" cy="91440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6019560" y="2133720"/>
            <a:ext cx="152280" cy="60948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6400800" y="2285640"/>
            <a:ext cx="0" cy="68580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705720" y="2133720"/>
            <a:ext cx="457200" cy="60948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955960" y="7462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584360" y="181296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93640" y="30322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432080" y="364176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041560" y="25750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032280" y="21178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666880" y="2057400"/>
            <a:ext cx="533520" cy="68580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422440" y="318456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965240" y="425124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422440" y="493704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048120" y="4267080"/>
            <a:ext cx="533160" cy="91440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84560" y="4327560"/>
            <a:ext cx="701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175280" y="303228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41960" y="89856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699160" y="204156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308640" y="2514600"/>
            <a:ext cx="549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cc"/>
                </a:solidFill>
                <a:latin typeface="Arial"/>
                <a:ea typeface="돋움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42160" y="211788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326120" y="4602240"/>
            <a:ext cx="45482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  <a:ea typeface="돋움"/>
              </a:rPr>
              <a:t>Maximal forward refer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{ABCD, ABEGH, ABEGW, AOU, AOV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295640" y="152280"/>
            <a:ext cx="2827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돋움"/>
              </a:rPr>
              <a:t>Traversal patter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73360" y="5973840"/>
            <a:ext cx="4502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2. Find maximal reference sequen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74080" y="5592600"/>
            <a:ext cx="41216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1. Find large reference sequen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4181-AF91-405D-9254-89D981B7CD00}" type="slidenum">
              <a:t>2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의사결정지원 시스템의 발전과정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아키텍쳐 환경의 발전 단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6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년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ter files, re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ts of master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7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년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SD (Direct Access Storage Device) &amp; DB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ine, high-performance transaction processing (OLT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8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년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Cs, 4GL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action processing &amp; MIS/D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년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M(Data Mining) &amp; DW(Data Warehous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AB1C-29A8-4D38-9E70-5335EA7A251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1_5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6248160" cy="52070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거미줄 구조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(The Spider Web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583A-291B-4F57-A05D-1B0EB1B35DDC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가지 수준의 아키텍쳐 환경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운영 수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operational lev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ailed, day to day, current valued, high probability of access, application orie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원자 또는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데이터웨어하우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수준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tomic or DW lev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granular, time variant, integrated, subject oriented, some sum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부서 수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partmental lev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ochial, some derived; some primitive, typical departments(accounting, marketing, actuari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개인 수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ndividual lev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orary, ad hoc, heuristic, non-repetitive, PC or workstation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F477-215E-4048-B334-0667CDF976A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1_11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8458200" cy="52340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Levels of the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B5B3-477B-482F-9C36-2D12299D642C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DW SDLC (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시스템 개발 생명 주기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)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ystem development life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DS(SDLC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의 반대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라고도 부른다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 ware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for b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against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DSS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z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Understand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A9C7-0B01-43E6-BC11-20E5587AFFC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데이터웨어하우스의 환경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4678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데이터웨어하우스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ko-KR" sz="2800" spc="-1" strike="noStrike">
                <a:solidFill>
                  <a:srgbClr val="ff0000"/>
                </a:solidFill>
                <a:latin typeface="Arial"/>
              </a:rPr>
              <a:t>관리자의 의사결정을 지원하기 위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주제중심의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(subject oriented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통합된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(integrated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비휘발성의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(nonvolatile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시간변이적인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(time varia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ko-KR" sz="2800" spc="-1" strike="noStrike">
                <a:solidFill>
                  <a:srgbClr val="ff0000"/>
                </a:solidFill>
                <a:latin typeface="Arial"/>
              </a:rPr>
              <a:t>데이터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2800" spc="-1" strike="noStrike">
                <a:solidFill>
                  <a:srgbClr val="ff0000"/>
                </a:solidFill>
                <a:latin typeface="Arial"/>
              </a:rPr>
              <a:t>집합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이다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A078-5BAF-4058-8837-872155808F8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2_1" descr=""/>
          <p:cNvPicPr/>
          <p:nvPr/>
        </p:nvPicPr>
        <p:blipFill>
          <a:blip r:embed="rId1"/>
          <a:stretch/>
        </p:blipFill>
        <p:spPr>
          <a:xfrm>
            <a:off x="1447920" y="1143000"/>
            <a:ext cx="6553080" cy="51786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데이터의 주제중심의 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2380-F530-42DD-81A2-6A2A1D723D58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2T11:14:05Z</dcterms:created>
  <dc:creator>박종수</dc:creator>
  <dc:description/>
  <dc:language>en-US</dc:language>
  <cp:lastModifiedBy>Jong Soo Park</cp:lastModifiedBy>
  <dcterms:modified xsi:type="dcterms:W3CDTF">2002-05-14T02:32:52Z</dcterms:modified>
  <cp:revision>42</cp:revision>
  <dc:subject/>
  <dc:title>DB와 DM 설명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EncodingType">
    <vt:r8>-99</vt:r8>
  </property>
  <property fmtid="{D5CDD505-2E9C-101B-9397-08002B2CF9AE}" pid="8" name="GraphicType">
    <vt:r8>2</vt:r8>
  </property>
  <property fmtid="{D5CDD505-2E9C-101B-9397-08002B2CF9AE}" pid="9" name="HomePage">
    <vt:lpwstr/>
  </property>
  <property fmtid="{D5CDD505-2E9C-101B-9397-08002B2CF9AE}" pid="10" name="LinkColor">
    <vt:r8>16711782</vt:r8>
  </property>
  <property fmtid="{D5CDD505-2E9C-101B-9397-08002B2CF9AE}" pid="11" name="MailAddress">
    <vt:lpwstr>jmlee@hansung.ac.kr</vt:lpwstr>
  </property>
  <property fmtid="{D5CDD505-2E9C-101B-9397-08002B2CF9AE}" pid="12" name="NavBtnPos">
    <vt:r8>4</vt:r8>
  </property>
  <property fmtid="{D5CDD505-2E9C-101B-9397-08002B2CF9AE}" pid="13" name="Other">
    <vt:lpwstr/>
  </property>
  <property fmtid="{D5CDD505-2E9C-101B-9397-08002B2CF9AE}" pid="14" name="OutputDir">
    <vt:lpwstr>D:\jmlee\2000\lecture\db</vt:lpwstr>
  </property>
  <property fmtid="{D5CDD505-2E9C-101B-9397-08002B2CF9AE}" pid="15" name="ScreenSize">
    <vt:r8>3</vt:r8>
  </property>
  <property fmtid="{D5CDD505-2E9C-101B-9397-08002B2CF9AE}" pid="16" name="ScreenUsage">
    <vt:r8>2</vt:r8>
  </property>
  <property fmtid="{D5CDD505-2E9C-101B-9397-08002B2CF9AE}" pid="17" name="ShowNotes">
    <vt:bool>0</vt:bool>
  </property>
  <property fmtid="{D5CDD505-2E9C-101B-9397-08002B2CF9AE}" pid="18" name="TemplateType">
    <vt:r8>1</vt:r8>
  </property>
  <property fmtid="{D5CDD505-2E9C-101B-9397-08002B2CF9AE}" pid="19" name="TextColor">
    <vt:r8>0</vt:r8>
  </property>
  <property fmtid="{D5CDD505-2E9C-101B-9397-08002B2CF9AE}" pid="20" name="TransparentButton">
    <vt:r8>0</vt:r8>
  </property>
  <property fmtid="{D5CDD505-2E9C-101B-9397-08002B2CF9AE}" pid="21" name="UseBrowserColor">
    <vt:bool>1</vt:bool>
  </property>
  <property fmtid="{D5CDD505-2E9C-101B-9397-08002B2CF9AE}" pid="22" name="VisitedColor">
    <vt:r8>10040268</vt:r8>
  </property>
</Properties>
</file>