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9144-FDDB-414C-BAF0-B94668EC5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62C2-C669-4C32-8BEB-8278292FD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94B3-E5B7-4D36-9A33-C38312BC2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8D65-7B77-40BD-9F31-D050ABBA0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9572B-229D-4E76-A8DB-4C5B9B151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FD0D8-3F8F-43D0-826F-B3CDC7FCB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788FC-ABB9-4CBB-8FF2-E68F83BA0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9290E-4445-49D0-AA9E-C53F7F5D6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D2339-5D24-4DFD-A560-A5E8CE9CE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38B68-BDBD-452B-B55A-432439475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70065-7E8D-44B9-A0E1-5C896254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B63A-B4EE-4B10-8B30-4BB316178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F55A2-EB48-4CA2-84FE-1A9052B1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C89CA-17CE-4F16-BDE1-5210D369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77B03-B3AC-4B83-9C0D-6082634EF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8918D-6711-4565-A00D-8856BA1F1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11636-9434-4E06-A4C5-E980ED649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C364-B252-47DA-9FBD-B3CE74792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4B7A-D00F-4777-978D-FAB7599C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AD65-56BD-4C11-AA0C-AC491C918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6F09-1CF0-4ED5-A1D1-25BDADFB4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5FC7-42D7-42F3-AFF9-E62E425A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0415-D612-424A-AE5F-C887E7EE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698C-9DF2-48B2-AE56-77608A82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7C3F3-CB71-4C6D-91B7-779C8D8D565F}" type="datetime3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2026년 7월 31일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E2829-0C75-4C07-AC62-329F7C93FDAF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B08F6-0287-49E4-97BF-E644AB1263C1}" type="datetime3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2026년 7월 31일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56957-7FE2-4554-A687-CC3C95B9452B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toc.org/" TargetMode="External"/><Relationship Id="rId2" Type="http://schemas.openxmlformats.org/officeDocument/2006/relationships/hyperlink" Target="http://www.toc.org/" TargetMode="External"/><Relationship Id="rId3" Type="http://schemas.openxmlformats.org/officeDocument/2006/relationships/hyperlink" Target="http://www.toc.org/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제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7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장</a:t>
            </a:r>
            <a:br>
              <a:rPr sz="5400"/>
            </a:b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하드웨어와 데이터 웨어하우스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굴림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4952520"/>
            <a:ext cx="8305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ong Soo P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park@cs.sungshin.ac.k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B93C-FC74-48B5-9601-759CB9A5D1F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26625D-4600-4F41-91E9-CBE1E36FDDB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2.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와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B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지원하는 데이터베이스의 방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특정한 하드웨어에만 사용되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하드웨어에 사용되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하드웨어에 사용되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능을 포함하는 범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개방형 컴퓨터 기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하드웨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81C8-4CB1-4F32-A862-37969F5D65C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3C8228-6C76-4153-AD67-8F64D7925DF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를 지원하는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B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기능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1/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artition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한 테이블의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ow(tuple)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가 수억 건 이상 되는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파티션과 인덱스 파티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파티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tatic partition and hash part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tar query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o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가 적은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tabl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부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join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하여 최종적으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act tabl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과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join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하는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축시 꼭 필요하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8A20-1D7C-4D33-A891-1B07FACFBF1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1E1389-FA9E-4AD8-9362-76F0451AD64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를 지원하는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B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기능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2/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Bitmap ind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빠르고 인덱스 테이블도 작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arallel Loading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한꺼번에 많은 데이터를 로딩할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ortable table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운영 시스템의 테이블을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서버에서 바로 데이터베이스에 사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Loadable Table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데이터베이스에 있는 기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1DFF-2B55-4F9D-B4CB-5B1722E44CD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7FBF3B-AC6C-46B4-B809-22710AC9A16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3.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PC-D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벤치 마크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PC(Transaction Processing Performance Counci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굴림"/>
                <a:hlinkClick r:id="rId1"/>
              </a:rPr>
              <a:t>www.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굴림"/>
                <a:hlinkClick r:id="rId2"/>
              </a:rPr>
              <a:t>tpc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굴림"/>
                <a:hlinkClick r:id="rId3"/>
              </a:rPr>
              <a:t>.or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Verdana"/>
                <a:ea typeface="굴림"/>
              </a:rPr>
              <a:t>TPC-D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 represents a broad range of decision support (DS) applications that require complex, long running queries against large complex data structures. (</a:t>
            </a:r>
            <a:r>
              <a:rPr b="0" i="1" lang="en-US" sz="2400" spc="-1" strike="noStrike">
                <a:solidFill>
                  <a:srgbClr val="3333cc"/>
                </a:solidFill>
                <a:latin typeface="Verdana"/>
                <a:ea typeface="굴림"/>
              </a:rPr>
              <a:t>Obsolete as of 4/6/99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5103-AEC1-4FD8-829F-87E7AC3CCEE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371857-C489-453B-9189-052FC0384B9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PC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TPC-C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is an on-line transaction processing benchmark, Version 5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TPC-H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is an ad-hoc, decision support benchmar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TPC-R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is a business reporting, decision support benchmar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TPC-W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is a transactional web e-Commerce benchm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6E78-44CF-4461-89B9-775C6611E6C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97F41D-EF75-4631-87EA-8536B0580CF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제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7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장 하드웨어와 데이터베이스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와 하드웨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와 데이터베이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PC-D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벤치마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2E33-77F7-49A3-922A-17A7E878148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1047B0-43FD-4F45-B795-075FADED22B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1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와 하드웨어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를 위한 하드웨어 기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강력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tch process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지원 기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확장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calabili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시스템의 안정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64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it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2BBB-2B40-433C-B0CF-EA659EEB246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852016-B937-4E2D-A731-00A1AC6B216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MP(Symmetric Multi Processing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여러 개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PU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가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emory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및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isk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공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PU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들은 서로 독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메모리에 있는 프로그램과 데이터를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hared bu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통해서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공유 버스에서 충돌 현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해결방법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rossbar switch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하기 편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S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준에서 로드 분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디스크 액세스 시에 충돌이 일어나지 않는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9023-E233-4C9A-B2B4-33CFDDB2181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098055-EC9B-4EA8-B56D-2B6D58150D3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PP(Massively Parallel Processing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일반적인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Node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구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노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PU-Memory-Disk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 한조가 되어 운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노드마다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와 데이터베이스가 있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한 노드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MP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처럼 구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P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여러 개의 노드로 구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nternode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LAN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형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Mesh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형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ta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형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0658-33CD-4B05-B8CD-50E5E3C6DB2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B42A5F-B16B-4C6E-B1EC-6F846FE34BE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MPP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지역성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locality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disk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액세스하는 것은 빠르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emote disk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액세스는 느리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지역성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노드간 데이터의 분산 정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좋다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로컬 디스크에 있는 데이터를 노드 내부에서 액세스하는 경우가 많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나쁘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원격 디스크의 데이터를 자주 액세스한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분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내용과 액세스 형태를 고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1589-EF94-444F-9157-B4D394C0C48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EA20EF-2920-4DB7-924C-7723440EE47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NUMA(Non-Uniform Memory Access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M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장점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P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장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NUMA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메모리를 공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프로그램과 데이터는 동일한 주소 환경에 존재하므로 지역성이 매우 강하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나 데이터베이스도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M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처럼 하나만 존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7DAE-BD88-43DE-B115-00461B9D6F6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33E32B-8B7A-467E-BE86-5DE64114172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하드웨어를 도입할 때 고려사항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W server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하드웨어의 기능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 검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하드웨어의 아키텍처만 보고 속단 금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자사의 데이터 양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Update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주기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Access pattern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등을 고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여러 하드웨어를 비교 검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일반적인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하드웨어 선정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요건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 대한 면밀한 고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성능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안정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확장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지원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교육 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C387-0336-449B-9B6B-EDAE3B491EF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854072-27D7-42C8-9BA9-AE10B66E23E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하드웨어의 용량 산정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sizing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디스크 용량 산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133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페이지 테이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814% +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약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G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메모리 용량 산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보통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GB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이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PU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용량 산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요약 테이블을 생성시 시간이 많이 걸리는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에서 주기적으로 일어나는 중요한 프로세서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tch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B8F0-525C-4FA8-BB9E-250BBDE67BE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0EC406-E28B-4656-844A-AAA5EDE2A74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ong Soo Park</dc:creator>
  <dc:description/>
  <dc:language>en-US</dc:language>
  <cp:lastModifiedBy>Jong Soo Park</cp:lastModifiedBy>
  <cp:lastPrinted>1999-09-10T20:38:56Z</cp:lastPrinted>
  <dcterms:modified xsi:type="dcterms:W3CDTF">2002-05-14T05:22:52Z</dcterms:modified>
  <cp:revision>237</cp:revision>
  <dc:subject/>
  <dc:title>제6장 데이터 웨어하우스의 관리</dc:title>
</cp:coreProperties>
</file>