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5DA-DCBC-4006-A200-69156A6B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D738-4047-46A9-B570-170E0756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4240-E288-42F3-A5C7-7EF45DDF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9CB1-2ABB-4702-B3FC-D9CB27F2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7C23-3385-407F-A12D-25B1F36F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3B03-0930-48B7-8063-7A55C436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89DE-94DF-4521-85A8-206F2991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0AE1-66EB-4E2C-8FD2-D13DCDB0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DA36-ED64-4736-B6D2-B2D4F13A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FEA3-6FF6-411B-B82F-17B18039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3EDB-892C-4F14-BE86-57007DF7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5720-A54E-4FF8-AB23-9C0103C3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8C87-1F71-4DC0-8492-62D218CE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0270-F3FF-4E29-9473-5441670F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7AD4-B577-42FA-9228-971204E9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3644-E219-4D64-B619-10282AEE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DA5B-2556-49B1-BC04-996D47D4D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B07E-0B4C-4CB4-86F1-46DED86A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E433-F6F8-487E-97CB-4117D001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C49-F112-49B5-8FA8-F84E7E77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5958-1471-4983-B530-6A09E849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419B-9392-4467-90E6-E0D8B70B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DE99-1377-49CE-A789-3E4386B5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E1BC-875A-4E0A-8CAB-3F054551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DD69-A931-4638-9CA4-EB7A8F401C7B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E234-E07F-42C5-9790-2A5CC2DC39E8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10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의 통합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92C5-EFBF-4DAA-9235-2A4034D17DD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10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의 통합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통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입에 데이터 웨어하우스가 필요한 이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 웨어하우스 도입시 고려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rac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솔루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A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솔루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08B-9F6C-40DF-9988-4FDE6017E25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  <a:ea typeface="굴림"/>
              </a:rPr>
              <a:t>ERP</a:t>
            </a: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란 무엇인가</a:t>
            </a: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?</a:t>
            </a:r>
            <a:br>
              <a:rPr sz="4400"/>
            </a:b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tp://www.valhae.com/business/erp.html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굴림"/>
                <a:ea typeface="굴림"/>
              </a:rPr>
              <a:t>Enterprise Resource Planning/</a:t>
            </a:r>
            <a:r>
              <a:rPr b="1" lang="ko-KR" sz="3200" spc="-1" strike="noStrike">
                <a:solidFill>
                  <a:srgbClr val="3333cc"/>
                </a:solidFill>
                <a:latin typeface="굴림"/>
                <a:ea typeface="굴림"/>
              </a:rPr>
              <a:t>전사적 자원관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회사전체 경영자원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즉 생산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판매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물류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회계 등의 기업업무를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전사적인 경영자원으로 활용하기 위하여 최적화하는 시스템으로 주로 통합시스템 소프트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기업의 경영목적을 가장 효율적으로 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기업내의 생산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회계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영업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재고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판매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물류 등의 업무를 통합적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조직적으로 연계 관리하고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회사 내 모든 정보를 공유하며 정보를 만들어 제공한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기업의 생산성과 경쟁력을 극대화시키는 통합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시스템 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(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  <a:ea typeface="굴림"/>
              </a:rPr>
              <a:t>OLTP layer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의 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  <a:ea typeface="굴림"/>
              </a:rPr>
              <a:t>software, 177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페이지 참조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A3A5-804D-4809-A39F-ADB3B66B7AE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erp_p1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39080" cy="4907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762120"/>
            <a:ext cx="7391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valhae.com/business/erp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D45-04C9-4033-A21B-74DEBFB02FA4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도입에 데이터 웨어하우스가 필요한 이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구 우수 모범 기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est practic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프로세스를 담고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ustomi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체의 프로세스를 바꾸는 것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어려운 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하는 장표를 개발하는 것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rting syste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표준화된 장표와 그 외는 프로그래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A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이용하면 정형화된 장표와 비정형화된 장표를 얻을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3CEA-563E-4A4F-819C-556D3BAEEF9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 도입시 고려사항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운영계에 해당하는 시스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정보계에 해당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트랜잭션을 처리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트랜잭션의 결과를 분석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하나의 하드웨어에 구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동일한 하드웨어에서 운영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부하를 줄 수 있다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하드웨어를 사용하는 것이 바람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먼저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먼저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순서는 별 문제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D4B0-B207-43CF-B0E2-A25669042D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 도입시 고려사항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데이터를 어떻게 추출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vendor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제공하는 추출 도구를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 데이터 마트의 위험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데이터를 추출하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부서 단위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목적별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추세는 전사적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가 고급 데이터 분석의 내용을 제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업의 경영 활동에 부가가치를 창조할 수 있는 시스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CF30-AC46-4CDB-8356-E9D89775DB8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racle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ol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938-E155-46E3-A515-5B14DDF559B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A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ol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4898-9D98-423E-A287-E75199DAC18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7T08:20:24Z</dcterms:modified>
  <cp:revision>276</cp:revision>
  <dc:subject/>
  <dc:title>제6장 데이터 웨어하우스의 관리</dc:title>
</cp:coreProperties>
</file>