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6A1-2F89-49B1-A67D-60BCDB47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C03-1745-441D-9AF7-38B7AF5D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70C-062E-40D8-A5BD-5CD66DA3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7A5-2CE0-49E8-8DB1-FC44E93B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EDE7-C92B-490E-AE05-8D7A3E1A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6DFD-9037-4762-98AB-2D0AAFEF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B19C-26FE-40E7-9310-52894D9F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8FF1-169E-40B2-8EC7-C8EE726D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6FC1-D128-436C-988F-5FC1AD68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8EC7-2774-4EFD-A327-90AADEDA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7D99-39BB-4051-883B-116A5C61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443-257E-4ACC-B8DC-7E4CC95D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1EF7-1C73-45BE-81F7-4B1CCF1D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EF9A-BEB4-45A3-9711-4274DE1A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80C2-D788-45D6-BF3C-8DE6023A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4389-93B9-40BA-956C-24CF37D8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C5E2-9D4C-49DF-B730-8ED4E430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CA6-9CA2-4362-B8A9-41A374F3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4997-542B-4B88-BF49-32AC97BD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F6E-33F0-4CE5-9C95-8D7CDC1C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B90-2709-4E13-88A8-1B54FC1B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9EE-28F9-4F0E-BA4E-8D2BD543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EA5-8687-4FA4-AAFB-E1796D0D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9BD-DAD6-47DE-98AD-0DE466A4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F49F-E1F4-4E89-9331-3BA266D4A91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E65B-9DF0-454A-A821-326AD5ED66CE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9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조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AB8-2FFE-4F9B-ADEC-EB75C3465F8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없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운영계 시스템에서 생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7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참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하드웨어 장비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용 서버를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없으므로 디스크 용량을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교적 저렴한 비용으로 구축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운영계 시스템에 부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많은 추출 프로그램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D25-0C2E-4ECA-A726-CDAA50832C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 존재하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장 많이 채택하고 있는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s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추출해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로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데이터의 통합과 정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을 제외하면 운영계 시스템에 부하 없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과 독립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개발과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향후 전사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의 확장이 매우 쉽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많은 데이터를 보관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을 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/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207-CC32-41E2-B1EE-7875D44DA4B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p-down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Bottom-u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를 많이 만들고 이를 통합한다는 것은 거의 불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또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같이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D96-20E5-4B8C-8843-39D6F3CBF4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terprise 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회사의 거의 모든 시스템에서 거의 모든 데이터를 가지고 구축하는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ED7-F20A-4C21-80FC-E56C462D42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1AC-602B-483F-B1BF-A790E5DF9E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4DE-6649-4FB1-A373-889CF6F252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998-F38F-4245-8C0E-95AB238104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 웨어하우스의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어플리케이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(Operational Data Sto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557-811D-4A1F-B53C-FDB30D6707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기본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데이터 웨어하우스 구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참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165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sito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적인 모델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table, dimension table, summary table, meta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여러 가지 기술을 사용하여 액세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계 분석 패키지를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켓팅 분야와 결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162-EFF2-41F7-8B8A-71B8CC92C6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DB4-2A7C-408E-9482-FD31146612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Ma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수 사용자가 제한된 주제로 소규모의 데이터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부서별로 다양한 분석과 예측을 목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렴한 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쉽고 빠르게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유지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데이터 마트는 관리 지원이 어렵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된 생명이 짧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3733920"/>
            <a:ext cx="8915400" cy="596520"/>
            <a:chOff x="228600" y="3733920"/>
            <a:chExt cx="8915400" cy="596520"/>
          </a:xfrm>
        </p:grpSpPr>
        <p:sp>
          <p:nvSpPr>
            <p:cNvPr id="109" name=""/>
            <p:cNvSpPr/>
            <p:nvPr/>
          </p:nvSpPr>
          <p:spPr>
            <a:xfrm>
              <a:off x="228600" y="3886200"/>
              <a:ext cx="220968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OLTP </a:t>
              </a: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시스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41148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37339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데이터의 추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7080" y="3809880"/>
              <a:ext cx="1981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ata M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160" y="4114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8880" y="38862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부서별 사용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6EC-DA33-4983-BAD5-6C32425AE0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Tahoma"/>
                <a:ea typeface="굴림"/>
              </a:rPr>
              <a:t>독립적으로 존재하는 데이터 마트들의 위험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68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 관리를 매우 혼란스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 데이터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관리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마켓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포팅을 위한 정보계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에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여러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중복해서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1C5-B707-43ED-AB1A-6CEA460458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같이 존재하는 데이터 마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(Operational Data S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 분야의 문제점을 해결하기 위해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중간 단계의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구축하려는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Data M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169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같이 존재하는 데이터 마트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96F-0BF8-4E69-B330-14A28506FA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역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부분뿐만 아니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모든 데이터의 원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’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주로 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원시 데이터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굴림"/>
              </a:rPr>
              <a:t>Raw Dat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다 들어가기 때문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디스크 용량 산정시 중요한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데이터 정제 작업을 쉽게 할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내부 구조가 일반적으로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ER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1C0-3A3F-4533-A4F8-AD0C2FAEBF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DS+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트 구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축 원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의 추출 문제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데이터를 추출하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링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별 데이터 마트의 데이터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추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서버에서의 병목 현상을 데이터 마트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가 통합되지 않은 회사에 많은 도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규모의 제조업체나 소규모의 유통업체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F41-4F6D-4F94-9675-A104EEA641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7:05:18Z</dcterms:modified>
  <cp:revision>264</cp:revision>
  <dc:subject/>
  <dc:title>제6장 데이터 웨어하우스의 관리</dc:title>
</cp:coreProperties>
</file>