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2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3156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99DA-37C4-45C9-8853-6662214561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lcome to the first session in the Windows 2000 DNA tr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is session we will discuss building applications that “Do More” in the business tier by leveraging COM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 encourage attendees to follow a track through the full track, as each session builds upon the nex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DF21-EA61-48A3-A08F-8FDC7658A2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0480" y="682560"/>
            <a:ext cx="4563720" cy="34228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21960" y="4330440"/>
            <a:ext cx="517860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session will focus on using MDX to solve complex business problems using M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ould leave 10-15 minutes for questions or accept questions during the session.  Encourage the audience to stick with the remainder of this tr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  Windows DNA is Microsoft’s strategic initiative to enable 3-tier compu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though we believe in distributed database, we don’t feel that distributed datab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y itsel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ill be sufficient to power the new generation of Web-enabled, highly distributed systems. There is a growing industry consensus that components provide the necessary means to both scale and package and distributed necessary functionality in distributed environments and on the Intern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DNA te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gically partition your application into 3 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sines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grate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components using COM as the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verage Windows Services to deliver, connect and support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the disconnec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flexible access to data - structured &amp; un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9000" indent="-416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68400" indent="-4179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57280" indent="-4870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newblueblank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7360" y="7430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8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3571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4363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51768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ewblutitle" descr=""/>
          <p:cNvPicPr/>
          <p:nvPr/>
        </p:nvPicPr>
        <p:blipFill>
          <a:blip r:embed="rId2"/>
          <a:srcRect l="985" t="4868" r="4528" b="29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19240" y="1600200"/>
            <a:ext cx="695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ca304"/>
                </a:solidFill>
                <a:latin typeface="굴림"/>
                <a:ea typeface="굴림"/>
              </a:rPr>
              <a:t>DevDays </a:t>
            </a:r>
            <a:r>
              <a:rPr b="0" lang="en-US" sz="8800" spc="-1" strike="noStrike">
                <a:solidFill>
                  <a:srgbClr val="ffffff"/>
                </a:solidFill>
                <a:latin typeface="굴림"/>
                <a:ea typeface="굴림"/>
              </a:rPr>
              <a:t>’99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2880" y="876240"/>
            <a:ext cx="4077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8280" y="4224240"/>
            <a:ext cx="7953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ddlogo" descr=""/>
          <p:cNvPicPr/>
          <p:nvPr/>
        </p:nvPicPr>
        <p:blipFill>
          <a:blip r:embed="rId3"/>
          <a:stretch/>
        </p:blipFill>
        <p:spPr>
          <a:xfrm>
            <a:off x="5810400" y="5448240"/>
            <a:ext cx="2419200" cy="9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6360" y="3429000"/>
            <a:ext cx="784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  <a:ea typeface="굴림"/>
              </a:rPr>
              <a:t>The aim of this mission is knowle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4880" y="1432080"/>
            <a:ext cx="0" cy="421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7240" y="5630760"/>
            <a:ext cx="5521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84640" y="571356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Function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960" y="277344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equi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76560" y="5427360"/>
            <a:ext cx="13572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29080" y="1922400"/>
            <a:ext cx="857160" cy="350064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81560" y="1731600"/>
            <a:ext cx="29718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Knowing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hat Is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= Multi Dimensional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Databas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해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odel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query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pe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E DB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지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ple provid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도 사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OLAP Services, TM1, SAS, WhiteLight, SAP…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ervi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 분석 기능을 향상시킬 수 있는 중요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Key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Basic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 dimensional spa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계층간 이동을 쉽게할 수 있으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 concepts of cube, dimension, level, member and cell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한 기본 이해가 있어야 하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It is used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Queries – full statements (SELECT…F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usiness modeling – defin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Construc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mber 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Nelson, [1996].[Q1].[Jan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uple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Nelson, USA), (Computers, [1996]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ts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Nelson, White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 (Computers, USA), (Printers, Japan) 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[1996].Child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pCount(SalesReps.Member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10, Sa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Queri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LECT sets on axes (N ax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ROM a source cu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ERE the data is sliced by some coordin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Cub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Measur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Sales, Cost, Un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Year, Quarter, Mon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Geograph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Region, Coun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Produc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Product Group, Product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Cust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Customer Group, Customer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35120" y="577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680" y="1251000"/>
            <a:ext cx="84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228600"/>
            <a:ext cx="744984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8320" y="1184400"/>
            <a:ext cx="48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1: Creating A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192564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2: Getting Cells’ Val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8680" y="3105000"/>
            <a:ext cx="3017880" cy="502920"/>
            <a:chOff x="2668680" y="3105000"/>
            <a:chExt cx="3017880" cy="502920"/>
          </a:xfrm>
        </p:grpSpPr>
        <p:sp>
          <p:nvSpPr>
            <p:cNvPr id="159" name=""/>
            <p:cNvSpPr/>
            <p:nvPr/>
          </p:nvSpPr>
          <p:spPr>
            <a:xfrm>
              <a:off x="2975040" y="3294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8680" y="31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7320" y="3129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2400" y="3433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221440" y="3130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205160" y="3105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71016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9240" y="3117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2608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1440" y="3129120"/>
            <a:ext cx="480960" cy="2828880"/>
            <a:chOff x="5221440" y="3129120"/>
            <a:chExt cx="480960" cy="2828880"/>
          </a:xfrm>
        </p:grpSpPr>
        <p:sp>
          <p:nvSpPr>
            <p:cNvPr id="169" name=""/>
            <p:cNvSpPr/>
            <p:nvPr/>
          </p:nvSpPr>
          <p:spPr>
            <a:xfrm>
              <a:off x="5380200" y="3446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6920" y="3294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2160" y="3129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221440" y="5479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234040" y="4044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234040" y="4539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246640" y="4971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46640" y="3574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655720" y="3597120"/>
            <a:ext cx="2606760" cy="2411640"/>
            <a:chOff x="2655720" y="3597120"/>
            <a:chExt cx="2606760" cy="2411640"/>
          </a:xfrm>
        </p:grpSpPr>
        <p:sp>
          <p:nvSpPr>
            <p:cNvPr id="178" name=""/>
            <p:cNvSpPr/>
            <p:nvPr/>
          </p:nvSpPr>
          <p:spPr>
            <a:xfrm>
              <a:off x="47102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3597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4960" y="3598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9252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81320" y="3627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70120" y="3605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8680" y="4067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5040" y="5019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98920" y="5489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5959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4000" y="4537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8788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57040" y="2813040"/>
            <a:ext cx="1967040" cy="924480"/>
            <a:chOff x="1157040" y="2813040"/>
            <a:chExt cx="1967040" cy="924480"/>
          </a:xfrm>
        </p:grpSpPr>
        <p:sp>
          <p:nvSpPr>
            <p:cNvPr id="191" name=""/>
            <p:cNvSpPr/>
            <p:nvPr/>
          </p:nvSpPr>
          <p:spPr>
            <a:xfrm>
              <a:off x="1837080" y="2813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Groce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040" y="33386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l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1000" y="307656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ppli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469600" y="6157800"/>
            <a:ext cx="1819080" cy="368280"/>
            <a:chOff x="2469600" y="6157800"/>
            <a:chExt cx="1819080" cy="368280"/>
          </a:xfrm>
        </p:grpSpPr>
        <p:sp>
          <p:nvSpPr>
            <p:cNvPr id="195" name=""/>
            <p:cNvSpPr/>
            <p:nvPr/>
          </p:nvSpPr>
          <p:spPr>
            <a:xfrm>
              <a:off x="2469600" y="6157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840" y="6157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120" y="61578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Un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36440" y="3639960"/>
            <a:ext cx="464040" cy="2305800"/>
            <a:chOff x="1936440" y="3639960"/>
            <a:chExt cx="464040" cy="2305800"/>
          </a:xfrm>
        </p:grpSpPr>
        <p:sp>
          <p:nvSpPr>
            <p:cNvPr id="199" name=""/>
            <p:cNvSpPr/>
            <p:nvPr/>
          </p:nvSpPr>
          <p:spPr>
            <a:xfrm>
              <a:off x="1936440" y="4608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36440" y="5110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36440" y="5546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6440" y="411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3644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33480" y="3633840"/>
            <a:ext cx="1324440" cy="2300760"/>
            <a:chOff x="2733480" y="3633840"/>
            <a:chExt cx="1324440" cy="2300760"/>
          </a:xfrm>
        </p:grpSpPr>
        <p:sp>
          <p:nvSpPr>
            <p:cNvPr id="205" name=""/>
            <p:cNvSpPr/>
            <p:nvPr/>
          </p:nvSpPr>
          <p:spPr>
            <a:xfrm>
              <a:off x="273348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7560" y="3633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5360" y="366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4920" y="4092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7560" y="4086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53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480" y="4584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7560" y="4578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5360" y="46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4920" y="5037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9040" y="503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5360" y="5059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480" y="5513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7560" y="5506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5360" y="553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ry Exec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160800" y="2914560"/>
            <a:ext cx="3017880" cy="502920"/>
            <a:chOff x="3160800" y="2914560"/>
            <a:chExt cx="3017880" cy="502920"/>
          </a:xfrm>
        </p:grpSpPr>
        <p:sp>
          <p:nvSpPr>
            <p:cNvPr id="222" name=""/>
            <p:cNvSpPr/>
            <p:nvPr/>
          </p:nvSpPr>
          <p:spPr>
            <a:xfrm>
              <a:off x="3467160" y="310356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60800" y="2927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293868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4520" y="324324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713560" y="29397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97280" y="29145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0228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81360" y="292716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21820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13560" y="2938320"/>
            <a:ext cx="480960" cy="2828880"/>
            <a:chOff x="5713560" y="2938320"/>
            <a:chExt cx="480960" cy="2828880"/>
          </a:xfrm>
        </p:grpSpPr>
        <p:sp>
          <p:nvSpPr>
            <p:cNvPr id="232" name=""/>
            <p:cNvSpPr/>
            <p:nvPr/>
          </p:nvSpPr>
          <p:spPr>
            <a:xfrm>
              <a:off x="5872320" y="32558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9040" y="3103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4280" y="29383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3560" y="52891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26160" y="38538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26160" y="4349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38760" y="47811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38760" y="33840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47840" y="3406680"/>
            <a:ext cx="2606760" cy="2411640"/>
            <a:chOff x="3147840" y="3406680"/>
            <a:chExt cx="2606760" cy="2411640"/>
          </a:xfrm>
        </p:grpSpPr>
        <p:sp>
          <p:nvSpPr>
            <p:cNvPr id="241" name=""/>
            <p:cNvSpPr/>
            <p:nvPr/>
          </p:nvSpPr>
          <p:spPr>
            <a:xfrm>
              <a:off x="520236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49640" y="34066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7080" y="34084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8464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73440" y="34369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2240" y="34146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0800" y="3876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97160" y="48294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1040" y="52992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840" y="576900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6120" y="4346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000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46000" y="444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46000" y="4948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46000" y="5384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9200" y="2514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480" y="3106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8120" y="2816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61720" y="5967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49960" y="596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80240" y="5967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7880" y="48387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560" y="4338720"/>
            <a:ext cx="514440" cy="4921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13431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Sales ,Time.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9280" y="2933640"/>
            <a:ext cx="685800" cy="171360"/>
          </a:xfrm>
          <a:custGeom>
            <a:avLst/>
            <a:gdLst/>
            <a:ahLst/>
            <a:rect l="l" t="t" r="r" b="b"/>
            <a:pathLst>
              <a:path w="432" h="108">
                <a:moveTo>
                  <a:pt x="0" y="108"/>
                </a:moveTo>
                <a:lnTo>
                  <a:pt x="108" y="0"/>
                </a:lnTo>
                <a:lnTo>
                  <a:pt x="432" y="0"/>
                </a:lnTo>
                <a:lnTo>
                  <a:pt x="328" y="108"/>
                </a:lnTo>
                <a:lnTo>
                  <a:pt x="0" y="108"/>
                </a:lnTo>
                <a:close/>
              </a:path>
            </a:pathLst>
          </a:custGeom>
          <a:solidFill>
            <a:srgbClr val="fb796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680" y="1708200"/>
            <a:ext cx="83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Groceries , Measures.Cost ,Time.Year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46000" y="3954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46000" y="347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686916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173400" y="3051000"/>
            <a:ext cx="3017880" cy="502920"/>
            <a:chOff x="3173400" y="3051000"/>
            <a:chExt cx="3017880" cy="502920"/>
          </a:xfrm>
        </p:grpSpPr>
        <p:sp>
          <p:nvSpPr>
            <p:cNvPr id="272" name=""/>
            <p:cNvSpPr/>
            <p:nvPr/>
          </p:nvSpPr>
          <p:spPr>
            <a:xfrm>
              <a:off x="3479760" y="3240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73400" y="3063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2040" y="3075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7120" y="3379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26160" y="3076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09880" y="3051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1488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693960" y="3063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3080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6160" y="3075120"/>
            <a:ext cx="480960" cy="2828880"/>
            <a:chOff x="5726160" y="3075120"/>
            <a:chExt cx="480960" cy="2828880"/>
          </a:xfrm>
        </p:grpSpPr>
        <p:sp>
          <p:nvSpPr>
            <p:cNvPr id="282" name=""/>
            <p:cNvSpPr/>
            <p:nvPr/>
          </p:nvSpPr>
          <p:spPr>
            <a:xfrm>
              <a:off x="5884920" y="3392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1640" y="3240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6880" y="3075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26160" y="5425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738760" y="39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738760" y="4485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751360" y="4917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51360" y="3520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160800" y="3543480"/>
            <a:ext cx="2606760" cy="2410920"/>
            <a:chOff x="3160800" y="3543480"/>
            <a:chExt cx="2606760" cy="2410920"/>
          </a:xfrm>
        </p:grpSpPr>
        <p:sp>
          <p:nvSpPr>
            <p:cNvPr id="291" name=""/>
            <p:cNvSpPr/>
            <p:nvPr/>
          </p:nvSpPr>
          <p:spPr>
            <a:xfrm>
              <a:off x="521532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62600" y="35434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0040" y="354492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9760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86400" y="35733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0" y="35510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3760" y="4013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10120" y="4965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4000" y="5435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0800" y="5905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9080" y="4483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296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687400" y="4987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0440" y="3189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52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00480" y="4975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0" y="449280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439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7880" y="5438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37200" y="534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680" y="1739880"/>
            <a:ext cx="87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2680" y="210492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5560" y="226800"/>
            <a:ext cx="73818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7360" y="1047600"/>
            <a:ext cx="8470800" cy="25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Advanced Data</a:t>
            </a:r>
            <a:br>
              <a:rPr sz="3600"/>
            </a:b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Warehousing Concept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a804"/>
                </a:solidFill>
                <a:latin typeface="Arial"/>
                <a:ea typeface="굴림"/>
              </a:rPr>
              <a:t>Session 1:</a:t>
            </a:r>
            <a:br>
              <a:rPr sz="3600"/>
            </a:br>
            <a:r>
              <a:rPr b="1" lang="en-US" sz="3400" spc="-1" strike="noStrike">
                <a:solidFill>
                  <a:srgbClr val="fca804"/>
                </a:solidFill>
                <a:latin typeface="Arial"/>
                <a:ea typeface="굴림"/>
              </a:rPr>
              <a:t>Basics Multi Dimensional eXpressions</a:t>
            </a:r>
            <a:endParaRPr b="1" lang="en-US" sz="34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7000" y="4038120"/>
            <a:ext cx="71564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우 철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컨설팅 사업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VBSQ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ddlogo" descr=""/>
          <p:cNvPicPr/>
          <p:nvPr/>
        </p:nvPicPr>
        <p:blipFill>
          <a:blip r:embed="rId2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173400" y="3078000"/>
            <a:ext cx="3017880" cy="502920"/>
            <a:chOff x="3173400" y="3078000"/>
            <a:chExt cx="3017880" cy="502920"/>
          </a:xfrm>
        </p:grpSpPr>
        <p:sp>
          <p:nvSpPr>
            <p:cNvPr id="315" name=""/>
            <p:cNvSpPr/>
            <p:nvPr/>
          </p:nvSpPr>
          <p:spPr>
            <a:xfrm>
              <a:off x="3479760" y="3267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173400" y="30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3102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7120" y="3406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26160" y="3103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09880" y="3078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1488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693960" y="3090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23080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6160" y="3102120"/>
            <a:ext cx="480960" cy="2828880"/>
            <a:chOff x="5726160" y="3102120"/>
            <a:chExt cx="480960" cy="2828880"/>
          </a:xfrm>
        </p:grpSpPr>
        <p:sp>
          <p:nvSpPr>
            <p:cNvPr id="325" name=""/>
            <p:cNvSpPr/>
            <p:nvPr/>
          </p:nvSpPr>
          <p:spPr>
            <a:xfrm>
              <a:off x="5884920" y="3419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1640" y="3267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6880" y="3102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26160" y="5452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38760" y="40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738760" y="4512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1360" y="4944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51360" y="3547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60800" y="3570120"/>
            <a:ext cx="2606760" cy="2411640"/>
            <a:chOff x="3160800" y="3570120"/>
            <a:chExt cx="2606760" cy="2411640"/>
          </a:xfrm>
        </p:grpSpPr>
        <p:sp>
          <p:nvSpPr>
            <p:cNvPr id="334" name=""/>
            <p:cNvSpPr/>
            <p:nvPr/>
          </p:nvSpPr>
          <p:spPr>
            <a:xfrm>
              <a:off x="521532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62600" y="357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0040" y="3571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9760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6400" y="3600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5200" y="3578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3760" y="4040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0120" y="4992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4000" y="5462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60800" y="5932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9080" y="4510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9296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04600" y="502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040" y="3228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668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00480" y="5002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94000" y="451944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3320" y="4424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7880" y="5465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5370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680" y="134316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87840" y="357192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348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2680" y="1708200"/>
            <a:ext cx="84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ag(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402000"/>
            <a:ext cx="685800" cy="16524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104"/>
                </a:moveTo>
                <a:lnTo>
                  <a:pt x="104" y="0"/>
                </a:lnTo>
                <a:lnTo>
                  <a:pt x="432" y="0"/>
                </a:lnTo>
                <a:lnTo>
                  <a:pt x="320" y="96"/>
                </a:lnTo>
                <a:lnTo>
                  <a:pt x="0" y="10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2680" y="2440080"/>
            <a:ext cx="85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ead(-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9720" y="2075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2680" y="226800"/>
            <a:ext cx="8942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alculated Member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중요한 기능으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복잡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usiness logi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해결할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is the syntax for calculate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tatements – tools, query generators, develop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 – DBA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ower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770120" y="3097080"/>
            <a:ext cx="3017880" cy="502920"/>
            <a:chOff x="1770120" y="3097080"/>
            <a:chExt cx="3017880" cy="502920"/>
          </a:xfrm>
        </p:grpSpPr>
        <p:sp>
          <p:nvSpPr>
            <p:cNvPr id="366" name=""/>
            <p:cNvSpPr/>
            <p:nvPr/>
          </p:nvSpPr>
          <p:spPr>
            <a:xfrm>
              <a:off x="207648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7012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876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2384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32288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0660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11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9068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82752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322880" y="3121200"/>
            <a:ext cx="480960" cy="2828880"/>
            <a:chOff x="4322880" y="3121200"/>
            <a:chExt cx="480960" cy="2828880"/>
          </a:xfrm>
        </p:grpSpPr>
        <p:sp>
          <p:nvSpPr>
            <p:cNvPr id="376" name=""/>
            <p:cNvSpPr/>
            <p:nvPr/>
          </p:nvSpPr>
          <p:spPr>
            <a:xfrm>
              <a:off x="448164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836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360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32288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3548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33548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4808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4808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7520" y="3589200"/>
            <a:ext cx="2606040" cy="2411640"/>
            <a:chOff x="1757520" y="3589200"/>
            <a:chExt cx="2606040" cy="2411640"/>
          </a:xfrm>
        </p:grpSpPr>
        <p:sp>
          <p:nvSpPr>
            <p:cNvPr id="385" name=""/>
            <p:cNvSpPr/>
            <p:nvPr/>
          </p:nvSpPr>
          <p:spPr>
            <a:xfrm>
              <a:off x="381168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896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640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39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276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012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648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036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752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544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3788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3788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3788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3852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8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244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7104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5928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992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3788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788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680" y="227160"/>
            <a:ext cx="7124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834560" y="3625920"/>
            <a:ext cx="1324440" cy="2300760"/>
            <a:chOff x="1834560" y="3625920"/>
            <a:chExt cx="1324440" cy="2300760"/>
          </a:xfrm>
        </p:grpSpPr>
        <p:sp>
          <p:nvSpPr>
            <p:cNvPr id="410" name=""/>
            <p:cNvSpPr/>
            <p:nvPr/>
          </p:nvSpPr>
          <p:spPr>
            <a:xfrm>
              <a:off x="183456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900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3644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636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900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3644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456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900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3644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636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9048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3644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456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900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3644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4648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03720" y="3592440"/>
            <a:ext cx="49500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84760" y="3171960"/>
            <a:ext cx="3107880" cy="1867680"/>
            <a:chOff x="3884760" y="3171960"/>
            <a:chExt cx="3107880" cy="1867680"/>
          </a:xfrm>
        </p:grpSpPr>
        <p:sp>
          <p:nvSpPr>
            <p:cNvPr id="428" name=""/>
            <p:cNvSpPr/>
            <p:nvPr/>
          </p:nvSpPr>
          <p:spPr>
            <a:xfrm>
              <a:off x="3884760" y="3879720"/>
              <a:ext cx="91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764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97440" y="45799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p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323880" y="363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0560" y="226800"/>
            <a:ext cx="287316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94000" y="407844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62200" y="3097080"/>
            <a:ext cx="3017880" cy="502920"/>
            <a:chOff x="1762200" y="3097080"/>
            <a:chExt cx="3017880" cy="502920"/>
          </a:xfrm>
        </p:grpSpPr>
        <p:sp>
          <p:nvSpPr>
            <p:cNvPr id="437" name=""/>
            <p:cNvSpPr/>
            <p:nvPr/>
          </p:nvSpPr>
          <p:spPr>
            <a:xfrm>
              <a:off x="206856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76220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2084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1592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1496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9868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80368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8276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9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314960" y="3121200"/>
            <a:ext cx="480960" cy="2828880"/>
            <a:chOff x="4314960" y="3121200"/>
            <a:chExt cx="480960" cy="2828880"/>
          </a:xfrm>
        </p:grpSpPr>
        <p:sp>
          <p:nvSpPr>
            <p:cNvPr id="447" name=""/>
            <p:cNvSpPr/>
            <p:nvPr/>
          </p:nvSpPr>
          <p:spPr>
            <a:xfrm>
              <a:off x="447372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044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6568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31496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32756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2756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4016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34016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749600" y="3589200"/>
            <a:ext cx="2606040" cy="2411640"/>
            <a:chOff x="1749600" y="3589200"/>
            <a:chExt cx="2606040" cy="2411640"/>
          </a:xfrm>
        </p:grpSpPr>
        <p:sp>
          <p:nvSpPr>
            <p:cNvPr id="456" name=""/>
            <p:cNvSpPr/>
            <p:nvPr/>
          </p:nvSpPr>
          <p:spPr>
            <a:xfrm>
              <a:off x="38037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104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848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604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484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36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6220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9856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9244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4960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752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140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02996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996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996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3060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056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2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6312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36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8200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2996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2996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680" y="227160"/>
            <a:ext cx="717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3856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81520" y="3171960"/>
            <a:ext cx="3168720" cy="1867680"/>
            <a:chOff x="3881520" y="3171960"/>
            <a:chExt cx="3168720" cy="1867680"/>
          </a:xfrm>
        </p:grpSpPr>
        <p:sp>
          <p:nvSpPr>
            <p:cNvPr id="482" name=""/>
            <p:cNvSpPr/>
            <p:nvPr/>
          </p:nvSpPr>
          <p:spPr>
            <a:xfrm>
              <a:off x="3881520" y="433368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340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408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279600" y="365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494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51960" y="27907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52080" y="42210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826640" y="3625920"/>
            <a:ext cx="1324440" cy="2300760"/>
            <a:chOff x="1826640" y="3625920"/>
            <a:chExt cx="1324440" cy="2300760"/>
          </a:xfrm>
        </p:grpSpPr>
        <p:sp>
          <p:nvSpPr>
            <p:cNvPr id="490" name=""/>
            <p:cNvSpPr/>
            <p:nvPr/>
          </p:nvSpPr>
          <p:spPr>
            <a:xfrm>
              <a:off x="182664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4108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2852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2844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108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52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664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852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844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56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52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664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108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2852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54560" y="226800"/>
            <a:ext cx="281952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301920" y="45435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508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518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527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84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680" y="227160"/>
            <a:ext cx="7164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4760" y="3171960"/>
            <a:ext cx="3168720" cy="1867680"/>
            <a:chOff x="3884760" y="3171960"/>
            <a:chExt cx="3168720" cy="1867680"/>
          </a:xfrm>
        </p:grpSpPr>
        <p:sp>
          <p:nvSpPr>
            <p:cNvPr id="555" name=""/>
            <p:cNvSpPr/>
            <p:nvPr/>
          </p:nvSpPr>
          <p:spPr>
            <a:xfrm>
              <a:off x="3884760" y="4822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504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8112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562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56240" y="226800"/>
            <a:ext cx="251784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292560" y="5019840"/>
            <a:ext cx="5205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773360" y="3095640"/>
            <a:ext cx="3017880" cy="502920"/>
            <a:chOff x="1773360" y="3095640"/>
            <a:chExt cx="3017880" cy="502920"/>
          </a:xfrm>
        </p:grpSpPr>
        <p:sp>
          <p:nvSpPr>
            <p:cNvPr id="580" name=""/>
            <p:cNvSpPr/>
            <p:nvPr/>
          </p:nvSpPr>
          <p:spPr>
            <a:xfrm>
              <a:off x="207972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77336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200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2708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32612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30984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81484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29392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83076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325760" y="3119400"/>
            <a:ext cx="480960" cy="2828880"/>
            <a:chOff x="4325760" y="3119400"/>
            <a:chExt cx="480960" cy="2828880"/>
          </a:xfrm>
        </p:grpSpPr>
        <p:sp>
          <p:nvSpPr>
            <p:cNvPr id="590" name=""/>
            <p:cNvSpPr/>
            <p:nvPr/>
          </p:nvSpPr>
          <p:spPr>
            <a:xfrm>
              <a:off x="448452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124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7648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32576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33836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33836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5096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35096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760400" y="3587760"/>
            <a:ext cx="2606760" cy="2410920"/>
            <a:chOff x="1760400" y="3587760"/>
            <a:chExt cx="2606760" cy="2410920"/>
          </a:xfrm>
        </p:grpSpPr>
        <p:sp>
          <p:nvSpPr>
            <p:cNvPr id="599" name=""/>
            <p:cNvSpPr/>
            <p:nvPr/>
          </p:nvSpPr>
          <p:spPr>
            <a:xfrm>
              <a:off x="38149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62200" y="35877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1964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9720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600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7480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73360" y="40575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09720" y="501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03600" y="54799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0400" y="594972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68680" y="45273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925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112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4112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4112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176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172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568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428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6252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9280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4112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4112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2680" y="227160"/>
            <a:ext cx="7110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972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884760" y="3171960"/>
            <a:ext cx="3168720" cy="2122200"/>
            <a:chOff x="3884760" y="3171960"/>
            <a:chExt cx="3168720" cy="2122200"/>
          </a:xfrm>
        </p:grpSpPr>
        <p:sp>
          <p:nvSpPr>
            <p:cNvPr id="625" name=""/>
            <p:cNvSpPr/>
            <p:nvPr/>
          </p:nvSpPr>
          <p:spPr>
            <a:xfrm>
              <a:off x="3884760" y="52941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9040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6060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6204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204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837800" y="3624120"/>
            <a:ext cx="1324440" cy="2300760"/>
            <a:chOff x="1837800" y="3624120"/>
            <a:chExt cx="1324440" cy="2300760"/>
          </a:xfrm>
        </p:grpSpPr>
        <p:sp>
          <p:nvSpPr>
            <p:cNvPr id="635" name=""/>
            <p:cNvSpPr/>
            <p:nvPr/>
          </p:nvSpPr>
          <p:spPr>
            <a:xfrm>
              <a:off x="183780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5224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3968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3960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224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968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780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5224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3968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3960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372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968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3780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5224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3968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51040" y="226800"/>
            <a:ext cx="27226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301920" y="5491080"/>
            <a:ext cx="5079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653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663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672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8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2680" y="227160"/>
            <a:ext cx="7068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884760" y="3171960"/>
            <a:ext cx="3168720" cy="2541600"/>
            <a:chOff x="3884760" y="3171960"/>
            <a:chExt cx="3168720" cy="2541600"/>
          </a:xfrm>
        </p:grpSpPr>
        <p:sp>
          <p:nvSpPr>
            <p:cNvPr id="698" name=""/>
            <p:cNvSpPr/>
            <p:nvPr/>
          </p:nvSpPr>
          <p:spPr>
            <a:xfrm>
              <a:off x="3884760" y="5713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37320" y="45802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736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916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916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59160" y="548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709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319440" y="226800"/>
            <a:ext cx="26542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GetCellValue(CurrentCell)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4880" y="3414600"/>
            <a:ext cx="4664160" cy="31147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sult = L -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00680" y="301788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00680" y="154620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9280" y="1571760"/>
            <a:ext cx="3246480" cy="38088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6680" y="1978200"/>
            <a:ext cx="3340080" cy="833400"/>
            <a:chOff x="166680" y="1978200"/>
            <a:chExt cx="3340080" cy="833400"/>
          </a:xfrm>
        </p:grpSpPr>
        <p:sp>
          <p:nvSpPr>
            <p:cNvPr id="731" name=""/>
            <p:cNvSpPr/>
            <p:nvPr/>
          </p:nvSpPr>
          <p:spPr>
            <a:xfrm>
              <a:off x="287280" y="2389320"/>
              <a:ext cx="3219480" cy="422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6680" y="2266920"/>
              <a:ext cx="3246480" cy="4366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Formul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87400" y="1978200"/>
              <a:ext cx="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535200" y="2198520"/>
            <a:ext cx="1674720" cy="312840"/>
            <a:chOff x="3535200" y="2198520"/>
            <a:chExt cx="1674720" cy="312840"/>
          </a:xfrm>
        </p:grpSpPr>
        <p:sp>
          <p:nvSpPr>
            <p:cNvPr id="735" name=""/>
            <p:cNvSpPr/>
            <p:nvPr/>
          </p:nvSpPr>
          <p:spPr>
            <a:xfrm>
              <a:off x="3535200" y="2511360"/>
              <a:ext cx="16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1680" y="219852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No: Return 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95280" y="2825640"/>
            <a:ext cx="4971960" cy="574920"/>
            <a:chOff x="395280" y="2825640"/>
            <a:chExt cx="4971960" cy="574920"/>
          </a:xfrm>
        </p:grpSpPr>
        <p:sp>
          <p:nvSpPr>
            <p:cNvPr id="738" name=""/>
            <p:cNvSpPr/>
            <p:nvPr/>
          </p:nvSpPr>
          <p:spPr>
            <a:xfrm>
              <a:off x="701640" y="3032280"/>
              <a:ext cx="4665600" cy="368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Calculate(CurrentCell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95280" y="2825640"/>
              <a:ext cx="299880" cy="395280"/>
              <a:chOff x="395280" y="2825640"/>
              <a:chExt cx="299880" cy="395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95280" y="2825640"/>
                <a:ext cx="0" cy="39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5280" y="3220920"/>
                <a:ext cx="29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5800680" y="3444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00680" y="37479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00680" y="434808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00680" y="46227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00680" y="4938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00680" y="583884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00680" y="5483160"/>
            <a:ext cx="31780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 = Sales in 97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00680" y="401148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 = Sales in 98 of Clo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00680" y="619596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Growth in 98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8840" y="1692360"/>
            <a:ext cx="1980000" cy="2525760"/>
            <a:chOff x="3588840" y="1692360"/>
            <a:chExt cx="1980000" cy="2525760"/>
          </a:xfrm>
        </p:grpSpPr>
        <p:sp>
          <p:nvSpPr>
            <p:cNvPr id="752" name=""/>
            <p:cNvSpPr/>
            <p:nvPr/>
          </p:nvSpPr>
          <p:spPr>
            <a:xfrm>
              <a:off x="5349960" y="4216320"/>
              <a:ext cx="218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568840" y="1706400"/>
              <a:ext cx="0" cy="250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588840" y="1692360"/>
              <a:ext cx="19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48160" y="1677960"/>
            <a:ext cx="2047680" cy="4081320"/>
            <a:chOff x="3548160" y="1677960"/>
            <a:chExt cx="2047680" cy="4081320"/>
          </a:xfrm>
        </p:grpSpPr>
        <p:sp>
          <p:nvSpPr>
            <p:cNvPr id="756" name=""/>
            <p:cNvSpPr/>
            <p:nvPr/>
          </p:nvSpPr>
          <p:spPr>
            <a:xfrm>
              <a:off x="5349960" y="5759280"/>
              <a:ext cx="24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5581440" y="1692360"/>
              <a:ext cx="14040" cy="405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548160" y="1677960"/>
              <a:ext cx="2047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186520" y="235908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94440" y="232740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44920" y="1035000"/>
            <a:ext cx="4533840" cy="10998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,Time.CurrentMember) 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Sales,Time.CurrentMember.Prev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1480" y="402588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=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480" y="548496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=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23000" y="6146640"/>
            <a:ext cx="1541520" cy="34164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-R=29-22=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2680" y="180036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기간 대비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5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6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,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대비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2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2680" y="3052800"/>
            <a:ext cx="85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년도 기간 대비 동기간의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1998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999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2680" y="454176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초부터의 누적 판매실적은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67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ca304"/>
                </a:solidFill>
                <a:latin typeface="Arial"/>
                <a:ea typeface="굴림"/>
              </a:rPr>
              <a:t>“</a:t>
            </a: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It’s Just A Question Of Time ….”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769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581280" y="2892600"/>
            <a:ext cx="1067040" cy="30456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609480" y="1444680"/>
          <a:ext cx="10293480" cy="55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468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 flipH="1" flipV="1">
            <a:off x="3809160" y="2358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809160" y="2586960"/>
            <a:ext cx="435240" cy="615960"/>
          </a:xfrm>
          <a:custGeom>
            <a:avLst/>
            <a:gdLst>
              <a:gd name="textAreaLeft" fmla="*/ 58320 w 435240"/>
              <a:gd name="textAreaRight" fmla="*/ 376920 w 435240"/>
              <a:gd name="textAreaTop" fmla="*/ 107280 h 615960"/>
              <a:gd name="textAreaBottom" fmla="*/ 44640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809160" y="3501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09160" y="3806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160" y="4644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809160" y="4949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3809160" y="58636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809160" y="616824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809160" y="2892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209680" y="2510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09160" y="4035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3809160" y="5253840"/>
            <a:ext cx="381240" cy="83844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2209680" y="3653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2209680" y="4796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9400" y="2587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9400" y="5178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638680" y="5483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39400" y="578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9400" y="609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39760" y="639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730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39400" y="4035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3401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38680" y="4645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39760" y="495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9400" y="281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639400" y="312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3940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7360" y="226800"/>
            <a:ext cx="719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hat will you hear about today?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2320" y="1251000"/>
            <a:ext cx="84582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at is MDX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Bas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Que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olving Business Problems with MD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ception floa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rket baske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orking with virtual cub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urrency conver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0" y="2438280"/>
          <a:ext cx="10293480" cy="558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102934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5181480" y="32767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220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22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2200" y="29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05520" y="327672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8280" y="42670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  <a:ea typeface="굴림"/>
              </a:rPr>
              <a:t>Time.CurrentMember, Measures.Current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14800" y="2971800"/>
            <a:ext cx="60948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3276720"/>
            <a:ext cx="60948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86400" y="51055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굴림"/>
              </a:rPr>
              <a:t>Time.CurrentMembe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0560" y="59436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Time.CurrentMember.PrevMember, 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248520" y="4419720"/>
            <a:ext cx="1636560" cy="1004760"/>
            <a:chOff x="6248520" y="4419720"/>
            <a:chExt cx="1636560" cy="1004760"/>
          </a:xfrm>
        </p:grpSpPr>
        <p:grpSp>
          <p:nvGrpSpPr>
            <p:cNvPr id="817" name=""/>
            <p:cNvGrpSpPr/>
            <p:nvPr/>
          </p:nvGrpSpPr>
          <p:grpSpPr>
            <a:xfrm>
              <a:off x="7391520" y="4419720"/>
              <a:ext cx="493560" cy="242640"/>
              <a:chOff x="7391520" y="4419720"/>
              <a:chExt cx="493560" cy="242640"/>
            </a:xfrm>
          </p:grpSpPr>
          <p:sp>
            <p:nvSpPr>
              <p:cNvPr id="818" name=""/>
              <p:cNvSpPr/>
              <p:nvPr/>
            </p:nvSpPr>
            <p:spPr>
              <a:xfrm>
                <a:off x="7391520" y="441972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91520" y="457200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248520" y="533412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4876920" y="3657600"/>
            <a:ext cx="304560" cy="6858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809520" y="3733920"/>
            <a:ext cx="685800" cy="1523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437920" y="3200400"/>
            <a:ext cx="1676520" cy="2819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309600" y="1706400"/>
          <a:ext cx="1016784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1706400"/>
                    <a:ext cx="1016784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895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95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1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4852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670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81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4852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3657600" y="20876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3657600" y="3153600"/>
            <a:ext cx="838080" cy="259092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1980360" y="22392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980360" y="330588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33160" y="25448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116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11160" y="5516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11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35560" y="5288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-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6121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655560" y="1509840"/>
          <a:ext cx="10167840" cy="49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509840"/>
                    <a:ext cx="1016784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243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43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48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29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592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148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29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9592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58920" y="425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1320" y="6111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Measures,Sales,Time.CurrentMember)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05560" y="418140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38520" y="2048040"/>
            <a:ext cx="60984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4181400"/>
            <a:ext cx="60984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1680" y="6400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Measures.Sales,ParallelPeriod(Year,1,Time.CurrentMember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85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593640" y="1374840"/>
          <a:ext cx="10293480" cy="558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137484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4251240" y="244152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27360" y="2441520"/>
            <a:ext cx="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29280" cy="96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839880" y="1440000"/>
          <a:ext cx="9523440" cy="537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440000"/>
                    <a:ext cx="95234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>
            <a:off x="371160" y="5713560"/>
            <a:ext cx="585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CurrentMember,Measures.Sales)</a:t>
            </a: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 + (Measures.YTD,Time.CurrentMember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4760" y="57117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Sum(YTD(Time.CurrentMember),S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5040" y="4724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Ma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5400" y="40384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Feb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5040" y="3352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Jan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681200" y="5357880"/>
            <a:ext cx="493560" cy="242640"/>
            <a:chOff x="1681200" y="5357880"/>
            <a:chExt cx="493560" cy="242640"/>
          </a:xfrm>
        </p:grpSpPr>
        <p:sp>
          <p:nvSpPr>
            <p:cNvPr id="880" name=""/>
            <p:cNvSpPr/>
            <p:nvPr/>
          </p:nvSpPr>
          <p:spPr>
            <a:xfrm>
              <a:off x="1681200" y="535788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81200" y="551016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678320" y="3581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8320" y="4267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95760" y="1135080"/>
            <a:ext cx="72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Y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125360" y="374760"/>
            <a:ext cx="70153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Navigating In The Hierarch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(The Family Tre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2225520" y="2733840"/>
            <a:ext cx="4583160" cy="339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8" name=""/>
          <p:cNvGraphicFramePr/>
          <p:nvPr/>
        </p:nvGraphicFramePr>
        <p:xfrm>
          <a:off x="590400" y="1681200"/>
          <a:ext cx="77536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681200"/>
                    <a:ext cx="77536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2649600" y="258768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24440" y="1579680"/>
            <a:ext cx="898560" cy="75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59680" y="2563920"/>
            <a:ext cx="89820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00240" y="1863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21280" y="186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8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Paren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"/>
          <p:cNvGraphicFramePr/>
          <p:nvPr/>
        </p:nvGraphicFramePr>
        <p:xfrm>
          <a:off x="851040" y="1157400"/>
          <a:ext cx="775332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57400"/>
                    <a:ext cx="775332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61960" y="133992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FirstChi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52680" y="3032280"/>
            <a:ext cx="898560" cy="75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1040" y="1160640"/>
          <a:ext cx="775332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60640"/>
                    <a:ext cx="77533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61960" y="133992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Chil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Quart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ession Prerequisit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ional Database Exper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QL Server 7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ata Warehou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nline Analytical Processing (OLAP)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ubes, Dimensions, Members, Fact Tables, and Dimension T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843120" y="1154160"/>
          <a:ext cx="7770600" cy="35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4160"/>
                    <a:ext cx="7770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7400" y="4021200"/>
            <a:ext cx="553896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843120" y="1157400"/>
          <a:ext cx="777060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7400"/>
                    <a:ext cx="77706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1535040" y="305100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Q1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400" y="4021200"/>
            <a:ext cx="275112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619200" y="405756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Jan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1200" y="3913200"/>
            <a:ext cx="1109520" cy="10238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Inventory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전 시점의 재고 자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ducts: All Products,  Family, Category,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Warehouses: All, Ware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ime: Year, Quarter,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Meas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Quantity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alue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he problem: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해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이전시점에 대해 적당치 않을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4" name=""/>
          <p:cNvGraphicFramePr/>
          <p:nvPr/>
        </p:nvGraphicFramePr>
        <p:xfrm>
          <a:off x="1257480" y="988920"/>
          <a:ext cx="1028988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988920"/>
                    <a:ext cx="1028988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"/>
          <p:cNvSpPr/>
          <p:nvPr/>
        </p:nvSpPr>
        <p:spPr>
          <a:xfrm>
            <a:off x="3832560" y="39852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blem: Inventory is not an additive value 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7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 txBox="1"/>
          <p:nvPr/>
        </p:nvSpPr>
        <p:spPr>
          <a:xfrm>
            <a:off x="4524480" y="125568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465800" y="158580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18000" y="273060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00720" y="507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59320" y="390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5920" y="228240"/>
            <a:ext cx="7449840" cy="58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a304"/>
                </a:solidFill>
                <a:latin typeface="Arial"/>
                <a:ea typeface="굴림"/>
              </a:rPr>
              <a:t>Inventory …….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s…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153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평균 수량과 재고량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기초 기말 값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최고 최저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Level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을 표현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재고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의 분담량을 전체 재고량으로 처리시 문제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2680" y="3994200"/>
            <a:ext cx="8286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vg( Descendants([Time].CurrentMember,[Month]), Quant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18920" y="12430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기간의 각월 수량 합계를 기간의 월수로 나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114120" y="216540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 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9520" y="3079800"/>
            <a:ext cx="85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Descendants([Time].CurrentMember,[Month])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Descendants([Time].CurrentMember,[Month]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Average Over Tim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losing Balanc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423720" y="125100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969840" y="2165400"/>
            <a:ext cx="109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months contained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4040" y="307980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item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(Descendants([Time].CurrentMember, [Month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2240" y="39942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ail(Descendants([Time].CurrentMember, [Month]),1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5120" y="4908600"/>
            <a:ext cx="56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ClosingPeriod([Month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7" name=""/>
          <p:cNvGraphicFramePr/>
          <p:nvPr/>
        </p:nvGraphicFramePr>
        <p:xfrm>
          <a:off x="2133720" y="1092240"/>
          <a:ext cx="1029312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92240"/>
                    <a:ext cx="1029312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9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H="1" flipV="1">
            <a:off x="5790600" y="152316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181480" y="1523880"/>
            <a:ext cx="564840" cy="3904200"/>
            <a:chOff x="5181480" y="1523880"/>
            <a:chExt cx="564840" cy="3904200"/>
          </a:xfrm>
        </p:grpSpPr>
        <p:sp>
          <p:nvSpPr>
            <p:cNvPr id="962" name=""/>
            <p:cNvSpPr/>
            <p:nvPr/>
          </p:nvSpPr>
          <p:spPr>
            <a:xfrm>
              <a:off x="5182200" y="15238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2200" y="2743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2200" y="3886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81480" y="50292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10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 flipH="1" flipV="1">
            <a:off x="5867280" y="837360"/>
            <a:ext cx="1828800" cy="533412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150560 h 5334120"/>
              <a:gd name="textAreaBottom" fmla="*/ 362484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8" stAng="-5400000" swAng="-5400000"/>
                <a:lnTo>
                  <a:pt x="0" y="10019"/>
                </a:lnTo>
                <a:arcTo wR="21600" hR="9318" stAng="10800000" swAng="-3758061"/>
                <a:lnTo>
                  <a:pt x="16893" y="21376"/>
                </a:lnTo>
                <a:lnTo>
                  <a:pt x="21600" y="18987"/>
                </a:lnTo>
                <a:lnTo>
                  <a:pt x="16893" y="16149"/>
                </a:lnTo>
                <a:lnTo>
                  <a:pt x="16893" y="18412"/>
                </a:lnTo>
                <a:arcTo wR="21600" hR="9318" stAng="7041939" swAng="3702243"/>
                <a:lnTo>
                  <a:pt x="15" y="9669"/>
                </a:lnTo>
                <a:arcTo wR="21600" hR="9318" stAng="-10744182" swAng="5344182"/>
                <a:close/>
              </a:path>
              <a:path fill="darkenLess" w="21600" h="21600">
                <a:moveTo>
                  <a:pt x="21600" y="0"/>
                </a:moveTo>
                <a:arcTo wR="21600" hR="9318" stAng="-5400000" swAng="-5400000"/>
                <a:lnTo>
                  <a:pt x="0" y="9318"/>
                </a:lnTo>
                <a:arcTo wR="21600" hR="9318" stAng="10800000" swAng="-55818"/>
                <a:lnTo>
                  <a:pt x="15" y="9669"/>
                </a:lnTo>
                <a:arcTo wR="21600" hR="9318" stAng="-10744182" swAng="5344182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3280" y="121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66ff"/>
                </a:solidFill>
                <a:latin typeface="Times New Roman"/>
                <a:ea typeface="굴림"/>
              </a:rPr>
              <a:t>1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123280" y="6461280"/>
            <a:ext cx="37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Inventory,ClosingPeriod(Month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747396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Closing Period Inventory Value…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aximum Inventory Level In A Time Spa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7360" y="2430000"/>
            <a:ext cx="651672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Maximum Inventory Value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2680" y="2714760"/>
            <a:ext cx="7905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x(Descendants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CurrentMember,Time.Month)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자는 방대한 데이터의 정보로 부터 신속하고 의미있는 자료를 제공받고 정확한 의사 결정을 할수 있기를 원한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합계된 데이터로 모든 분석이 가능한것은 아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과거 재고자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성장율 등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elative Contrib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765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 Contribution to Total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2680" y="2743200"/>
            <a:ext cx="716256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 /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s.[All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arehouse.[All Warehous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anking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2680" y="124308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ategory</a:t>
            </a: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내에서 각 상품의 판매 순위</a:t>
            </a:r>
            <a:r>
              <a:rPr b="0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Rank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718920" y="2165400"/>
            <a:ext cx="92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urrent produc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 ordered by s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-325440" y="307980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2680" y="3994200"/>
            <a:ext cx="876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roducts.CurrentMember.Parent.Child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777240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stions &amp; Answer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2101680" y="1768320"/>
            <a:ext cx="4962600" cy="265428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09680" y="4632480"/>
            <a:ext cx="55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WW.VBSQL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signou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0" y="2647800"/>
            <a:ext cx="91440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굴림"/>
                <a:ea typeface="굴림"/>
              </a:rPr>
              <a:t>Where do you want to go today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6" name="ddlogo" descr=""/>
          <p:cNvPicPr/>
          <p:nvPr/>
        </p:nvPicPr>
        <p:blipFill>
          <a:blip r:embed="rId3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Microsoft Sol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680" y="1251000"/>
            <a:ext cx="7772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tend the Data Services with OL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aster que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sisten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을 위한 복잡한 질의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를 통해 해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복잡한 공식을 해결하기 위한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unction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제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편리성 제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102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1395360" y="2352600"/>
            <a:ext cx="6454800" cy="380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70040" y="30697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tern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2280" y="25693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3880" y="2074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326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600" y="47732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i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2680" y="1525320"/>
            <a:ext cx="84564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mputing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단순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된 계층간의 통합되고 혁신적인 상호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여러 계층에서 같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bject mode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유용하고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o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Language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혼합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전체적인 접근방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Holistic approc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op%20(2)" descr=""/>
          <p:cNvPicPr/>
          <p:nvPr/>
        </p:nvPicPr>
        <p:blipFill>
          <a:blip r:embed="rId2"/>
          <a:srcRect l="14517" t="27055" r="6843" b="0"/>
          <a:stretch/>
        </p:blipFill>
        <p:spPr>
          <a:xfrm>
            <a:off x="4552920" y="3807000"/>
            <a:ext cx="429408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opdata" descr=""/>
          <p:cNvPicPr/>
          <p:nvPr/>
        </p:nvPicPr>
        <p:blipFill>
          <a:blip r:embed="rId2"/>
          <a:stretch/>
        </p:blipFill>
        <p:spPr>
          <a:xfrm>
            <a:off x="6473880" y="13824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Data Service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360" y="18871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ADO: 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통일되고 단순한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LE DB:  universal data provi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XML: standards-based 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epresentation and mod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81080"/>
            <a:ext cx="7707600" cy="4674960"/>
            <a:chOff x="1143000" y="1981080"/>
            <a:chExt cx="7707600" cy="4674960"/>
          </a:xfrm>
        </p:grpSpPr>
        <p:pic>
          <p:nvPicPr>
            <p:cNvPr id="115" name="data" descr=""/>
            <p:cNvPicPr/>
            <p:nvPr/>
          </p:nvPicPr>
          <p:blipFill>
            <a:blip r:embed="rId3"/>
            <a:stretch/>
          </p:blipFill>
          <p:spPr>
            <a:xfrm>
              <a:off x="1143000" y="1981080"/>
              <a:ext cx="7326360" cy="46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97280" y="223704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ainfr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0920" y="29628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ire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7560" y="37040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RDB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4640" y="425628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ail 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1400" y="498204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0200" y="4835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1840" y="5364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OLE 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9360" y="5060520"/>
              <a:ext cx="98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6480" y="5052600"/>
              <a:ext cx="69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4485960"/>
              <a:ext cx="0" cy="59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6040" y="5616360"/>
              <a:ext cx="739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63960" y="5424120"/>
              <a:ext cx="0" cy="21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14800" y="5595840"/>
              <a:ext cx="567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9720" y="4741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9960" y="3476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8840" y="3693960"/>
              <a:ext cx="466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2120" y="3678120"/>
              <a:ext cx="4680" cy="33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70280" y="3684240"/>
              <a:ext cx="1119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3520" y="368892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24T22:02:54Z</dcterms:created>
  <dc:creator>Ellen Moos</dc:creator>
  <dc:description/>
  <dc:language>en-US</dc:language>
  <cp:lastModifiedBy>Woo Choul Woong</cp:lastModifiedBy>
  <cp:lastPrinted>1999-06-07T20:17:19Z</cp:lastPrinted>
  <dcterms:modified xsi:type="dcterms:W3CDTF">1999-10-20T02:35:28Z</dcterms:modified>
  <cp:revision>293</cp:revision>
  <dc:subject/>
  <dc:title>Slide Title</dc:title>
</cp:coreProperties>
</file>