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16B0-1A32-4030-A8FA-015137409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41EA-DFA2-4D80-8584-4FD682F66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09A2-4ACD-4E89-B775-88585BFC3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5C45-D041-491B-A9A7-20FA22B89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ED95B-19CF-42BD-98BF-E41340D1B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4AD0C-2CFD-425B-AF36-250575210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6BB25-BEE4-47BD-8F34-92DB0FB8E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64965-FE65-4072-99AC-E54A1D521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9BFB9-BB81-478E-A47C-BA9B37743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6E892-FC75-42CC-9775-58C0D3ACB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D72BD-339A-4052-B47F-32911C33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96EE-2729-48C4-8A0F-197F85CF8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1A923-A5DA-4367-9969-6D11021EC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DA502-A9F2-4335-9760-46A71667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AF96E-44D8-4892-B3FD-CF2388A25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C1900-E377-46A7-817E-8EF9A8B69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64CEF-B7C7-4D4A-98E1-C6E679092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8290-8D3F-47AC-B1C9-AF405AD66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7A8C-E64E-4C58-875D-2797161A1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651D-0732-4E37-936A-B99526C80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C9C0-760B-4D7A-B7C2-9DC9BB2F6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A967-30C6-4D66-8FAB-8C837C70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F836-A22E-4616-A0A8-E5083CD0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5981-6CD4-44E3-AF21-8C78E67C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3DC1E-1D84-4A54-BDD8-54D6E01343EA}" type="datetime3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2026년 7월 29일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51898-A961-4F98-9E82-E73C4BA87FED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EA052-E0EB-4850-B38F-D06A2C68EA9E}" type="datetime3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2026년 7월 29일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A417-FC77-4DE7-B860-3FC5100B36C9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toc.org/" TargetMode="External"/><Relationship Id="rId2" Type="http://schemas.openxmlformats.org/officeDocument/2006/relationships/hyperlink" Target="http://www.toc.org/" TargetMode="External"/><Relationship Id="rId3" Type="http://schemas.openxmlformats.org/officeDocument/2006/relationships/hyperlink" Target="http://www.toc.org/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제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7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장</a:t>
            </a:r>
            <a:br>
              <a:rPr sz="5400"/>
            </a:b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하드웨어와 데이터 웨어하우스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굴림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4952520"/>
            <a:ext cx="8305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ong Soo P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park@cs.sungshin.ac.k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0B2A-51BC-45D8-ACC1-604AAA2C0B0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173874-9CB6-47DC-BBB2-73CAF90A97A5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2.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와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B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지원하는 데이터베이스의 방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특정한 하드웨어에만 사용되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용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하드웨어에 사용되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용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하드웨어에 사용되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능을 포함하는 범용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개방형 컴퓨터 기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하드웨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E84A-369F-4ED1-87B4-F29003758D1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0BF886-C980-4750-A1CE-8CB48A25EE0A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를 지원하는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B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기능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1/2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artition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한 테이블의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ow(tuple)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가 수억 건 이상 되는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파티션과 인덱스 파티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파티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tatic partition and hash part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tar query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o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가 적은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tabl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부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join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하여 최종적으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act tabl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과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join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하는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축시 꼭 필요하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9E17-E062-4C02-B3A3-6811687112C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7D5598-6EF6-4839-BB08-94EBF1091118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를 지원하는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B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기능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2/2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Bitmap ind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빠르고 인덱스 테이블도 작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arallel Loading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는 한꺼번에 많은 데이터를 로딩할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ortable table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운영 시스템의 테이블을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서버에서 바로 데이터베이스에 사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Loadable Table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데이터베이스에 있는 기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0985-6E95-48B2-B5C8-F5A7257E545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EE8CA2-54EB-4D0C-BF27-33655D5369C2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3.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TPC-D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벤치 마크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PC(Transaction Processing Performance Counci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굴림"/>
                <a:hlinkClick r:id="rId1"/>
              </a:rPr>
              <a:t>www.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굴림"/>
                <a:hlinkClick r:id="rId2"/>
              </a:rPr>
              <a:t>tpc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굴림"/>
                <a:hlinkClick r:id="rId3"/>
              </a:rPr>
              <a:t>.or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Verdana"/>
                <a:ea typeface="굴림"/>
              </a:rPr>
              <a:t>TPC-D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 represents a broad range of decision support (DS) applications that require complex, long running queries against large complex data structures. (</a:t>
            </a:r>
            <a:r>
              <a:rPr b="0" i="1" lang="en-US" sz="2400" spc="-1" strike="noStrike">
                <a:solidFill>
                  <a:srgbClr val="3333cc"/>
                </a:solidFill>
                <a:latin typeface="Verdana"/>
                <a:ea typeface="굴림"/>
              </a:rPr>
              <a:t>Obsolete as of 4/6/99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6082-A77F-47D7-9F1D-2AC10E5CB81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E706D6-647E-43BD-83F9-373096014D77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TPC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  <a:ea typeface="굴림"/>
              </a:rPr>
              <a:t>TPC-C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  <a:ea typeface="굴림"/>
              </a:rPr>
              <a:t> is an on-line transaction processing benchmark, Version 5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  <a:ea typeface="굴림"/>
              </a:rPr>
              <a:t>TPC-H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  <a:ea typeface="굴림"/>
              </a:rPr>
              <a:t> is an ad-hoc, decision support benchmar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  <a:ea typeface="굴림"/>
              </a:rPr>
              <a:t>TPC-R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  <a:ea typeface="굴림"/>
              </a:rPr>
              <a:t> is a business reporting, decision support benchmar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  <a:ea typeface="굴림"/>
              </a:rPr>
              <a:t>TPC-W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  <a:ea typeface="굴림"/>
              </a:rPr>
              <a:t> is a transactional web e-Commerce benchm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4423-FCDF-4419-B888-CA96AF94635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41ECD3-98D5-41BE-9E7F-8E1FECE0F09F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제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7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장 하드웨어와 데이터베이스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와 하드웨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와 데이터베이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PC-D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벤치마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2123-668F-4EF8-A301-F01FF3FBF95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1F18A1-F473-4B41-91A9-F5308A876BA3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와 하드웨어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를 위한 하드웨어 기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강력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tch process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지원 기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확장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calabili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시스템의 안정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64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it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A3F3-5973-45D0-82D3-16FFD834514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75233E-9FC7-4C91-BAD7-AF319E84B8A7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SMP(Symmetric Multi Processing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여러 개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PU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가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emory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및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isk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공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PU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들은 서로 독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메모리에 있는 프로그램과 데이터를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hared bu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통해서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공유 버스에서 충돌 현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해결방법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rossbar switch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하기 편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S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준에서 로드 분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디스크 액세스 시에 충돌이 일어나지 않는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38F9-7EA4-4E57-9440-04E4DB3F679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EA91BC-83BC-4599-AD82-84D859AB4F8C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MPP(Massively Parallel Processing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일반적인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Node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구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노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PU-Memory-Disk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 한조가 되어 운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노드마다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와 데이터베이스가 있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한 노드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MP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처럼 구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P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여러 개의 노드로 구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nternode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LAN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형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Mesh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형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ta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형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FA0C-CF2D-461F-AE38-6D099AD8F46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AE3B83-84DE-41CD-9EDA-4467641D7DF7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MPP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지역성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locality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Local disk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액세스하는 것은 빠르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emote disk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액세스는 느리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지역성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노드간 데이터의 분산 정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좋다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로컬 디스크에 있는 데이터를 노드 내부에서 액세스하는 경우가 많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나쁘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원격 디스크의 데이터를 자주 액세스한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분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내용과 액세스 형태를 고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D14E-67C8-4EA3-B687-7F949E29A8A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2077DC-8C3D-4930-A12E-D430F2D89F97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NUMA(Non-Uniform Memory Access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M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장점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P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장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NUMA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메모리를 공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프로그램과 데이터는 동일한 주소 환경에 존재하므로 지역성이 매우 강하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나 데이터베이스도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M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처럼 하나만 존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CE4F-130B-4420-874B-D12E9363207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D0006F-5067-4893-A381-C57135E004A1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하드웨어를 도입할 때 고려사항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 server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하드웨어의 기능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 검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하드웨어의 아키텍처만 보고 속단 금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자사의 데이터 양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Update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주기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Access pattern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등을 고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여러 하드웨어를 비교 검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일반적인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하드웨어 선정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요건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 대한 면밀한 고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성능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안정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확장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지원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교육 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9F75-CC3A-48F2-AD1B-4D4A20FA9C9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B0BC8C-B011-4FD2-B649-144DA2D217F0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하드웨어의 용량 산정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sizing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디스크 용량 산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133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페이지 테이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814% +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약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G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메모리 용량 산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보통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GB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이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PU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용량 산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요약 테이블을 생성시 시간이 많이 걸리는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에서 주기적으로 일어나는 중요한 프로세서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tch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6259-10AE-4A01-A20D-93536F4FEA5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02DB44-F351-4037-B897-9637117F3729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ong Soo Park</dc:creator>
  <dc:description/>
  <dc:language>en-US</dc:language>
  <cp:lastModifiedBy>dwa2007</cp:lastModifiedBy>
  <cp:lastPrinted>1999-09-10T20:38:56Z</cp:lastPrinted>
  <dcterms:modified xsi:type="dcterms:W3CDTF">2009-06-23T07:32:58Z</dcterms:modified>
  <cp:revision>237</cp:revision>
  <dc:subject/>
  <dc:title>제6장 데이터 웨어하우스의 관리</dc:title>
</cp:coreProperties>
</file>