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7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notesSlide70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</p:sldIdLst>
  <p:sldSz cx="10098088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6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240" y="0"/>
            <a:ext cx="2975040" cy="480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i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3"/>
          </p:nvPr>
        </p:nvSpPr>
        <p:spPr>
          <a:xfrm>
            <a:off x="3886200" y="0"/>
            <a:ext cx="2975040" cy="480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i="1" lang="ko-KR" sz="10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i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781200" y="747360"/>
            <a:ext cx="5295600" cy="359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4"/>
          </p:nvPr>
        </p:nvSpPr>
        <p:spPr>
          <a:xfrm>
            <a:off x="-3240" y="9177480"/>
            <a:ext cx="2975040" cy="480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i="1" lang="ko-KR" sz="10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i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5"/>
          </p:nvPr>
        </p:nvSpPr>
        <p:spPr>
          <a:xfrm>
            <a:off x="3886200" y="9177480"/>
            <a:ext cx="2975040" cy="480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i="1" lang="ko-KR" sz="10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2FD33FC7-3E75-4F00-9063-03C8ABA7A918}" type="slidenum">
              <a:rPr b="0" i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ptimizer mod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따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xecution pla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달라질 수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하지 않고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full sca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하는 이유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ptimizer mod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oose(default)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기 때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7.2.X : optimize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LTP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소량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맞게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xecution plan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작성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COM_IDX1 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할 수도 있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7.3.X : data warehousing, batch processing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대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choose, all_rows(DWH), full sc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결합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첫번째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서 상수와 비교되어야 해당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nested loop : driving t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iz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고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작을 수록 유리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같은 조건이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의 뒷쪽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riving t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ort merge 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스스로 일의 양을 줄일수 있는 경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hash join 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연결고리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hash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함수로 사용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memor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상에서 이루어져 속도 향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대용량에 유리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(only 7.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순서로하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nested loop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수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480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에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으로 줄어든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group b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로 인하여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istinct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는 무의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ptimizer_mode=choose(default)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면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analyz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과 그렇지 않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함께 사용될 때 일관성 있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xecution pla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작성하지 못함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4pag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ptimizer_mode=first_rows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라고 지정하여 사용하는 것이 좋다고 되어 있으나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업무의 성격에 따라 다르게 사용하는 것이 좋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(OLTP:first_rows, BATCH:all_row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7.3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서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ptimizer mod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oos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면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통계정보의 유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무에 따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BO/RBO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결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통계정보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nalyze table compute/estimate/delete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RBO : 20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여가지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ru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따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ran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nalyz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시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emp tablespace siz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able siz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배정도 되어야 다른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ppl.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영향을 주지 않는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Symbol" charset="2"/>
              <a:buChar char="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구성하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일부만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 나타나고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일부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 나타나는 경우에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하는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Symbol" charset="2"/>
              <a:buChar char="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첫번째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사용하면 해당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Symbol" charset="2"/>
              <a:buChar char="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der by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 나타나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모두 결합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구성하므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 의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orting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하여 해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Symbol" charset="2"/>
              <a:buChar char="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결합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서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5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개까지는 정확하게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match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하여 찾아내나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그 이후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range scan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Symbol" charset="2"/>
              <a:buChar char="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der by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orting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줄이는 방법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uning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기본 원리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297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전체범위처리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tabl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전체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earch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해야 원하는 결과를 얻을 수 있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batch processing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유리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 min, max, sum, group b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부분범위처리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OLT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과정에서는  부분범위처리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focu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운반단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array 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주범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먼저 읽혀지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riving r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부범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나중에 읽혀지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ecking r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이용하여 주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부 조건을 변경 가능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대한 규정을 어떻게 하느냐에 따라서 수행속도에 얼마나 많은 영향을 주는가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변형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충분히 사용못함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null 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현재 미결정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미지수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없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null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값을 다른 유일한 값으로 약속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‘X’,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mast_menu_id varchar2(10)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</a:rPr>
              <a:t>default ‘X’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not nu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주어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AR_, BOX_COD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대하여 가장 최근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O_DAT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찾아 그에 해당하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TOCK_Q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가져오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ubquery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독립적으로 먼저 풀려 이조건에 맞는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원하는 대로가 아닌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여러 건의 레코드가 리턴됨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IO_DATE = ‘19980216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relative subqu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동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하는 문제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max -&gt; sorting -&gt;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전체범위처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main query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ub query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로 넘겨주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record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수만큼 일이 많아진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hint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해당하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bject(index)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환경이 제대로 준비되어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max 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중복제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장 큰값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전체범위처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효율적인 처리를 위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 분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max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전체범위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 : index_desc, rownum=1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부분범위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min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전체범위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 : index_asc, rownum=1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부분범위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97 pag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그림 참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biz ru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적용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B_TAB : 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full sc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EPT=:B7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조건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ubquery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 들어가면 안되고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나중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되어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일자 정보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YY, MM, DD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로 나뉘어져 있으나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조건 검색시 합쳐서 잘못 사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 column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변형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index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불가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full sc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고방식 전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any idea 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기간을 연별로 나누고 월별로 나눠서 검색 조건을 주면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B_TAB : 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사용하여 복잡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 구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입력변수는 하나의 값이므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ua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서 가져올 필요없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B21=‘Y’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B21 is not nul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ual t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남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union : sorting 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중복 제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union all : no sorting 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중복이 없으리라 예상되는 경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오늘 날짜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의 조건에 넣어 처리하고자 할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뿐만아니라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wher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서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ysdat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 가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많은 사용자일때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table contention(sys.du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불필요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ual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 제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위의 경우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aracter typ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일 경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like, between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 가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e type : DAT = sysdate 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시분초까지 비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 between trunc(sysdate) and trunc(sysdate) +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</a:rPr>
              <a:t>0.999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o_char(DAT, ‘yyyymmdd’) = to_char(sysdate, ‘yyyymmdd’) : no ind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시간계산이 필요없고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단순히 날짜만 저장하는 경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.character typ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유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하면 의도하지 않는 방향으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xecution plan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수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도는 비상하나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10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r>
              <a:rPr b="1" lang="ko-KR" sz="1000" spc="-1" strike="noStrike" u="sng">
                <a:solidFill>
                  <a:srgbClr val="000000"/>
                </a:solidFill>
                <a:uFillTx/>
                <a:latin typeface="Arial"/>
              </a:rPr>
              <a:t>의 특성상 나쁜쪽으로 통합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풀다가 안되면 </a:t>
            </a:r>
            <a:r>
              <a:rPr b="1" lang="ko-KR" sz="1000" spc="-1" strike="noStrike" u="sng">
                <a:solidFill>
                  <a:srgbClr val="000000"/>
                </a:solidFill>
                <a:uFillTx/>
                <a:latin typeface="Arial"/>
              </a:rPr>
              <a:t>full sca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union al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로 변환 가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17 page 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 잘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미지수와 상수의 비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full sc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17 page 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 잘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안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 : full sc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개선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query 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 가능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부분범위처리 가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로 인하여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ncatenation -&gt;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같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, I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들어가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조건은 가능하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union all, decod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등을 사용하게 변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특성을 잘 활용하면 보다 효율적으로 처리 가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ynamic 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잘 모르는 경우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program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최악의 경우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 수행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수행 속도 이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여러번 나올 경우 가장 뒤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부터 처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확률이 가장 많은 조건을 뒷쪽에 기술한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03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 가능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개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에서 공통점을 찾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개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으로 통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able(BA003DM) up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하면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하면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loop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내에서 반복 수행되는 형태였다면 상당한 수행 속도 개선 효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동일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대하여 비슷한 유형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을 사용하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을 하나로 통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f ... then ... else : decode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배 이상의 처리 속도 향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29 page DACT_MH, 0))), 0)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ecode : data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조건 비교 가능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과도하게 사용시 수행 성능 저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fetch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시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pu, elapsed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 level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상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program logic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으로 해결 권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group by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의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orting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되므로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parallel quer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하지 않으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불필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능한 많이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그러나 꼭 필요한 경우에만 사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binding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변수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 typ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 typ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일치하지 않으면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index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불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xecution plan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생성시에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binding vari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 typ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무엇인지 모르기 때문에 정상적인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xecution plan(index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 가능한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생성되나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binding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후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 typ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일치하지 않아 내부 변형이 일어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하지 못함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실제로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full sca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o_number(EMPNO) = :B2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형태로 내부변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MPNO = to_char(:B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rac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정보가 충분하지 않을 수도 있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 modelling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잘못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numbe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로 바꾸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lik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시 불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mpno like ‘1%’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o_char(empno) like  ‘1%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ppl.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성향을 반영하여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 modelling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해야하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그렇지 않으면 반드시 대가를 치른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ar, varchar2 &lt; number, date &lt; lik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연산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&lt; char, varchar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자리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ar(1byte)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(varchar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by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설계단계에서 원자화하지 않은 컬럼이 코딩단계에서 어떤 문제로 나타나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수행 속도에 어떠한 영향을 주는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 가능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후보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HISCODE_PK1, THISINPT_IDX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지만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PK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우선이므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순서로 되리라 예상되나 이때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joi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되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존재하지 않는 연결고리 이상 발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러한 경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상대방이 먼저 풀리게 되므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, A, B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순서로 처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때 연결고리가되는 부분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ubstr()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사용하였기 때문에 변형이 일어나 적절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인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HISCODE_PK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충분히 활용하지 못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 modelling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서 물리적 설계로 옮겨갈때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러한 원자화 부분을 어떻게 할지를 충분히 고려하지 않고 개발하였기 때문에 이러한 문제 발생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B603D-3437-414D-B72D-9333BA25D6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97120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28680" y="3928680"/>
            <a:ext cx="97120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4D1F6-5129-4D19-A185-6BBEBC32C6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2868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0532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E7818-68AC-45D1-8963-2C18961CCA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2240" y="114264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96160" y="114264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28680" y="392868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2240" y="392868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896160" y="392868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7B225-7410-44A4-888F-F68B3E7322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28680" y="1142640"/>
            <a:ext cx="97120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97120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717560" y="228600"/>
            <a:ext cx="8182080" cy="240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2868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28680" y="1142640"/>
            <a:ext cx="97120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C8FBB-8BB7-43CC-9723-0CA4B15ADC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0532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28680" y="3928680"/>
            <a:ext cx="97120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97120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28680" y="3928680"/>
            <a:ext cx="97120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2868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30532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12240" y="114264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96160" y="114264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28680" y="392868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12240" y="392868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896160" y="392868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97120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9CB16-9FA2-4C47-8E71-4EF92C2294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FE7AD-ADFE-4D01-81A7-06B92BF64A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0B181-7BEA-4EBA-8F79-21BE1E4127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17560" y="228600"/>
            <a:ext cx="8182080" cy="240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1700C-8AAF-4A16-B000-2099676CC2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2868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BD86E-038F-46A5-93BA-1C2BE90992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0532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AF005-F075-4248-86BF-77010B9860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28680" y="3928680"/>
            <a:ext cx="97120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F306A-A74A-49B5-833C-C1BC5ECFD3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239400" y="6585120"/>
            <a:ext cx="3281400" cy="2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0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&lt;footer&gt;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대전지원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9272520" y="6552720"/>
            <a:ext cx="758880" cy="3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2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DFA2-1FA7-4251-AF85-F42758F60AF7}" type="slidenum">
              <a:rPr b="1" lang="ko-KR" sz="12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346040" y="838080"/>
            <a:ext cx="8666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2800" y="75600"/>
            <a:ext cx="1032480" cy="839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114480" bIns="1144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돋움"/>
              </a:rPr>
              <a:t>SQ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돋움"/>
              </a:rPr>
              <a:t>Tu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328680" y="1142640"/>
            <a:ext cx="97120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1" marL="666720" indent="-285840">
              <a:spcBef>
                <a:spcPts val="451"/>
              </a:spcBef>
              <a:buClr>
                <a:srgbClr val="000000"/>
              </a:buClr>
              <a:buFont typeface="굴림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3" marL="1504800" indent="-228600">
              <a:spcBef>
                <a:spcPts val="451"/>
              </a:spcBef>
              <a:buClr>
                <a:srgbClr val="000000"/>
              </a:buClr>
              <a:buFont typeface="굴림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4" marL="1924200" indent="-228600">
              <a:spcBef>
                <a:spcPts val="451"/>
              </a:spcBef>
              <a:buClr>
                <a:srgbClr val="000000"/>
              </a:buClr>
              <a:buFont typeface="굴림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5" marL="1924200" indent="-228600">
              <a:spcBef>
                <a:spcPts val="451"/>
              </a:spcBef>
              <a:buClr>
                <a:srgbClr val="000000"/>
              </a:buClr>
              <a:buFont typeface="굴림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6" marL="1924200" indent="-228600">
              <a:spcBef>
                <a:spcPts val="451"/>
              </a:spcBef>
              <a:buClr>
                <a:srgbClr val="000000"/>
              </a:buClr>
              <a:buFont typeface="굴림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52320" y="3389400"/>
            <a:ext cx="5305680" cy="3876120"/>
          </a:xfrm>
          <a:prstGeom prst="roundRect">
            <a:avLst>
              <a:gd name="adj" fmla="val 764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marL="343080" indent="-34308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DISTINCT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B.CLASS, COUNT(B.CLA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OL A,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OM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YEAR = B.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HOUSE = B.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SERIAL_NO = B.SERIAL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AMT &gt;=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.DATE &lt; '950501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.CLASS IN ( 'C', 'Y', 'I', 'P'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B.CLASS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02040" y="243000"/>
            <a:ext cx="6351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"/>
              </a:rPr>
              <a:t>1. OPTIMIZER MODE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"/>
              </a:rPr>
              <a:t>에 따른 인덱스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34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8440" y="912960"/>
            <a:ext cx="6875640" cy="27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8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OL  A : COL_PK1  : YEAR  + HOUSE + SERIAL_NO + HS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OM  B : COM_IX   : YEAR  + HOUSE + SERIAL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COM  B : COM_IDX1 : CLASS + 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8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65560" y="3951360"/>
            <a:ext cx="4789800" cy="20833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ROWS  EXECUTION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  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1564   SORT (GROUP B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1564    NESTED 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6361     TABLE ACCESS (</a:t>
            </a: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FULL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) OF 'COM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437     TABLE ACCESS (BY ROWID) OF 'COL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4437      INDEX (RANGE SCAN) OF 'COL_PK1'(UNIQ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29600" y="3862440"/>
            <a:ext cx="2643120" cy="919080"/>
          </a:xfrm>
          <a:custGeom>
            <a:avLst/>
            <a:gdLst>
              <a:gd name="textAreaLeft" fmla="*/ 97560 w 2643120"/>
              <a:gd name="textAreaRight" fmla="*/ 2545560 w 2643120"/>
              <a:gd name="textAreaTop" fmla="*/ 33840 h 919080"/>
              <a:gd name="textAreaBottom" fmla="*/ 734040 h 919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2861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COM Table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Full Table Scan 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이유는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972280" y="4856040"/>
            <a:ext cx="67716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E8287-C4C8-43D0-85CA-F279E78DD00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060800" y="1833480"/>
            <a:ext cx="541440" cy="390384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98480" y="1833480"/>
            <a:ext cx="411120" cy="390384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-5760" y="1414440"/>
            <a:ext cx="20628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THISINPT_ID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-6480" y="5857920"/>
            <a:ext cx="17960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INPT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6000" y="1846440"/>
            <a:ext cx="1095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48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54360" y="1841400"/>
            <a:ext cx="104616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27920" y="1312920"/>
            <a:ext cx="156744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THISIN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5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-5400" y="6086520"/>
            <a:ext cx="18190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+ INPTCH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17400" y="1414440"/>
            <a:ext cx="212076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THISCODE_PK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200560" y="1841400"/>
            <a:ext cx="108756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46040" y="1312920"/>
            <a:ext cx="16758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THIS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5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96960" y="5937120"/>
            <a:ext cx="1946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CODEGUB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+ CODE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36920" y="2540160"/>
            <a:ext cx="1400040" cy="946080"/>
          </a:xfrm>
          <a:prstGeom prst="line">
            <a:avLst/>
          </a:prstGeom>
          <a:ln w="255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36920" y="2606760"/>
            <a:ext cx="1379520" cy="115416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36920" y="4640040"/>
            <a:ext cx="1371600" cy="26172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56600" y="1833480"/>
            <a:ext cx="401400" cy="390384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12040" y="1841400"/>
            <a:ext cx="100332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85880" y="1312920"/>
            <a:ext cx="16560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THISPB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5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80320" y="2881440"/>
            <a:ext cx="996840" cy="30132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7780320" y="3414600"/>
            <a:ext cx="976320" cy="424080"/>
          </a:xfrm>
          <a:prstGeom prst="line">
            <a:avLst/>
          </a:prstGeom>
          <a:ln w="255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780320" y="4772160"/>
            <a:ext cx="1006560" cy="185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60320" y="1973160"/>
            <a:ext cx="982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6045120" y="2881080"/>
            <a:ext cx="1281240" cy="9036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6045120" y="3832200"/>
            <a:ext cx="1298520" cy="587520"/>
          </a:xfrm>
          <a:prstGeom prst="line">
            <a:avLst/>
          </a:prstGeom>
          <a:ln w="255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6045120" y="4784760"/>
            <a:ext cx="1298520" cy="239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56680" y="1414440"/>
            <a:ext cx="210096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THISPBSC_PK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19760" y="5857920"/>
            <a:ext cx="17960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PBSCID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367120" y="1971720"/>
            <a:ext cx="982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42440" y="243000"/>
            <a:ext cx="565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5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인덱스 컬럼의 분리에 따른 문제 해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33920" y="1846440"/>
            <a:ext cx="1207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돋움"/>
              </a:rPr>
              <a:t>32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25920" y="1935000"/>
            <a:ext cx="1095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4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71840" y="1846440"/>
            <a:ext cx="982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돋움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17080" y="3673440"/>
            <a:ext cx="81756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17560" y="2887560"/>
            <a:ext cx="385920" cy="20383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563040" y="2967120"/>
            <a:ext cx="397440" cy="2035080"/>
            <a:chOff x="563040" y="2967120"/>
            <a:chExt cx="397440" cy="2035080"/>
          </a:xfrm>
        </p:grpSpPr>
        <p:sp>
          <p:nvSpPr>
            <p:cNvPr id="241" name=""/>
            <p:cNvSpPr/>
            <p:nvPr/>
          </p:nvSpPr>
          <p:spPr>
            <a:xfrm>
              <a:off x="628560" y="296712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60480" y="2967120"/>
              <a:ext cx="0" cy="203508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563040" y="500220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7365960" y="2836800"/>
            <a:ext cx="382680" cy="65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22200" y="3198960"/>
            <a:ext cx="1038240" cy="57600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222200" y="2549160"/>
            <a:ext cx="1098720" cy="412920"/>
          </a:xfrm>
          <a:prstGeom prst="line">
            <a:avLst/>
          </a:prstGeom>
          <a:ln w="255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17520" y="4822920"/>
            <a:ext cx="1103400" cy="9216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073400" y="2521080"/>
            <a:ext cx="522360" cy="5126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879720" y="2600280"/>
            <a:ext cx="289080" cy="496800"/>
            <a:chOff x="3879720" y="2600280"/>
            <a:chExt cx="289080" cy="496800"/>
          </a:xfrm>
        </p:grpSpPr>
        <p:sp>
          <p:nvSpPr>
            <p:cNvPr id="250" name=""/>
            <p:cNvSpPr/>
            <p:nvPr/>
          </p:nvSpPr>
          <p:spPr>
            <a:xfrm>
              <a:off x="3924360" y="2600280"/>
              <a:ext cx="23472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68800" y="2600280"/>
              <a:ext cx="0" cy="49680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3879720" y="3097080"/>
              <a:ext cx="27936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4073400" y="3409920"/>
            <a:ext cx="522360" cy="6094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873240" y="3490920"/>
            <a:ext cx="309960" cy="630360"/>
            <a:chOff x="3873240" y="3490920"/>
            <a:chExt cx="309960" cy="630360"/>
          </a:xfrm>
        </p:grpSpPr>
        <p:sp>
          <p:nvSpPr>
            <p:cNvPr id="255" name=""/>
            <p:cNvSpPr/>
            <p:nvPr/>
          </p:nvSpPr>
          <p:spPr>
            <a:xfrm>
              <a:off x="3924360" y="3490920"/>
              <a:ext cx="247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183200" y="3490920"/>
              <a:ext cx="0" cy="63036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873240" y="4121280"/>
              <a:ext cx="29844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4073400" y="4576680"/>
            <a:ext cx="522360" cy="3193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873240" y="4638600"/>
            <a:ext cx="295560" cy="346320"/>
            <a:chOff x="3873240" y="4638600"/>
            <a:chExt cx="295560" cy="346320"/>
          </a:xfrm>
        </p:grpSpPr>
        <p:sp>
          <p:nvSpPr>
            <p:cNvPr id="260" name=""/>
            <p:cNvSpPr/>
            <p:nvPr/>
          </p:nvSpPr>
          <p:spPr>
            <a:xfrm>
              <a:off x="3919680" y="4638600"/>
              <a:ext cx="23796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68800" y="4638600"/>
              <a:ext cx="0" cy="34632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3873240" y="4984920"/>
              <a:ext cx="28404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4316400" y="255420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16400" y="289260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16400" y="341460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16400" y="357336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16400" y="374652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316400" y="461160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16040" y="273852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316040" y="475308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308120" y="390060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614840" y="2793960"/>
            <a:ext cx="1060560" cy="17316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621320" y="4829040"/>
            <a:ext cx="1020600" cy="21600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611600" y="3970440"/>
            <a:ext cx="1087560" cy="439560"/>
          </a:xfrm>
          <a:prstGeom prst="line">
            <a:avLst/>
          </a:prstGeom>
          <a:ln w="255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365960" y="3792600"/>
            <a:ext cx="382680" cy="65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365960" y="4748040"/>
            <a:ext cx="382680" cy="65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942400" y="3164040"/>
            <a:ext cx="723960" cy="468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943840" y="3443400"/>
            <a:ext cx="722520" cy="0"/>
          </a:xfrm>
          <a:prstGeom prst="line">
            <a:avLst/>
          </a:prstGeom>
          <a:ln w="255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8970840" y="3630600"/>
            <a:ext cx="695520" cy="130968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476B1-271B-43BC-8FC7-E4F88DBB0BA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242440" y="243000"/>
            <a:ext cx="565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5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인덱스 컬럼의 분리에 따른 문제 해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2600" y="1103400"/>
            <a:ext cx="9701280" cy="22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문제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C.INPTCHRS  =  SUBSTR(A.CODENAME, 1,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THISINPT(C) --&gt; THISCODE(A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THISCODE(A) --&gt; THISINPT(C) --&gt; THISPBSC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82680" y="3462480"/>
            <a:ext cx="7645320" cy="3062160"/>
          </a:xfrm>
          <a:prstGeom prst="roundRect">
            <a:avLst>
              <a:gd name="adj" fmla="val 5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/*+ ORDERED */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PTIDNO,INPTPKND,INPT,   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THISCODE  A, THISINPT  C, THISPBSC 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C.INPTCHRS  =  SUBSTR(</a:t>
            </a:r>
            <a:r>
              <a:rPr b="1" lang="ko-KR" sz="1800" spc="-1" strike="noStrike">
                <a:solidFill>
                  <a:srgbClr val="00cc99"/>
                </a:solidFill>
                <a:latin typeface="굴림체"/>
                <a:ea typeface="굴림체"/>
              </a:rPr>
              <a:t>A.CODENAM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, 1,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C.INPTDATE  = 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 C.INPTGUBN  IN  ('A','B')  AND  C.INPTBYBY  LIKE  '1%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 C.INPTIDNO  =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.PBSCID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 </a:t>
            </a:r>
            <a:r>
              <a:rPr b="1" lang="ko-KR" sz="1800" spc="-1" strike="noStrike">
                <a:solidFill>
                  <a:srgbClr val="00cc99"/>
                </a:solidFill>
                <a:latin typeface="굴림체"/>
                <a:ea typeface="굴림체"/>
              </a:rPr>
              <a:t>A.CODEGUBN  =  '11'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D043E-4E83-43F4-9705-45695519B4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-443160" y="3213000"/>
            <a:ext cx="7327440" cy="20221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NVL(CODE, ' '), NVL(EDSC, ' 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SU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CODE  LIKE 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(SERL||'' = 'CA'  OR  SERL||'' = 'DA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ROWNUM &lt; 21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83120" y="243000"/>
            <a:ext cx="544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6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도적 인덱스 컬럼의 변형시 주의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2600" y="1103400"/>
            <a:ext cx="9567720" cy="19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GA : SUGA_CODE_SE_PK : CODE + SER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GA : SUGA_SERL_IX    : SERL + ED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GA : SUGA_SERL_IX2   : PART_CODE + EDSC + SERL + MODEL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395520" y="4921200"/>
            <a:ext cx="6351840" cy="20394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cc0000"/>
                </a:solidFill>
                <a:latin typeface="굴림체"/>
                <a:ea typeface="굴림체"/>
              </a:rPr>
              <a:t>ROWS  EXECUTION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-----  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STAT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20   COUNT (STOPKE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20    TABLE ACCESS (BY ROWID) OF 'SUGA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6581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INDEX (RANGE SCAN) OF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'SUGA_CODE_SE_PK'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(UNIQU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0A83E-5602-4B6A-93F8-DB38FD0F49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97000" y="1192320"/>
            <a:ext cx="9567720" cy="53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NVL(CODE, ' '), NVL(EDSC, ' 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 SU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CODE  LIKE  :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AND   SERL IN ('CA' , 'DA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 ROWNUM &lt; 21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IN --&gt; OR --&gt; OR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와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ROWNUM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같이 사용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--&gt; FILTER --&gt;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전체범위 처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NVL(CODE, ' '), NVL(EDSC, ' 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(SELECT  CODE, ED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SU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CODE LIKE :B1 AND SERL = 'CA'     &lt;---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첫번째 실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UNION 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CODE, ED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SU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CODE LIKE :B1 AND SERL = 'DA')   &lt;---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두 번째 실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ROWNUM &lt; 21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SUGA_CODE_SE_PK : SERL +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283120" y="243000"/>
            <a:ext cx="544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6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도적 인덱스 컬럼의 변형시 주의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82480" y="1822320"/>
            <a:ext cx="5440320" cy="141624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82480" y="3710160"/>
            <a:ext cx="7239240" cy="23857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377CE-E9D2-4E62-B0AD-852F188E3F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552600" y="3195720"/>
            <a:ext cx="7615080" cy="1891080"/>
          </a:xfrm>
          <a:prstGeom prst="roundRect">
            <a:avLst>
              <a:gd name="adj" fmla="val 1389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DWG_Q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DRA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WHERE  DWG1  ||  DWG2 || DWG3   &gt;  :DWG1 ||  :DWG2  ||  :DWG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ROWNUM  =  1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83840" y="243000"/>
            <a:ext cx="544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7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컬럼값을 연결하여 사용할 때 주의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2600" y="1103400"/>
            <a:ext cx="9567720" cy="20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DRAWING : DWG_X1  : DWG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DRAWING : DWG_X2  : DW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DRAWING : DWG_X3  : DWG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39160" y="4844880"/>
            <a:ext cx="7455240" cy="1708200"/>
            <a:chOff x="839160" y="4844880"/>
            <a:chExt cx="7455240" cy="1708200"/>
          </a:xfrm>
        </p:grpSpPr>
        <p:sp>
          <p:nvSpPr>
            <p:cNvPr id="295" name=""/>
            <p:cNvSpPr/>
            <p:nvPr/>
          </p:nvSpPr>
          <p:spPr>
            <a:xfrm>
              <a:off x="839880" y="5624640"/>
              <a:ext cx="7454520" cy="91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4      3   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 4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&gt;       4       3     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3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0   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 2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35       &gt;       0     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6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2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3      2       &gt;    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1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3      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39160" y="5237280"/>
              <a:ext cx="7454520" cy="366840"/>
            </a:xfrm>
            <a:prstGeom prst="rect">
              <a:avLst/>
            </a:prstGeom>
            <a:solidFill>
              <a:srgbClr val="ebebe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0099"/>
                  </a:solidFill>
                  <a:latin typeface="굴림체"/>
                  <a:ea typeface="굴림체"/>
                </a:rPr>
                <a:t> </a:t>
              </a:r>
              <a:r>
                <a:rPr b="1" lang="ko-KR" sz="1800" spc="-1" strike="noStrike">
                  <a:solidFill>
                    <a:srgbClr val="330099"/>
                  </a:solidFill>
                  <a:latin typeface="굴림체"/>
                  <a:ea typeface="굴림체"/>
                </a:rPr>
                <a:t>DWG1   DWG2   DWG3            :DWG1   :DWG2   :DWG3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631520" y="4844880"/>
              <a:ext cx="5863320" cy="366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66"/>
                  </a:solidFill>
                  <a:latin typeface="굴림체"/>
                  <a:ea typeface="굴림체"/>
                </a:rPr>
                <a:t>       </a:t>
              </a:r>
              <a:r>
                <a:rPr b="1" lang="ko-KR" sz="1800" spc="-1" strike="noStrike">
                  <a:solidFill>
                    <a:srgbClr val="000066"/>
                  </a:solidFill>
                  <a:latin typeface="굴림체"/>
                  <a:ea typeface="굴림체"/>
                </a:rPr>
                <a:t>컬럼값        크기비교        입력변수값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840120" y="4846680"/>
              <a:ext cx="0" cy="169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937040" y="4861080"/>
              <a:ext cx="0" cy="169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03428-9B9D-4E21-93AE-DFAC841520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83320" y="1214280"/>
            <a:ext cx="3953160" cy="14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돋움체"/>
                <a:ea typeface="돋움체"/>
              </a:rPr>
              <a:t>컬럼값과 변수값의 길이가 동일하다는 전제조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-47520" y="2620800"/>
            <a:ext cx="9685080" cy="23778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/*+ USE_CONCA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DWG_Q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DRA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(  (DWG1 = :DWG1  AND  DWG2 = :DWG2  AND  DWG3 &gt; :DWG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OR (DWG1 = :DWG1  AND  DWG2 &gt; :DWG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OR (DWG1 &gt; :DWG1)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ROWNUM  =  1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83840" y="243000"/>
            <a:ext cx="544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7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컬럼값을 연결하여 사용할 때 주의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3F40D-3C34-4B65-95E2-D5513ED5F3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901880" y="243000"/>
            <a:ext cx="6168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8. LOOP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내에 사용되는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SQ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주의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2600" y="1103400"/>
            <a:ext cx="9567720" cy="11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109 : A109_IND1 :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JHCOD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+ S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5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-114120" y="2308320"/>
            <a:ext cx="9605520" cy="12834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SEQ   INTO  :WWS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A1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JHCOD  = 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SUBSTR (JEPUM, 1, :LEN1)  =  SUBSTR (:WWJEPUM , 1, :LEN1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082520" y="3610080"/>
            <a:ext cx="7635960" cy="4354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CALL         COUNT      CPU     ELAPSED       DISK    QUERY     CURRENT     R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   ------- --------  ---------- ---------- -------- ----------- 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PARSE            1     0.00        0.00          0        0           0       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EXECUTE      41722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25.29       36.67          0        0           0       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FETCH        41722  3677.99     4516.42     255667 17066322           0    417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   ------- --------  ---------- ---------- -------- ----------- 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TOTAL        83444  3703.28     4553.09     255667 17066322           0    417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ROWS   EXECUTION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-   ---------------------------------------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  <a:ea typeface="굴림체"/>
              </a:rPr>
              <a:t>      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0   SELECT   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8449717     TABLE  ACCESS  (BY  ROWID)  OF  'A109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8491439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INDEX  (RANGE  SCAN)  OF 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'A109_IND1'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( NON - UNIQU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5E4B7-6C39-4E65-9F75-2E01047C65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9640" y="228600"/>
            <a:ext cx="817884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8. LOOP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내에 사용되는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SQ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주의점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9524880" cy="289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방안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marL="2858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1" marL="476280" algn="just">
              <a:lnSpc>
                <a:spcPct val="130000"/>
              </a:lnSpc>
              <a:buClr>
                <a:srgbClr val="ff3300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 </a:t>
            </a: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WHERE </a:t>
            </a: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문 수정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marL="2858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</a:rPr>
              <a:t>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</a:rPr>
              <a:t>SUBSTR(JEPUM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, 1, :LEN1) = SUBSTR(:WWJEPUM, 1, :LEN1) 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==&gt;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</a:rPr>
              <a:t>JEPUM  LIKE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  SUBSTR(:WWJEPUM, 1, :LEN1) || '%'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1" marL="476280" algn="just">
              <a:lnSpc>
                <a:spcPct val="130000"/>
              </a:lnSpc>
              <a:buClr>
                <a:srgbClr val="ff3300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 </a:t>
            </a: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 수정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1" marL="476280" indent="0" algn="just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A109 : A109_IND1 : JHCOD +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</a:rPr>
              <a:t>JEPUM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09" name=""/>
          <p:cNvSpPr/>
          <p:nvPr/>
        </p:nvSpPr>
        <p:spPr>
          <a:xfrm>
            <a:off x="-352800" y="4353480"/>
            <a:ext cx="8865720" cy="18082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152280" bIns="15228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S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TO   :WWS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A1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JHCOD  = 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JEPUM  LIKE  SUBSTR(:WWJEPUM, 1, :LEN1) || '%'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6880" y="1822320"/>
            <a:ext cx="7424640" cy="22860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0FB0C-4B42-4F00-9DE5-240B4293E7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712880" y="276228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0           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12880" y="305748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330099"/>
                </a:solidFill>
                <a:latin typeface="Arial"/>
                <a:ea typeface="돋움"/>
              </a:rPr>
              <a:t>A             111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712880" y="3346560"/>
            <a:ext cx="225108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A             112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 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14520" y="2422440"/>
            <a:ext cx="2600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   </a:t>
            </a: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COL1        COL2      ROW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72360" y="2668680"/>
            <a:ext cx="514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64920" y="2422440"/>
            <a:ext cx="2550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    </a:t>
            </a: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COL2       COL1     ROW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65520" y="3176640"/>
            <a:ext cx="527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227120" y="3152880"/>
            <a:ext cx="526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92160" y="4322880"/>
            <a:ext cx="514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667360" y="4335480"/>
            <a:ext cx="526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467680" y="4997520"/>
            <a:ext cx="527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473280" y="1130400"/>
            <a:ext cx="4408560" cy="1157040"/>
          </a:xfrm>
          <a:custGeom>
            <a:avLst/>
            <a:gdLst/>
            <a:ahLst/>
            <a:rect l="l" t="t" r="r" b="b"/>
            <a:pathLst>
              <a:path w="2777" h="729">
                <a:moveTo>
                  <a:pt x="0" y="2"/>
                </a:moveTo>
                <a:lnTo>
                  <a:pt x="0" y="567"/>
                </a:lnTo>
                <a:lnTo>
                  <a:pt x="651" y="567"/>
                </a:lnTo>
                <a:lnTo>
                  <a:pt x="496" y="703"/>
                </a:lnTo>
                <a:lnTo>
                  <a:pt x="755" y="567"/>
                </a:lnTo>
                <a:lnTo>
                  <a:pt x="1591" y="567"/>
                </a:lnTo>
                <a:lnTo>
                  <a:pt x="2776" y="728"/>
                </a:lnTo>
                <a:lnTo>
                  <a:pt x="1891" y="567"/>
                </a:lnTo>
                <a:lnTo>
                  <a:pt x="2483" y="568"/>
                </a:lnTo>
                <a:lnTo>
                  <a:pt x="2483" y="0"/>
                </a:lnTo>
                <a:lnTo>
                  <a:pt x="0" y="2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14840" y="4659480"/>
            <a:ext cx="695520" cy="0"/>
          </a:xfrm>
          <a:prstGeom prst="line">
            <a:avLst/>
          </a:prstGeom>
          <a:ln w="255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75240" y="4925880"/>
            <a:ext cx="71136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4035600" y="3478320"/>
            <a:ext cx="69192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38120" y="6032520"/>
            <a:ext cx="29908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80202"/>
                </a:solidFill>
                <a:latin typeface="Arial"/>
                <a:ea typeface="돋움"/>
              </a:rPr>
              <a:t>INDEX ( COL1 + COL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945040" y="6032520"/>
            <a:ext cx="29908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80202"/>
                </a:solidFill>
                <a:latin typeface="Arial"/>
                <a:ea typeface="돋움"/>
              </a:rPr>
              <a:t>INDEX ( COL2 + COL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442880" y="243000"/>
            <a:ext cx="8339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의 처리 범위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(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둘 다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'='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로 쓰인 경우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6284880" y="2762280"/>
            <a:ext cx="2249640" cy="3377520"/>
            <a:chOff x="6284880" y="2762280"/>
            <a:chExt cx="2249640" cy="3377520"/>
          </a:xfrm>
        </p:grpSpPr>
        <p:sp>
          <p:nvSpPr>
            <p:cNvPr id="330" name=""/>
            <p:cNvSpPr/>
            <p:nvPr/>
          </p:nvSpPr>
          <p:spPr>
            <a:xfrm>
              <a:off x="6284880" y="276228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0            A              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284880" y="305748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0            B              4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284880" y="334656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0            C              5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84880" y="364500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1            A              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284880" y="392904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1            B              3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284880" y="422928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1            C              76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84880" y="4516560"/>
              <a:ext cx="2249640" cy="28404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ff3300"/>
                  </a:solidFill>
                  <a:latin typeface="Arial"/>
                  <a:ea typeface="돋움"/>
                </a:rPr>
                <a:t>112            A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               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284880" y="481500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2            B              7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84880" y="511488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2            C              89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84880" y="5407200"/>
              <a:ext cx="2249640" cy="47556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3            A             18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84880" y="5664240"/>
              <a:ext cx="2249640" cy="47556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4            A             22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1712880" y="422928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5            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712880" y="364500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3            18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712880" y="392904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4           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712880" y="4516560"/>
            <a:ext cx="224784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6            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712880" y="481500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7            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712880" y="511488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8            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712880" y="540720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B             110            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712880" y="568656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B             111            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50760" y="3506760"/>
            <a:ext cx="71136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74800" y="1166760"/>
            <a:ext cx="384912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SELECT *  FROM  TAB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WHERE  COL1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=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A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   (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분포도가 넓다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AND  COL2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=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112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 (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분포도가 좁다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8598960" y="4675320"/>
            <a:ext cx="6922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23840" y="3011400"/>
            <a:ext cx="114804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76560" y="3005280"/>
            <a:ext cx="468360" cy="423720"/>
          </a:xfrm>
          <a:prstGeom prst="line">
            <a:avLst/>
          </a:prstGeom>
          <a:ln w="255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32D41-F94A-437D-ADD1-614B98C2B4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824120" y="2739960"/>
            <a:ext cx="226692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0           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824120" y="3029040"/>
            <a:ext cx="226692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A             111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            </a:t>
            </a:r>
            <a:r>
              <a:rPr b="1" lang="ko-KR" sz="1400" spc="-1" strike="noStrike">
                <a:solidFill>
                  <a:srgbClr val="3333cc"/>
                </a:solidFill>
                <a:latin typeface="Arial"/>
                <a:ea typeface="돋움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824120" y="3346560"/>
            <a:ext cx="226692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A             112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 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824120" y="4229280"/>
            <a:ext cx="226692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5            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24120" y="3645000"/>
            <a:ext cx="226692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A             113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            </a:t>
            </a:r>
            <a:r>
              <a:rPr b="1" lang="ko-KR" sz="1400" spc="-1" strike="noStrike">
                <a:solidFill>
                  <a:srgbClr val="3333cc"/>
                </a:solidFill>
                <a:latin typeface="Arial"/>
                <a:ea typeface="돋움"/>
              </a:rPr>
              <a:t>18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24120" y="3929040"/>
            <a:ext cx="226692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4           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24120" y="4516560"/>
            <a:ext cx="22636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6            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824120" y="4815000"/>
            <a:ext cx="226692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7            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824120" y="5114880"/>
            <a:ext cx="226692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8            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824120" y="5407200"/>
            <a:ext cx="226692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B             110            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824120" y="5686560"/>
            <a:ext cx="226692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B             111            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25760" y="2343240"/>
            <a:ext cx="2600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   </a:t>
            </a: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COL1       COL2       ROW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210680" y="2652840"/>
            <a:ext cx="514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96600" y="2343240"/>
            <a:ext cx="2550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    </a:t>
            </a: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COL2       COL1     ROW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184760" y="3684600"/>
            <a:ext cx="527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399760" y="3290760"/>
            <a:ext cx="526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92160" y="3129120"/>
            <a:ext cx="514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466240" y="5402160"/>
            <a:ext cx="527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222200" y="4041720"/>
            <a:ext cx="57312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35160" y="2982960"/>
            <a:ext cx="98244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524400" y="1015920"/>
            <a:ext cx="4549680" cy="1154160"/>
          </a:xfrm>
          <a:custGeom>
            <a:avLst/>
            <a:gdLst/>
            <a:ahLst/>
            <a:rect l="l" t="t" r="r" b="b"/>
            <a:pathLst>
              <a:path w="2866" h="727">
                <a:moveTo>
                  <a:pt x="0" y="2"/>
                </a:moveTo>
                <a:lnTo>
                  <a:pt x="0" y="565"/>
                </a:lnTo>
                <a:lnTo>
                  <a:pt x="672" y="565"/>
                </a:lnTo>
                <a:lnTo>
                  <a:pt x="512" y="701"/>
                </a:lnTo>
                <a:lnTo>
                  <a:pt x="779" y="565"/>
                </a:lnTo>
                <a:lnTo>
                  <a:pt x="1642" y="565"/>
                </a:lnTo>
                <a:lnTo>
                  <a:pt x="2865" y="726"/>
                </a:lnTo>
                <a:lnTo>
                  <a:pt x="1952" y="565"/>
                </a:lnTo>
                <a:lnTo>
                  <a:pt x="2562" y="567"/>
                </a:lnTo>
                <a:lnTo>
                  <a:pt x="2562" y="0"/>
                </a:lnTo>
                <a:lnTo>
                  <a:pt x="0" y="2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14840" y="3465360"/>
            <a:ext cx="695520" cy="0"/>
          </a:xfrm>
          <a:prstGeom prst="line">
            <a:avLst/>
          </a:prstGeom>
          <a:ln w="255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8632440" y="4352400"/>
            <a:ext cx="576360" cy="1800"/>
          </a:xfrm>
          <a:prstGeom prst="line">
            <a:avLst/>
          </a:prstGeom>
          <a:ln w="25560">
            <a:solidFill>
              <a:srgbClr val="fc0128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475240" y="5791320"/>
            <a:ext cx="71136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05960" y="1055520"/>
            <a:ext cx="440064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SELECT *  FROM  TAB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WHERE  COL1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=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A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AND    COL2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BETWEEN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Arial"/>
                <a:ea typeface="굴림체"/>
              </a:rPr>
              <a:t>111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Arial"/>
                <a:ea typeface="굴림체"/>
              </a:rPr>
              <a:t> AND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Arial"/>
                <a:ea typeface="굴림체"/>
              </a:rPr>
              <a:t>113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465200" y="6016680"/>
            <a:ext cx="29908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80202"/>
                </a:solidFill>
                <a:latin typeface="Arial"/>
                <a:ea typeface="돋움"/>
              </a:rPr>
              <a:t>INDEX ( COL1 + COL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960880" y="5975280"/>
            <a:ext cx="29908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80202"/>
                </a:solidFill>
                <a:latin typeface="Arial"/>
                <a:ea typeface="돋움"/>
              </a:rPr>
              <a:t>INDEX ( COL2 + COL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442880" y="243000"/>
            <a:ext cx="847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의 처리 범위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(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둘 다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'='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로 안 쓰인  경우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685960" y="3184560"/>
            <a:ext cx="0" cy="696960"/>
          </a:xfrm>
          <a:prstGeom prst="line">
            <a:avLst/>
          </a:prstGeom>
          <a:ln w="255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4177800" y="3503520"/>
            <a:ext cx="6922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4177800" y="3798720"/>
            <a:ext cx="6922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4177800" y="3200400"/>
            <a:ext cx="6922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284880" y="2739960"/>
            <a:ext cx="22654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110            B              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284880" y="3029040"/>
            <a:ext cx="22654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110            C              5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284880" y="3327480"/>
            <a:ext cx="226548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1            A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 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284880" y="3611520"/>
            <a:ext cx="226548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1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B              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284880" y="3911760"/>
            <a:ext cx="226548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1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C              7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284880" y="4199040"/>
            <a:ext cx="226548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2            A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   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284880" y="4497480"/>
            <a:ext cx="226548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2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B              7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84880" y="4797360"/>
            <a:ext cx="226548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2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C              89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284880" y="5089680"/>
            <a:ext cx="2265480" cy="47556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3            A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 18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284880" y="5369040"/>
            <a:ext cx="2265480" cy="47556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3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B             44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284880" y="5664240"/>
            <a:ext cx="2265480" cy="47556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114            A             22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932160" y="3471840"/>
            <a:ext cx="526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18360" y="3429000"/>
            <a:ext cx="0" cy="2089080"/>
          </a:xfrm>
          <a:prstGeom prst="line">
            <a:avLst/>
          </a:prstGeom>
          <a:ln w="255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 flipV="1">
            <a:off x="8632440" y="3490920"/>
            <a:ext cx="576360" cy="1440"/>
          </a:xfrm>
          <a:prstGeom prst="line">
            <a:avLst/>
          </a:prstGeom>
          <a:ln w="25560">
            <a:solidFill>
              <a:srgbClr val="fc0128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8632440" y="5210280"/>
            <a:ext cx="576360" cy="1440"/>
          </a:xfrm>
          <a:prstGeom prst="line">
            <a:avLst/>
          </a:prstGeom>
          <a:ln w="25560">
            <a:solidFill>
              <a:srgbClr val="fc0128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20840" y="2976480"/>
            <a:ext cx="438120" cy="227160"/>
          </a:xfrm>
          <a:prstGeom prst="line">
            <a:avLst/>
          </a:prstGeom>
          <a:ln w="255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81AFC-C26B-4876-852D-AD732FB996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9000" y="241200"/>
            <a:ext cx="81802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</a:rPr>
              <a:t>1. OPTIMIZER MODE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</a:rPr>
              <a:t>에 따른 인덱스 사용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320" y="1143000"/>
            <a:ext cx="9526680" cy="163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DISTINCT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불필요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OPTIMIZER MODE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선택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INIT.ORA        :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</a:rPr>
              <a:t>OPTIMIZED_MODE = FIRST_ROWS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SQL*PLUS, PRO*C :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SQL&gt;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</a:rPr>
              <a:t> ALTER SESSION SET OPTIMIZER_GOAL = FIRST_ROWS;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94" name=""/>
          <p:cNvSpPr/>
          <p:nvPr/>
        </p:nvSpPr>
        <p:spPr>
          <a:xfrm>
            <a:off x="1165320" y="2741760"/>
            <a:ext cx="5176800" cy="3825360"/>
          </a:xfrm>
          <a:prstGeom prst="roundRect">
            <a:avLst>
              <a:gd name="adj" fmla="val 894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ff0033"/>
                </a:solidFill>
                <a:latin typeface="Modern"/>
                <a:ea typeface="바탕체"/>
              </a:rPr>
              <a:t>--+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FIRST_ROWS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B.CLASS, COUNT(B.CLA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OL A, COM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YEAR = B.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HOUSE = B.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SERIAL_NO = B.SERIAL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AMT &gt;=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.DATE &lt; '950501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.CLASS IN ('Y', 'P', 'I', 'C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B.CLASS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7E1F9-2217-44B8-8673-1CF4DC00C7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54120" y="2724120"/>
            <a:ext cx="8580240" cy="2952360"/>
          </a:xfrm>
          <a:prstGeom prst="roundRect">
            <a:avLst>
              <a:gd name="adj" fmla="val 674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ACT_CODE, PART_MODEL_CODE, PART_CHAR_CODE, PART_SPEC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PART_ROUT_CODE, ORDERNO, ITEMNO, DIN_ACT_MH, WORK_ORDER_N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_MODEL_NO, DRAW_NO, MATR_STATUS, WORK_ORDER_DATE, ROW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S_WORK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WORK_ORDER_DATE LIKE :B1 || '%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AND  DEPT_CODE  = :B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AND  GROUP_CODE = :B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ACT_CODE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442880" y="243000"/>
            <a:ext cx="7469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9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의 컬럼 순서에 따른 차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66760" y="1103400"/>
            <a:ext cx="956772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_WORKPLAN : S_WORKPLAN_IDX : WORK_ORDER_DATE + DEPT_CODE + GROUP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79360" y="5979960"/>
            <a:ext cx="9028080" cy="573120"/>
          </a:xfrm>
          <a:prstGeom prst="roundRect">
            <a:avLst>
              <a:gd name="adj" fmla="val 1249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6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방안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인덱스 칼럼 순서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DEPT_CODE + GROUP_CODE + WORK_ORDER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87640" y="4540320"/>
            <a:ext cx="6073920" cy="17974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ROWS    EXECUTION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  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220    SORT (ORDER BY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220      TABLE ACCESS (BY ROWID) OF 'S_WORKPLAN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46026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INDEX (RANGE SCAN) OF 'S_WORKPLAN_IDX' (NON-UNIQ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8D6FC-8574-4096-A541-07F05AE7EA6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506600" y="243000"/>
            <a:ext cx="8488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9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의 컬럼 순서에 따른 차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18520" y="1344600"/>
            <a:ext cx="5109480" cy="65772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ORK_ORDER_DATE + DEPT_CODE + GROUP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LIKE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'1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%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= </a:t>
            </a: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= </a:t>
            </a: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54200" y="2355840"/>
            <a:ext cx="846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WORK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690560" y="2894040"/>
            <a:ext cx="2295720" cy="3012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8600" rIns="22860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A           10      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ff0033"/>
                </a:solidFill>
                <a:latin typeface="Arial"/>
                <a:ea typeface="굴림체"/>
              </a:rPr>
              <a:t>A           10         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A           20         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A           30          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ff0033"/>
                </a:solidFill>
                <a:latin typeface="Arial"/>
                <a:ea typeface="굴림체"/>
              </a:rPr>
              <a:t>B           10         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B           20         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B           30         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B           40          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C           10      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ff0033"/>
                </a:solidFill>
                <a:latin typeface="Arial"/>
                <a:ea typeface="굴림체"/>
              </a:rPr>
              <a:t>C           10         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C           20         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A           10      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256080" y="2881440"/>
            <a:ext cx="2295720" cy="3012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8600" rIns="22860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0           1           1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0           1           1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0           1           2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0           2           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0           2           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0           2           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           2           1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           3           1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           3           1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30           3           1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30           4           1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40           4           1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52600" y="1344600"/>
            <a:ext cx="5109480" cy="65772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DEPT_CODE + GROUP_CODE + WORK_ORDER_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= </a:t>
            </a: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LIKE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'1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%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226520" y="2732040"/>
            <a:ext cx="514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02040" y="5359320"/>
            <a:ext cx="527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368080" y="3036960"/>
            <a:ext cx="526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24000" y="5732640"/>
            <a:ext cx="57312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865840" y="3646440"/>
            <a:ext cx="15969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654280" y="3049560"/>
            <a:ext cx="0" cy="2495520"/>
          </a:xfrm>
          <a:prstGeom prst="line">
            <a:avLst/>
          </a:prstGeom>
          <a:ln w="255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4017960" y="4032360"/>
            <a:ext cx="5428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4006800" y="5264280"/>
            <a:ext cx="5428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4019040" y="3260880"/>
            <a:ext cx="54324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429680" y="3639960"/>
            <a:ext cx="515880" cy="120960"/>
          </a:xfrm>
          <a:prstGeom prst="line">
            <a:avLst/>
          </a:prstGeom>
          <a:ln w="255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255680" y="3040200"/>
            <a:ext cx="573120" cy="0"/>
          </a:xfrm>
          <a:prstGeom prst="line">
            <a:avLst/>
          </a:prstGeom>
          <a:ln w="255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644960" y="3825720"/>
            <a:ext cx="526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947000" y="3790800"/>
            <a:ext cx="0" cy="500040"/>
          </a:xfrm>
          <a:prstGeom prst="line">
            <a:avLst/>
          </a:prstGeom>
          <a:ln w="255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776200" y="3355920"/>
            <a:ext cx="514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582640" y="2355840"/>
            <a:ext cx="7581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DEPT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63480" y="2355840"/>
            <a:ext cx="936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GROUP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843680" y="2355840"/>
            <a:ext cx="846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WORK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211440" y="2355840"/>
            <a:ext cx="7581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DEPT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976440" y="2355840"/>
            <a:ext cx="936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GROUP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81960" y="4130640"/>
            <a:ext cx="527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803920" y="4503600"/>
            <a:ext cx="57312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8488440" y="4289400"/>
            <a:ext cx="5428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8488440" y="4040280"/>
            <a:ext cx="5428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8488440" y="3760920"/>
            <a:ext cx="5428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4B384-F095-4FD3-966D-8830679759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-433440" y="3098880"/>
            <a:ext cx="10760760" cy="20818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SHIPPER, COUNT(*), SUM(AM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EX_SHI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DATE  BETWEEN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'950101'  AND  '950430'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&lt;- 4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개월 분량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,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약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33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만 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HIPPER  IN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('A', 'B', 'C'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 SHIPP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 SUM(AMT) DESC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442880" y="243000"/>
            <a:ext cx="8645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0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간단한 결합 인덱스지만  컬럼 순서 유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03040" y="1103400"/>
            <a:ext cx="98092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EX_SHIPPER  : SHIP_DATE_IX  :  SDATE +  SHI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EX_SHIPPER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테이블의 분포도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  SDATE : 1 / 365 , SHIPPER : 1 /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430880" y="4883040"/>
            <a:ext cx="5155920" cy="22827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굴림체"/>
                <a:ea typeface="굴림체"/>
              </a:rPr>
              <a:t>EXECUTION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STATEMENT  COST ESTIMATE:N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ORT ( GROUP BY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EX_SHIPPER ( 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  SCAN  SHIP_DATE_IX ( NU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136FF-1E93-4D26-9525-DD191328129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2241000" y="243000"/>
            <a:ext cx="6284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0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간단한 결합 인덱스지만  컬럼 순서 유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060560" y="1909800"/>
            <a:ext cx="485640" cy="390348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31120" y="1434960"/>
            <a:ext cx="21999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Arial"/>
                <a:ea typeface="굴림체"/>
              </a:rPr>
              <a:t>SHIP_DATE_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01480" y="6018120"/>
            <a:ext cx="16102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SDATE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SHI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89240" y="1917720"/>
            <a:ext cx="111132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958760" y="1438200"/>
            <a:ext cx="20322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Arial"/>
                <a:ea typeface="굴림체"/>
              </a:rPr>
              <a:t>EX_SHI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1555920" y="2362320"/>
            <a:ext cx="1207800" cy="51912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555920" y="3054240"/>
            <a:ext cx="1126800" cy="167004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1555920" y="2971800"/>
            <a:ext cx="1207800" cy="3412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422000" y="3603600"/>
            <a:ext cx="8330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555920" y="4741920"/>
            <a:ext cx="1126800" cy="43956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09960" y="2146320"/>
            <a:ext cx="542880" cy="1955880"/>
          </a:xfrm>
          <a:prstGeom prst="rect">
            <a:avLst/>
          </a:prstGeom>
          <a:solidFill>
            <a:srgbClr val="eaeaea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3071880" y="2260440"/>
            <a:ext cx="793800" cy="13032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3086280" y="2881080"/>
            <a:ext cx="779400" cy="9036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3013200" y="2476440"/>
            <a:ext cx="852480" cy="220824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3013200" y="4021200"/>
            <a:ext cx="852480" cy="115416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492800" y="2540160"/>
            <a:ext cx="56808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492800" y="2768760"/>
            <a:ext cx="56808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492800" y="2997360"/>
            <a:ext cx="56808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32520" y="1909800"/>
            <a:ext cx="488880" cy="390348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071320" y="1471680"/>
            <a:ext cx="21999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Arial"/>
                <a:ea typeface="굴림체"/>
              </a:rPr>
              <a:t>SHIP_DATE_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453280" y="6016680"/>
            <a:ext cx="1854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SHIPPER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S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262640" y="1917720"/>
            <a:ext cx="110988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994440" y="1438200"/>
            <a:ext cx="20322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Arial"/>
                <a:ea typeface="굴림체"/>
              </a:rPr>
              <a:t>EX_SHI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6359400" y="2362320"/>
            <a:ext cx="1457280" cy="4572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359400" y="4419720"/>
            <a:ext cx="13766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6548400" y="2971800"/>
            <a:ext cx="1187640" cy="1540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6359400" y="2743200"/>
            <a:ext cx="1376640" cy="9144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239880" y="2739960"/>
            <a:ext cx="817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534000" y="3876840"/>
            <a:ext cx="1202040" cy="12286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061480" y="2438280"/>
            <a:ext cx="733320" cy="30492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8061480" y="2273040"/>
            <a:ext cx="745920" cy="4698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061480" y="2971800"/>
            <a:ext cx="707760" cy="16524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8061480" y="4025520"/>
            <a:ext cx="720720" cy="4698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8061480" y="3403440"/>
            <a:ext cx="707760" cy="17020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9477360" y="2489040"/>
            <a:ext cx="5684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9477360" y="2717640"/>
            <a:ext cx="5684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9477360" y="2946240"/>
            <a:ext cx="5684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534000" y="4756320"/>
            <a:ext cx="1041480" cy="9586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239880" y="3525840"/>
            <a:ext cx="817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239880" y="4421160"/>
            <a:ext cx="817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901000" y="2209680"/>
            <a:ext cx="542880" cy="1955880"/>
          </a:xfrm>
          <a:prstGeom prst="rect">
            <a:avLst/>
          </a:prstGeom>
          <a:solidFill>
            <a:srgbClr val="eaeaea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068480" y="2787480"/>
            <a:ext cx="466560" cy="2038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813960" y="2867040"/>
            <a:ext cx="397440" cy="2035080"/>
            <a:chOff x="813960" y="2867040"/>
            <a:chExt cx="397440" cy="2035080"/>
          </a:xfrm>
        </p:grpSpPr>
        <p:sp>
          <p:nvSpPr>
            <p:cNvPr id="485" name=""/>
            <p:cNvSpPr/>
            <p:nvPr/>
          </p:nvSpPr>
          <p:spPr>
            <a:xfrm>
              <a:off x="879480" y="286704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211400" y="2867040"/>
              <a:ext cx="0" cy="203508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813960" y="490212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6040440" y="2754360"/>
            <a:ext cx="466560" cy="3999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5785920" y="2833560"/>
            <a:ext cx="397440" cy="400320"/>
            <a:chOff x="5785920" y="2833560"/>
            <a:chExt cx="397440" cy="400320"/>
          </a:xfrm>
        </p:grpSpPr>
        <p:sp>
          <p:nvSpPr>
            <p:cNvPr id="490" name=""/>
            <p:cNvSpPr/>
            <p:nvPr/>
          </p:nvSpPr>
          <p:spPr>
            <a:xfrm>
              <a:off x="5851440" y="283356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183360" y="2833560"/>
              <a:ext cx="0" cy="40032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5785920" y="323388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6040440" y="3513240"/>
            <a:ext cx="466560" cy="3999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5785920" y="3592440"/>
            <a:ext cx="397440" cy="399960"/>
            <a:chOff x="5785920" y="3592440"/>
            <a:chExt cx="397440" cy="399960"/>
          </a:xfrm>
        </p:grpSpPr>
        <p:sp>
          <p:nvSpPr>
            <p:cNvPr id="495" name=""/>
            <p:cNvSpPr/>
            <p:nvPr/>
          </p:nvSpPr>
          <p:spPr>
            <a:xfrm>
              <a:off x="5851440" y="359244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183360" y="3592440"/>
              <a:ext cx="0" cy="39996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5785920" y="399240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6040440" y="4378320"/>
            <a:ext cx="466560" cy="3999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5785920" y="4457880"/>
            <a:ext cx="397440" cy="399960"/>
            <a:chOff x="5785920" y="4457880"/>
            <a:chExt cx="397440" cy="399960"/>
          </a:xfrm>
        </p:grpSpPr>
        <p:sp>
          <p:nvSpPr>
            <p:cNvPr id="500" name=""/>
            <p:cNvSpPr/>
            <p:nvPr/>
          </p:nvSpPr>
          <p:spPr>
            <a:xfrm>
              <a:off x="5851440" y="445788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183360" y="4457880"/>
              <a:ext cx="0" cy="39996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5785920" y="485784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F0CE5-32BE-4677-8386-2166323DBB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2241000" y="243000"/>
            <a:ext cx="6284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0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간단한 결합 인덱스지만  컬럼 순서 유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89080" y="1255680"/>
            <a:ext cx="4724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SHIPPER IN (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‘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C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’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, 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‘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B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’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, 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‘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A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’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SHIP_DATE_IX1 : SHIPPER + SDATE + AM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218120" y="3406680"/>
            <a:ext cx="444240" cy="262260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220920" y="3043080"/>
            <a:ext cx="2151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SHIP_DATE_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078680" y="3770280"/>
            <a:ext cx="504720" cy="1986120"/>
          </a:xfrm>
          <a:prstGeom prst="rect">
            <a:avLst/>
          </a:prstGeom>
          <a:solidFill>
            <a:srgbClr val="dddddd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785280" y="3987720"/>
            <a:ext cx="1020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Arial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Arial"/>
                <a:ea typeface="굴림체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778800" y="3981600"/>
            <a:ext cx="1020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21640" y="4352760"/>
            <a:ext cx="977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돋움"/>
                <a:ea typeface="돋움"/>
              </a:rPr>
              <a:t>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15160" y="4344840"/>
            <a:ext cx="977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821640" y="4716360"/>
            <a:ext cx="977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돋움"/>
                <a:ea typeface="돋움"/>
              </a:rPr>
              <a:t>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815160" y="4708440"/>
            <a:ext cx="977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21640" y="5079960"/>
            <a:ext cx="977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돋움"/>
                <a:ea typeface="돋움"/>
              </a:rPr>
              <a:t>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815160" y="5072040"/>
            <a:ext cx="977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615080" y="412128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908840" y="4048200"/>
            <a:ext cx="228600" cy="147600"/>
          </a:xfrm>
          <a:custGeom>
            <a:avLst/>
            <a:gdLst/>
            <a:ahLst/>
            <a:rect l="l" t="t" r="r" b="b"/>
            <a:pathLst>
              <a:path w="144" h="93">
                <a:moveTo>
                  <a:pt x="0" y="92"/>
                </a:moveTo>
                <a:lnTo>
                  <a:pt x="17" y="46"/>
                </a:lnTo>
                <a:lnTo>
                  <a:pt x="0" y="0"/>
                </a:lnTo>
                <a:lnTo>
                  <a:pt x="143" y="46"/>
                </a:lnTo>
                <a:lnTo>
                  <a:pt x="0" y="9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615080" y="434988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908840" y="4276800"/>
            <a:ext cx="228600" cy="147600"/>
          </a:xfrm>
          <a:custGeom>
            <a:avLst/>
            <a:gdLst/>
            <a:ahLst/>
            <a:rect l="l" t="t" r="r" b="b"/>
            <a:pathLst>
              <a:path w="144" h="93">
                <a:moveTo>
                  <a:pt x="0" y="92"/>
                </a:moveTo>
                <a:lnTo>
                  <a:pt x="17" y="46"/>
                </a:lnTo>
                <a:lnTo>
                  <a:pt x="0" y="0"/>
                </a:lnTo>
                <a:lnTo>
                  <a:pt x="143" y="46"/>
                </a:lnTo>
                <a:lnTo>
                  <a:pt x="0" y="9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615080" y="458136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908840" y="4508640"/>
            <a:ext cx="228600" cy="147600"/>
          </a:xfrm>
          <a:custGeom>
            <a:avLst/>
            <a:gdLst/>
            <a:ahLst/>
            <a:rect l="l" t="t" r="r" b="b"/>
            <a:pathLst>
              <a:path w="144" h="93">
                <a:moveTo>
                  <a:pt x="0" y="92"/>
                </a:moveTo>
                <a:lnTo>
                  <a:pt x="17" y="46"/>
                </a:lnTo>
                <a:lnTo>
                  <a:pt x="0" y="0"/>
                </a:lnTo>
                <a:lnTo>
                  <a:pt x="143" y="46"/>
                </a:lnTo>
                <a:lnTo>
                  <a:pt x="0" y="9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694960" y="6087960"/>
            <a:ext cx="3111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SHIPPER + SDATE + A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3993840" y="3687840"/>
            <a:ext cx="405000" cy="415800"/>
            <a:chOff x="3993840" y="3687840"/>
            <a:chExt cx="405000" cy="415800"/>
          </a:xfrm>
        </p:grpSpPr>
        <p:sp>
          <p:nvSpPr>
            <p:cNvPr id="524" name=""/>
            <p:cNvSpPr/>
            <p:nvPr/>
          </p:nvSpPr>
          <p:spPr>
            <a:xfrm>
              <a:off x="4016520" y="3687840"/>
              <a:ext cx="38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394160" y="3695760"/>
              <a:ext cx="0" cy="39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3993840" y="4103640"/>
              <a:ext cx="39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4498920" y="3675240"/>
            <a:ext cx="231156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742080" y="3830760"/>
            <a:ext cx="235080" cy="145800"/>
          </a:xfrm>
          <a:custGeom>
            <a:avLst/>
            <a:gdLst/>
            <a:ahLst/>
            <a:rect l="l" t="t" r="r" b="b"/>
            <a:pathLst>
              <a:path w="148" h="92">
                <a:moveTo>
                  <a:pt x="0" y="91"/>
                </a:moveTo>
                <a:lnTo>
                  <a:pt x="22" y="48"/>
                </a:lnTo>
                <a:lnTo>
                  <a:pt x="11" y="0"/>
                </a:lnTo>
                <a:lnTo>
                  <a:pt x="147" y="63"/>
                </a:lnTo>
                <a:lnTo>
                  <a:pt x="0" y="9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4538520" y="5079600"/>
            <a:ext cx="2200320" cy="17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672240" y="5014800"/>
            <a:ext cx="233280" cy="146160"/>
          </a:xfrm>
          <a:custGeom>
            <a:avLst/>
            <a:gdLst/>
            <a:ahLst/>
            <a:rect l="l" t="t" r="r" b="b"/>
            <a:pathLst>
              <a:path w="147" h="92">
                <a:moveTo>
                  <a:pt x="7" y="91"/>
                </a:moveTo>
                <a:lnTo>
                  <a:pt x="20" y="43"/>
                </a:lnTo>
                <a:lnTo>
                  <a:pt x="0" y="0"/>
                </a:lnTo>
                <a:lnTo>
                  <a:pt x="146" y="35"/>
                </a:lnTo>
                <a:lnTo>
                  <a:pt x="7" y="9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535640" y="4110120"/>
            <a:ext cx="2261880" cy="8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730920" y="4121280"/>
            <a:ext cx="233280" cy="147600"/>
          </a:xfrm>
          <a:custGeom>
            <a:avLst/>
            <a:gdLst/>
            <a:ahLst/>
            <a:rect l="l" t="t" r="r" b="b"/>
            <a:pathLst>
              <a:path w="147" h="93">
                <a:moveTo>
                  <a:pt x="0" y="92"/>
                </a:moveTo>
                <a:lnTo>
                  <a:pt x="20" y="46"/>
                </a:lnTo>
                <a:lnTo>
                  <a:pt x="5" y="0"/>
                </a:lnTo>
                <a:lnTo>
                  <a:pt x="146" y="50"/>
                </a:lnTo>
                <a:lnTo>
                  <a:pt x="0" y="9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4538520" y="4470120"/>
            <a:ext cx="2271960" cy="1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748560" y="4397400"/>
            <a:ext cx="228600" cy="147600"/>
          </a:xfrm>
          <a:custGeom>
            <a:avLst/>
            <a:gdLst/>
            <a:ahLst/>
            <a:rect l="l" t="t" r="r" b="b"/>
            <a:pathLst>
              <a:path w="144" h="93">
                <a:moveTo>
                  <a:pt x="0" y="92"/>
                </a:moveTo>
                <a:lnTo>
                  <a:pt x="18" y="46"/>
                </a:lnTo>
                <a:lnTo>
                  <a:pt x="0" y="0"/>
                </a:lnTo>
                <a:lnTo>
                  <a:pt x="143" y="46"/>
                </a:lnTo>
                <a:lnTo>
                  <a:pt x="0" y="9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378320" y="3687840"/>
            <a:ext cx="98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378320" y="3840120"/>
            <a:ext cx="98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4552920" y="4765680"/>
            <a:ext cx="2212920" cy="17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703920" y="4699080"/>
            <a:ext cx="231840" cy="147600"/>
          </a:xfrm>
          <a:custGeom>
            <a:avLst/>
            <a:gdLst/>
            <a:ahLst/>
            <a:rect l="l" t="t" r="r" b="b"/>
            <a:pathLst>
              <a:path w="146" h="93">
                <a:moveTo>
                  <a:pt x="6" y="92"/>
                </a:moveTo>
                <a:lnTo>
                  <a:pt x="19" y="44"/>
                </a:lnTo>
                <a:lnTo>
                  <a:pt x="0" y="0"/>
                </a:lnTo>
                <a:lnTo>
                  <a:pt x="145" y="35"/>
                </a:lnTo>
                <a:lnTo>
                  <a:pt x="6" y="9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4514760" y="5401800"/>
            <a:ext cx="225432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700680" y="5337000"/>
            <a:ext cx="235080" cy="146160"/>
          </a:xfrm>
          <a:custGeom>
            <a:avLst/>
            <a:gdLst/>
            <a:ahLst/>
            <a:rect l="l" t="t" r="r" b="b"/>
            <a:pathLst>
              <a:path w="148" h="92">
                <a:moveTo>
                  <a:pt x="11" y="91"/>
                </a:moveTo>
                <a:lnTo>
                  <a:pt x="21" y="43"/>
                </a:lnTo>
                <a:lnTo>
                  <a:pt x="0" y="0"/>
                </a:lnTo>
                <a:lnTo>
                  <a:pt x="147" y="28"/>
                </a:lnTo>
                <a:lnTo>
                  <a:pt x="11" y="9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346640" y="4491000"/>
            <a:ext cx="98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346640" y="4643280"/>
            <a:ext cx="98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367520" y="5208480"/>
            <a:ext cx="98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367520" y="5364000"/>
            <a:ext cx="98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073480" y="1152360"/>
            <a:ext cx="4872240" cy="1933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EXECUTION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SELECT STATE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SORT  ( GROUP BY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CONCATE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  SCAN  : SHIP_DATE_IX1 ( NU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  SCAN  : SHIP_DATE_IX1 ( NU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  SCAN  : SHIP_DATE_IX1 ( NU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2920" y="3952800"/>
            <a:ext cx="3477240" cy="1361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처리범위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SHIPPER ='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SDATE BETWEEN ...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에 의해서 결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3993840" y="4518000"/>
            <a:ext cx="405000" cy="415800"/>
            <a:chOff x="3993840" y="4518000"/>
            <a:chExt cx="405000" cy="415800"/>
          </a:xfrm>
        </p:grpSpPr>
        <p:sp>
          <p:nvSpPr>
            <p:cNvPr id="548" name=""/>
            <p:cNvSpPr/>
            <p:nvPr/>
          </p:nvSpPr>
          <p:spPr>
            <a:xfrm>
              <a:off x="4016520" y="4518000"/>
              <a:ext cx="38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94160" y="4525920"/>
              <a:ext cx="0" cy="39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3993840" y="4933800"/>
              <a:ext cx="39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3993840" y="5262480"/>
            <a:ext cx="405000" cy="416160"/>
            <a:chOff x="3993840" y="5262480"/>
            <a:chExt cx="405000" cy="416160"/>
          </a:xfrm>
        </p:grpSpPr>
        <p:sp>
          <p:nvSpPr>
            <p:cNvPr id="552" name=""/>
            <p:cNvSpPr/>
            <p:nvPr/>
          </p:nvSpPr>
          <p:spPr>
            <a:xfrm>
              <a:off x="4016520" y="5262480"/>
              <a:ext cx="38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394160" y="5270400"/>
              <a:ext cx="0" cy="39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3993840" y="5678640"/>
              <a:ext cx="39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3284640" y="4633920"/>
            <a:ext cx="59508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3284640" y="3890880"/>
            <a:ext cx="609480" cy="72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271680" y="4651200"/>
            <a:ext cx="622440" cy="696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5447E-5A8B-430A-B8AF-2A1D469922B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3943440" y="2295360"/>
            <a:ext cx="79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921120" y="2201760"/>
            <a:ext cx="128520" cy="201600"/>
          </a:xfrm>
          <a:custGeom>
            <a:avLst/>
            <a:gdLst/>
            <a:ahLst/>
            <a:rect l="l" t="t" r="r" b="b"/>
            <a:pathLst>
              <a:path w="81" h="127">
                <a:moveTo>
                  <a:pt x="0" y="0"/>
                </a:moveTo>
                <a:lnTo>
                  <a:pt x="80" y="60"/>
                </a:lnTo>
                <a:lnTo>
                  <a:pt x="0" y="12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344680" y="1416240"/>
            <a:ext cx="1570320" cy="2290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76320" bIns="7632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돋움"/>
              </a:rPr>
              <a:t>GFLT9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# * PART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# * CAR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# * D_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# * TEA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SPU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DER_P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F_HP_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298600" y="243000"/>
            <a:ext cx="6070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1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시 사용된 결합 인덱스의 컬럼 순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826160" y="2297160"/>
            <a:ext cx="987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563080" y="1396800"/>
            <a:ext cx="1681560" cy="2162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76320" bIns="7632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돋움"/>
              </a:rPr>
              <a:t>GFXC1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# * PART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# * D_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# * TEA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B_F_Q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UPPER_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347920" y="1897200"/>
            <a:ext cx="155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564160" y="1892160"/>
            <a:ext cx="167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30200" y="4325760"/>
            <a:ext cx="8745480" cy="17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LT950  A : GFLT950_X1 : CAR_CODE + D_DAY +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PART_CODE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+ TEAM_CODE (P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LT950  A : GFLT950_X2 : TEAM_CODE + SPUM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XC130  B : GFXC130_X1 : D_DAY + PART_CODE + TEAM_CODE (P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A126D-D627-41BF-84D5-19F6D7E42D1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282600" y="947880"/>
            <a:ext cx="966456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LT950  A : GFLT950_X1 : CAR_CODE + D_DAY +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PART_CODE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+ TEAM_CODE (P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LT950  A : GFLT950_X2 : TEAM_CODE + SPU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XC130  B : GFXC130_X1 : D_DAY + PART_CODE + TEAM_CODE (P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84280" y="2732040"/>
            <a:ext cx="6548400" cy="3822840"/>
          </a:xfrm>
          <a:prstGeom prst="roundRect">
            <a:avLst>
              <a:gd name="adj" fmla="val 90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CAR_CODE, A.D_DAY, A.PART_CODE, A.SPUM_COD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.ORDER_PRT, A.HP_Q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B.TEAM_CDOE, B.UPFR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LT950 A,  GFXC130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WHERE  A.PART_CODE = B.PART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ORDER_PRT = 100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.D_DAY = :VALU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.TEAM_CODE = :VALU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.PART_CODE BETWEEN :VALUE3 AND :VALUE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298600" y="243000"/>
            <a:ext cx="6070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1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시 사용된 결합 인덱스의 컬럼 순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82600" y="2246400"/>
            <a:ext cx="83437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4722840" y="3363840"/>
            <a:ext cx="5300640" cy="2010600"/>
            <a:chOff x="4722840" y="3363840"/>
            <a:chExt cx="5300640" cy="2010600"/>
          </a:xfrm>
        </p:grpSpPr>
        <p:sp>
          <p:nvSpPr>
            <p:cNvPr id="572" name=""/>
            <p:cNvSpPr/>
            <p:nvPr/>
          </p:nvSpPr>
          <p:spPr>
            <a:xfrm>
              <a:off x="4722840" y="3363840"/>
              <a:ext cx="5300640" cy="201060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cc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cc0000"/>
                  </a:solidFill>
                  <a:latin typeface="굴림체"/>
                  <a:ea typeface="굴림체"/>
                </a:rPr>
                <a:t>ROWS  EXECUTION PL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-----  -------------------------------------------------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0  SELECT  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84    NESTED LO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3300"/>
                  </a:solidFill>
                  <a:latin typeface="굴림체"/>
                  <a:ea typeface="굴림체"/>
                </a:rPr>
                <a:t>17718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TABLE ACCESS (FULL) OF 'GFLT950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84      TABLE ACCESS (BY ROWID) OF 'GFXC130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84        INDEX (UNIQUE SCAN) OF 'GFXC130_X1' (UNIQU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9104040" y="4149720"/>
              <a:ext cx="677160" cy="6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SzPct val="120000"/>
                <a:buFont typeface="Wingdings" charset="2"/>
                <a:buChar char="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SzPct val="120000"/>
                <a:buFont typeface="Wingdings" charset="2"/>
                <a:buChar char="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282600" y="5935680"/>
            <a:ext cx="94219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 방안 </a:t>
            </a: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: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LT950_X1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PART_CODE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+ CAR_CODE + D_DAY + TEAM_CODE</a:t>
            </a: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09D7C-9471-46E2-95A2-3601F266F8F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-477360" y="2863800"/>
            <a:ext cx="8436960" cy="21898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CAR_CODE, A.D_DAY, A.PART_CODE, A.SPUM_COD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.ORDER.PRT, A.F_HP_Q, B.TEAM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LT920 A,  GFXC130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A.PART_CODE = B.PART_CO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AND  A.D_DAY = :VALU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.PART_CODE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BETWEEN  :VALUE3  AND  :VALUE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.TEAM_CODE = :VALUE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213280" y="243000"/>
            <a:ext cx="55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를 구성하는 컬럼 선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66760" y="1103400"/>
            <a:ext cx="9736200" cy="22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LT920  A : GFLT920_X1 : CAR_CODE + D_DAY + PART_CODE + TEAM_CODE (P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LT920  A : GFLT920_X2 : PART_CODE + SPUM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XC130  B : GFXC130_X1 : PART_CODE + TEAM_CODE (PRIMARY K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6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392720" y="4816440"/>
            <a:ext cx="5148000" cy="20530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ROWS  EXECUTION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  -----------------------------------------------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 STATEMENT      HINT : CHOO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3    NESTED 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12      TABLE ACCESS (BY ROWID) OF 'GFXC13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13        INDEX (RANGE SCAN) OF 'GFXC130_X1' (UNIQ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6389      TABLE ACCESS (BY ROWID) OF 'GFLT92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6390        INDEX (RANGE SCAN) OF 'GFLT920_X2'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770680" y="5562720"/>
            <a:ext cx="67716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D66E4-690A-4B37-BE61-1AC53268C75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2277000" y="243000"/>
            <a:ext cx="55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를 구성하는 컬럼 선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335720" y="1231920"/>
            <a:ext cx="1055880" cy="298620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95800" y="1231920"/>
            <a:ext cx="1193760" cy="294012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77880" y="2417760"/>
            <a:ext cx="878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42960" y="2898720"/>
            <a:ext cx="912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682640" y="1219320"/>
            <a:ext cx="673200" cy="295884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06600" y="2800440"/>
            <a:ext cx="812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394000" y="2417760"/>
            <a:ext cx="850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343560" y="3365640"/>
            <a:ext cx="84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570560" y="2417760"/>
            <a:ext cx="757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568760" y="2800440"/>
            <a:ext cx="746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369120" y="1871640"/>
            <a:ext cx="79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434440" y="2795760"/>
            <a:ext cx="849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434440" y="2332080"/>
            <a:ext cx="853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376000" y="1876320"/>
            <a:ext cx="59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2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34680" y="1876320"/>
            <a:ext cx="59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3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303600" y="1384200"/>
            <a:ext cx="843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6389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8550000" y="1728720"/>
            <a:ext cx="59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23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704840" y="1876320"/>
            <a:ext cx="59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2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381480" y="4424400"/>
            <a:ext cx="1038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FXC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테이블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369200" y="4456080"/>
            <a:ext cx="1038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FLT9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테이블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181520" y="4435560"/>
            <a:ext cx="140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FXC130_X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115240" y="4511520"/>
            <a:ext cx="140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FLT920_X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52440" y="5154480"/>
            <a:ext cx="927252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LT920  A : GFLT920_X2 :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PART_CODE + D_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518080" y="1231920"/>
            <a:ext cx="701640" cy="296712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888160" y="1871640"/>
            <a:ext cx="0" cy="15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457600" y="3635280"/>
            <a:ext cx="843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6390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CE737-C656-416B-8317-56704861918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-11160" y="2800440"/>
            <a:ext cx="6949080" cy="20718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A.PART_CODE,A.SPUM_CODE,A.D_DAY,A.B_F_QT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.TAG,B.ORDER_PRT,C.DC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GFBT400  A,  GFXC440  B,  GFXC130 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.SPUM_CODE =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B.SPUM_CODE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A.PART_CODE =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C.PART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A.D_DAY =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AND A.TEAM_CODE = :B2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213280" y="243000"/>
            <a:ext cx="55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3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를 구성하는 컬럼 순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66760" y="1103400"/>
            <a:ext cx="98200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BT400  A :  GFBT400_X3 :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TEAM_COD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+ SHOP_CODE +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D_DAY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XC440  B :  GFXC440_X1 : SPUM_CODE  (UN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XC130  C :  GFXC130_X1 : PART_CODE  (UN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686040" y="4356000"/>
            <a:ext cx="6086520" cy="3118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ROWS   EXECUTION 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  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  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91    NESTED  LOO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91      NESTED  LOO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391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TABLE  ACCESS ( BY ROWID )  OF  'GFBT40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48276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INDEX ( RANGE SCAN )  OF  'GFBT400_X3' (NON-UNIQ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91        TABLE  ACCESS ( BY ROWID )  OF  'GFXC13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91          INDEX ( UNIQUE SCAN )  OF  'GFXC130_X1' (UNIQ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91      TABLE  ACCESS ( BY ROWID )  OF  'GFXC44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91        INDEX  ( UNIQUE SCAN ) OF  'GFXC440_X1' (UNIQ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9190800" y="5375160"/>
            <a:ext cx="621000" cy="11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708E2-238D-453F-BAF9-9786018DD42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-499320" y="2849400"/>
            <a:ext cx="8688960" cy="18745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H14_ACNT_CODE, H14_GWANLI_CODE, H14_MAGAM_Y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H14_MAGAM_MM,  H14_GUBUN, H14_C_AMT, H14_D_AM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FH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H14_MAGAM_YY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= :B0  AND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H14_GUBUN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=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ORDER BY  H14_ACNT_CODE, H14_GWANLI_COD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89720" y="243000"/>
            <a:ext cx="5709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. ORDER BY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절에서도 인덱스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6760" y="1103400"/>
            <a:ext cx="9745560" cy="19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H14 : IFH14_KEY1 : </a:t>
            </a: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H14_ACNT_CODE + H14_GWANLI_CODE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+ </a:t>
            </a:r>
            <a:r>
              <a:rPr b="1" lang="ko-KR" sz="1400" spc="-1" strike="noStrike">
                <a:solidFill>
                  <a:srgbClr val="3333cc"/>
                </a:solidFill>
                <a:latin typeface="굴림체"/>
                <a:ea typeface="굴림체"/>
              </a:rPr>
              <a:t>H14_MAGAM_YY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+ H14_MAGAM_MM + </a:t>
            </a:r>
            <a:r>
              <a:rPr b="1" lang="ko-KR" sz="1400" spc="-1" strike="noStrike">
                <a:solidFill>
                  <a:srgbClr val="3333cc"/>
                </a:solidFill>
                <a:latin typeface="굴림체"/>
                <a:ea typeface="굴림체"/>
              </a:rPr>
              <a:t>H14_GUB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40160" y="5200560"/>
            <a:ext cx="6265800" cy="1771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cc0000"/>
                </a:solidFill>
                <a:latin typeface="굴림체"/>
                <a:ea typeface="굴림체"/>
              </a:rPr>
              <a:t>ROWS    EXECUTION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----    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0    SELECT STATEMENT   HINT: CHO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5743      TABLE ACCESS (BY ROWID) OF 'FH14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68188        INDEX (RANGE SCAN) OF 'IFH14_KEY1' (UNIQU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53120" y="4334040"/>
            <a:ext cx="2578320" cy="911160"/>
          </a:xfrm>
          <a:custGeom>
            <a:avLst/>
            <a:gdLst>
              <a:gd name="textAreaLeft" fmla="*/ 95400 w 2578320"/>
              <a:gd name="textAreaRight" fmla="*/ 2482920 w 2578320"/>
              <a:gd name="textAreaTop" fmla="*/ 33480 h 911160"/>
              <a:gd name="textAreaBottom" fmla="*/ 727920 h 9111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698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Order By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에 의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SORT Plan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이 없는 이유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95440" y="5218200"/>
            <a:ext cx="2211120" cy="6915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적어도 하나 이상의 컬럼이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NOT 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A0E71-4522-47CC-8FD4-A4179382E9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2213280" y="243000"/>
            <a:ext cx="55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3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를 구성하는 컬럼 순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936720" y="1833480"/>
            <a:ext cx="485640" cy="388152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47240" y="1285920"/>
            <a:ext cx="18540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GFBT400_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08360" y="5881680"/>
            <a:ext cx="202788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TEA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+ SHOP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+ D_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92280" y="2362320"/>
            <a:ext cx="4078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100160" y="2362320"/>
            <a:ext cx="0" cy="28954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614160" y="5257800"/>
            <a:ext cx="4856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62000" y="3213000"/>
            <a:ext cx="8874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482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165400" y="1841400"/>
            <a:ext cx="127008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930320" y="1285920"/>
            <a:ext cx="15368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GFBT4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1258920" y="2286000"/>
            <a:ext cx="1297080" cy="53352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58920" y="2895480"/>
            <a:ext cx="1297080" cy="18288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1258920" y="2819520"/>
            <a:ext cx="1297080" cy="30456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1258920" y="4191120"/>
            <a:ext cx="1297080" cy="76176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459080" y="3068640"/>
            <a:ext cx="40320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258920" y="4038480"/>
            <a:ext cx="1297080" cy="99072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278240" y="1833480"/>
            <a:ext cx="538200" cy="390384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711960" y="1285920"/>
            <a:ext cx="18648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GFXC130_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62960" y="2222640"/>
            <a:ext cx="12657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39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581800" y="1841400"/>
            <a:ext cx="117144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346000" y="1285920"/>
            <a:ext cx="15476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GFXC1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678200" y="2666880"/>
            <a:ext cx="1295640" cy="60984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678200" y="2819520"/>
            <a:ext cx="1295640" cy="167616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777920" y="3754440"/>
            <a:ext cx="8330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761000" y="4800600"/>
            <a:ext cx="1212840" cy="1522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548160" y="5781600"/>
            <a:ext cx="20034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PART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878200" y="2286000"/>
            <a:ext cx="1542960" cy="9144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878200" y="2666880"/>
            <a:ext cx="1542960" cy="11430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2962440" y="2742840"/>
            <a:ext cx="1458720" cy="30492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575800" y="3220920"/>
            <a:ext cx="8330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2878200" y="3885840"/>
            <a:ext cx="1542960" cy="76212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2878200" y="4800240"/>
            <a:ext cx="1542960" cy="2286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432560" y="1833480"/>
            <a:ext cx="487440" cy="390384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8580600" y="1841400"/>
            <a:ext cx="111744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8344800" y="1285920"/>
            <a:ext cx="15476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GFXC4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756560" y="2895480"/>
            <a:ext cx="1297080" cy="18288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7756560" y="2666880"/>
            <a:ext cx="1297080" cy="60984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613280" y="3449520"/>
            <a:ext cx="8330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756560" y="4800600"/>
            <a:ext cx="1297080" cy="2286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461280" y="2971800"/>
            <a:ext cx="1054080" cy="190512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639320" y="2222640"/>
            <a:ext cx="12657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39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6539040" y="2819520"/>
            <a:ext cx="1054080" cy="17524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76440" y="3297240"/>
            <a:ext cx="8330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6539040" y="3200400"/>
            <a:ext cx="1054080" cy="17524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725160" y="1285920"/>
            <a:ext cx="18648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GFXC440_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642720" y="5857920"/>
            <a:ext cx="19832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SPU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452280" y="2222640"/>
            <a:ext cx="12657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39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604640" y="2222640"/>
            <a:ext cx="12657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39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1258920" y="3504960"/>
            <a:ext cx="1297080" cy="11430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58920" y="2514600"/>
            <a:ext cx="1297080" cy="8380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378080" y="2222640"/>
            <a:ext cx="8586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돋움"/>
              </a:rPr>
              <a:t>391</a:t>
            </a: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돋움"/>
              </a:rPr>
              <a:t>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505360" y="3144960"/>
            <a:ext cx="8330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570040" y="6229440"/>
            <a:ext cx="4730760" cy="4953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TEAM_CODE + D_DAY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+ SHOP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546AB-E2B8-4A16-8558-DAA7FEC3C6F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-509760" y="3005280"/>
            <a:ext cx="9251280" cy="20703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D_DAY,  TEAM_CODE,  SPUM_CODE,  B_F_QTY,  ORDER_P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GFBT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D_DAY  BETWEEN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:VALUE1 AND :VALU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TEAM_CODE =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VALUE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ORDER_PRT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212560" y="243000"/>
            <a:ext cx="55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4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의 사용을 정확히 확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4280" y="1103400"/>
            <a:ext cx="9409320" cy="23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BT300 : GFBT300_X1 :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D_DAY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+ SPUM_CODE + SERIAL_NO (PRIMARY K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BT300 : GFBT300_X2 : SPUM_CODE + D_DAY + ORDER_P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121280" y="4460760"/>
            <a:ext cx="5848200" cy="17974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ROWS  EXECUTION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  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 STATEMENT          HINT  :  CHOO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9064    SORT (ORDER B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9728      TABLE  ACCESS  (BY  ROWID)  OF  GFBT30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29729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INDEX  (RANGE  SCAN)  OF  GFBT300_X1'   (UNIQ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14280" y="6041880"/>
            <a:ext cx="6094440" cy="5083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 방안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: TEAM_CODE  +  D_DAY 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INDEX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추가 생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7FA6D-CEFF-48AD-870E-6E08117209C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-733320" y="2882880"/>
            <a:ext cx="11084040" cy="3691080"/>
          </a:xfrm>
          <a:prstGeom prst="roundRect">
            <a:avLst>
              <a:gd name="adj" fmla="val 544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0" bIns="0" anchor="t">
            <a:spAutoFit/>
          </a:bodyPr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DT.D_DAY, DT.YT_CODE, DT.SHOP_CODE, DT.SLIP_NO1, DT.SLIP_NO2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DT.TAX_GUBUN, SUM(DT.BP_AMOUNT1 + DT.HP_AOUNT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ST300  DT,  GFST100  HD,  GFXC250  C,  GFXC310 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600" spc="-1" strike="noStrike">
                <a:solidFill>
                  <a:srgbClr val="ff00cc"/>
                </a:solidFill>
                <a:latin typeface="굴림체"/>
                <a:ea typeface="굴림체"/>
              </a:rPr>
              <a:t>C.TEAM_CODE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=  :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:B2  BETWEEN  C.NEW_FR_DATE  AND  C.NEW_TO_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D.SUSU_CHK  =  '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HD.D_DAY  =  :B3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800000"/>
                </a:solidFill>
                <a:latin typeface="굴림체"/>
                <a:ea typeface="굴림체"/>
              </a:rPr>
              <a:t>&lt;--- </a:t>
            </a:r>
            <a:r>
              <a:rPr b="1" lang="ko-KR" sz="1600" spc="-1" strike="noStrike">
                <a:solidFill>
                  <a:srgbClr val="800000"/>
                </a:solidFill>
                <a:latin typeface="굴림체"/>
                <a:ea typeface="굴림체"/>
              </a:rPr>
              <a:t>상수 값이므로 최초로 풀리는 부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HD.PART_CODE  BETWEEN  :B4  AND :B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HD.YT_CODE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800000"/>
                </a:solidFill>
                <a:latin typeface="굴림체"/>
                <a:ea typeface="굴림체"/>
              </a:rPr>
              <a:t>DT.YT_CODE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AND  HD.YT_CODE   =  </a:t>
            </a:r>
            <a:r>
              <a:rPr b="1" lang="ko-KR" sz="1600" spc="-1" strike="noStrike">
                <a:solidFill>
                  <a:srgbClr val="ff00cc"/>
                </a:solidFill>
                <a:latin typeface="굴림체"/>
                <a:ea typeface="굴림체"/>
              </a:rPr>
              <a:t>C.YT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8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HD.SHOP_CODE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800000"/>
                </a:solidFill>
                <a:latin typeface="굴림체"/>
                <a:ea typeface="굴림체"/>
              </a:rPr>
              <a:t>DT.SHOP_CODE</a:t>
            </a:r>
            <a:r>
              <a:rPr b="1" lang="ko-KR" sz="1600" spc="-1" strike="noStrike">
                <a:solidFill>
                  <a:srgbClr val="0099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AND  HD.SHOP_CODE =  </a:t>
            </a:r>
            <a:r>
              <a:rPr b="1" lang="ko-KR" sz="1600" spc="-1" strike="noStrike">
                <a:solidFill>
                  <a:srgbClr val="ff00cc"/>
                </a:solidFill>
                <a:latin typeface="굴림체"/>
                <a:ea typeface="굴림체"/>
              </a:rPr>
              <a:t>C.SHOP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HD.D_DAY     =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DT.D_DAY      AND  HD.YT_CODE   =  </a:t>
            </a:r>
            <a:r>
              <a:rPr b="1" lang="ko-KR" sz="1600" spc="-1" strike="noStrike">
                <a:solidFill>
                  <a:srgbClr val="009900"/>
                </a:solidFill>
                <a:latin typeface="굴림체"/>
                <a:ea typeface="굴림체"/>
              </a:rPr>
              <a:t>D.YT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HD.SLIP_NO1  =  DT.SLIP_NO1   AND  HD.SHOP_CODE =  </a:t>
            </a:r>
            <a:r>
              <a:rPr b="1" lang="ko-KR" sz="1600" spc="-1" strike="noStrike">
                <a:solidFill>
                  <a:srgbClr val="009900"/>
                </a:solidFill>
                <a:latin typeface="굴림체"/>
                <a:ea typeface="굴림체"/>
              </a:rPr>
              <a:t>D.SHOP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HD.SLIP_NO2  =  DT.SLIP_NO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   DT.D_DAY, DT.YT_CODE, DT.SHOP_CODE, DT.SLIP_NO1, DT.SLIP_NO2, DT.TAX_GUBUN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28456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5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를 구성하는 컬럼의 선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66760" y="1028880"/>
            <a:ext cx="8231040" cy="18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ST300  DT :  GFST300_X2 : </a:t>
            </a:r>
            <a:r>
              <a:rPr b="1" lang="ko-KR" sz="1400" spc="-1" strike="noStrike">
                <a:solidFill>
                  <a:srgbClr val="800000"/>
                </a:solidFill>
                <a:latin typeface="굴림체"/>
                <a:ea typeface="굴림체"/>
              </a:rPr>
              <a:t>YT_CODE + SHOP_CODE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+ SPU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ST100  HD :  GFST100_X1 : </a:t>
            </a:r>
            <a:r>
              <a:rPr b="1" lang="ko-KR" sz="1400" spc="-1" strike="noStrike">
                <a:solidFill>
                  <a:srgbClr val="3333cc"/>
                </a:solidFill>
                <a:latin typeface="굴림체"/>
                <a:ea typeface="굴림체"/>
              </a:rPr>
              <a:t>D_DAY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+ YT_CODE + SHOP_CODE  ( UNIQU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XC440  C  :  GFXC250_X3 : </a:t>
            </a:r>
            <a:r>
              <a:rPr b="1" lang="ko-KR" sz="1400" spc="-1" strike="noStrike">
                <a:solidFill>
                  <a:srgbClr val="ff00cc"/>
                </a:solidFill>
                <a:latin typeface="굴림체"/>
                <a:ea typeface="굴림체"/>
              </a:rPr>
              <a:t>YT_CODE + SHOP_CODE + TEA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XC310  D  :  GFXC310_X1 : </a:t>
            </a:r>
            <a:r>
              <a:rPr b="1" lang="ko-KR" sz="1400" spc="-1" strike="noStrike">
                <a:solidFill>
                  <a:srgbClr val="009900"/>
                </a:solidFill>
                <a:latin typeface="굴림체"/>
                <a:ea typeface="굴림체"/>
              </a:rPr>
              <a:t>YT_CODE + SHOP_CODE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( UNIQU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251840" y="3625920"/>
            <a:ext cx="2771280" cy="36180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6600cc"/>
                </a:solidFill>
                <a:latin typeface="굴림체"/>
                <a:ea typeface="굴림체"/>
              </a:rPr>
              <a:t>HD --&gt; D --&gt; C --&gt; D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9EFA0-B415-4B20-BE6D-24557F552DC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228456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5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를 구성하는 컬럼의 선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606600" y="1312920"/>
            <a:ext cx="8220600" cy="6877800"/>
            <a:chOff x="606600" y="1312920"/>
            <a:chExt cx="8220600" cy="6877800"/>
          </a:xfrm>
        </p:grpSpPr>
        <p:sp>
          <p:nvSpPr>
            <p:cNvPr id="676" name=""/>
            <p:cNvSpPr/>
            <p:nvPr/>
          </p:nvSpPr>
          <p:spPr>
            <a:xfrm>
              <a:off x="606600" y="1312920"/>
              <a:ext cx="8216640" cy="687780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CALL         COUNT     CPU      ELAPSED     DISK    QUERY    CURRENT     ROW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--------   ------- --------  ---------- -------- -------- ---------- -------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PARSE            1     0.06       0.06         0        0          0      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EXECUTE         14     0.04       0.04         0        0          0      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FETCH           61    10.60      11.35        38    58338          0       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33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600" spc="-1" strike="noStrike">
                  <a:solidFill>
                    <a:srgbClr val="cc0000"/>
                  </a:solidFill>
                  <a:latin typeface="굴림체"/>
                  <a:ea typeface="굴림체"/>
                </a:rPr>
                <a:t>ROWS   EXECUTION  PL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-------   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0   SELECT   STAT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38    SORT ( GROUP BY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38     NESTED  LO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38       NESTED  LO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315         NESTED  LO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20494           TABLE  ACCESS  ( BY  ROWID )  OF  'GFST100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6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20495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      INDEX  ( RANGE  SCAN )  OF  'GFST100_X1' ( UNIQUE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627           TABLE  ACCESS  ( BY  ROWID )  OF  'GFXC310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627             INDEX  ( UNIQUE  SCAN )  OF  'GFXC310_X1' ( UNIQUE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075         TABLE  ACCESS  ( BY  ROWID )  OF  'GFXC250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390           INDEX  ( RANGE  SCAN )  OF  'GFXC250_X3' ( NON-UNIQUE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407607       TABLE  ACCESS  ( BY  ROWID )  OF  'GFST300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6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407745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  INDEX  ( RANGE  SCAN )  OF  'GFST300_X2' ( NON-UNIQUE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022240" y="4202280"/>
              <a:ext cx="804960" cy="16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SzPct val="120000"/>
                <a:buFont typeface="Wingdings" charset="2"/>
                <a:buChar char="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H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buClr>
                  <a:srgbClr val="000000"/>
                </a:buClr>
                <a:buSzPct val="120000"/>
                <a:buFont typeface="Wingdings" charset="2"/>
                <a:buChar char="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buClr>
                  <a:srgbClr val="000000"/>
                </a:buClr>
                <a:buSzPct val="120000"/>
                <a:buFont typeface="Wingdings" charset="2"/>
                <a:buChar char="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buClr>
                  <a:srgbClr val="000000"/>
                </a:buClr>
                <a:buSzPct val="120000"/>
                <a:buFont typeface="Wingdings" charset="2"/>
                <a:buChar char="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D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187B9-C953-4AD6-A111-2216C12731C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234828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5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를 구성하는 컬럼의 선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00040" y="1719360"/>
            <a:ext cx="406440" cy="308268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-160560" y="1200240"/>
            <a:ext cx="18234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ST100_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-225360" y="4873680"/>
            <a:ext cx="1930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D_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+ YT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+ SHOP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14440" y="2276640"/>
            <a:ext cx="385560" cy="2163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259920" y="2332080"/>
            <a:ext cx="397440" cy="2173320"/>
            <a:chOff x="259920" y="2332080"/>
            <a:chExt cx="397440" cy="2173320"/>
          </a:xfrm>
        </p:grpSpPr>
        <p:sp>
          <p:nvSpPr>
            <p:cNvPr id="684" name=""/>
            <p:cNvSpPr/>
            <p:nvPr/>
          </p:nvSpPr>
          <p:spPr>
            <a:xfrm>
              <a:off x="325440" y="233208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57360" y="2332080"/>
              <a:ext cx="0" cy="217332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259920" y="450540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7" name=""/>
          <p:cNvSpPr/>
          <p:nvPr/>
        </p:nvSpPr>
        <p:spPr>
          <a:xfrm rot="16200000">
            <a:off x="32040" y="1788480"/>
            <a:ext cx="13204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204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398600" y="1730520"/>
            <a:ext cx="843120" cy="307656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029960" y="1185840"/>
            <a:ext cx="163440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GFXT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5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H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011400" y="1719360"/>
            <a:ext cx="398520" cy="310032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260440" y="1200240"/>
            <a:ext cx="18234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XC310_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867120" y="1730520"/>
            <a:ext cx="841320" cy="311760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496680" y="1185840"/>
            <a:ext cx="165744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GFXC3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5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807320" y="1719360"/>
            <a:ext cx="411120" cy="310032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696160" y="1730520"/>
            <a:ext cx="770040" cy="307656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8248320" y="1185840"/>
            <a:ext cx="163440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GFST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5000"/>
              </a:lnSpc>
              <a:buClr>
                <a:srgbClr val="000000"/>
              </a:buClr>
              <a:buSzPct val="120000"/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D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111840" y="1836720"/>
            <a:ext cx="1095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6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061040" y="1200240"/>
            <a:ext cx="18234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ST300_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rot="16200000">
            <a:off x="7762320" y="1877040"/>
            <a:ext cx="14335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4076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rot="16200000">
            <a:off x="508320" y="1842480"/>
            <a:ext cx="13204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204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400720" y="1719360"/>
            <a:ext cx="411120" cy="310032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620960" y="1200240"/>
            <a:ext cx="18234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XC250_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319800" y="1730520"/>
            <a:ext cx="843120" cy="307656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804640" y="1185840"/>
            <a:ext cx="165744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GFXC2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5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57960" y="1893960"/>
            <a:ext cx="1207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10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489560" y="1836720"/>
            <a:ext cx="1095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3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9290160" y="2863800"/>
            <a:ext cx="627120" cy="648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9290160" y="2980800"/>
            <a:ext cx="620640" cy="7225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9172800" y="1836720"/>
            <a:ext cx="1095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1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314720" y="5922720"/>
            <a:ext cx="8591040" cy="67968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ST100 HD : GFST100_X1 : 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D_DAY + </a:t>
            </a:r>
            <a:r>
              <a:rPr b="1" lang="ko-KR" sz="1600" spc="-1" strike="noStrike">
                <a:solidFill>
                  <a:srgbClr val="ff0033"/>
                </a:solidFill>
                <a:latin typeface="Arial"/>
                <a:ea typeface="굴림체"/>
              </a:rPr>
              <a:t>PART_CODE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 + YT_CODE + SHOP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ST300 DT : GFST300_X2 : 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YT_CODE + SHOP_CODE + </a:t>
            </a:r>
            <a:r>
              <a:rPr b="1" lang="ko-KR" sz="1600" spc="-1" strike="noStrike">
                <a:solidFill>
                  <a:srgbClr val="ff0033"/>
                </a:solidFill>
                <a:latin typeface="Arial"/>
                <a:ea typeface="굴림체"/>
              </a:rPr>
              <a:t>D_DAY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 + SPUM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6924600" y="2722680"/>
            <a:ext cx="749520" cy="1355760"/>
            <a:chOff x="6924600" y="2722680"/>
            <a:chExt cx="749520" cy="1355760"/>
          </a:xfrm>
        </p:grpSpPr>
        <p:sp>
          <p:nvSpPr>
            <p:cNvPr id="712" name=""/>
            <p:cNvSpPr/>
            <p:nvPr/>
          </p:nvSpPr>
          <p:spPr>
            <a:xfrm>
              <a:off x="6924600" y="3168720"/>
              <a:ext cx="749520" cy="90972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6924600" y="2722680"/>
              <a:ext cx="736560" cy="1009440"/>
            </a:xfrm>
            <a:prstGeom prst="line">
              <a:avLst/>
            </a:prstGeom>
            <a:ln w="25560">
              <a:solidFill>
                <a:srgbClr val="cc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8234280" y="2844720"/>
            <a:ext cx="779400" cy="648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8237520" y="3298680"/>
            <a:ext cx="747720" cy="4032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8234280" y="3227400"/>
            <a:ext cx="739800" cy="8668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8234280" y="2533680"/>
            <a:ext cx="720720" cy="2030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8234280" y="4419720"/>
            <a:ext cx="749520" cy="46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027920" y="4933800"/>
            <a:ext cx="1930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YT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+ SHOP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+ SPU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572000" y="4964040"/>
            <a:ext cx="1930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YT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+ SHOP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+ TEA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237040" y="4979880"/>
            <a:ext cx="19303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SHOP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+ YT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97000" y="5894280"/>
            <a:ext cx="18637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 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859800" y="1836720"/>
            <a:ext cx="1095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1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773000" y="240048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773000" y="298944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773000" y="377820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225680" y="280188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073600" y="1836720"/>
            <a:ext cx="1095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6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2017800" y="2566800"/>
            <a:ext cx="1023840" cy="2840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2017800" y="3458880"/>
            <a:ext cx="1001520" cy="572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946160" y="2649600"/>
            <a:ext cx="1052640" cy="31752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417840" y="2592360"/>
            <a:ext cx="750960" cy="2761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417840" y="3471840"/>
            <a:ext cx="708120" cy="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417840" y="2938320"/>
            <a:ext cx="719280" cy="33840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4500720" y="2895120"/>
            <a:ext cx="777600" cy="590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500720" y="3313080"/>
            <a:ext cx="793440" cy="43344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403960" y="2890800"/>
            <a:ext cx="399960" cy="2095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403960" y="3728880"/>
            <a:ext cx="399960" cy="358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697440" y="277164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697440" y="391320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818480" y="2692440"/>
            <a:ext cx="395280" cy="662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819920" y="4060800"/>
            <a:ext cx="390600" cy="420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3" name=""/>
          <p:cNvGrpSpPr/>
          <p:nvPr/>
        </p:nvGrpSpPr>
        <p:grpSpPr>
          <a:xfrm>
            <a:off x="7671960" y="2757600"/>
            <a:ext cx="271800" cy="685800"/>
            <a:chOff x="7671960" y="2757600"/>
            <a:chExt cx="271800" cy="685800"/>
          </a:xfrm>
        </p:grpSpPr>
        <p:sp>
          <p:nvSpPr>
            <p:cNvPr id="744" name=""/>
            <p:cNvSpPr/>
            <p:nvPr/>
          </p:nvSpPr>
          <p:spPr>
            <a:xfrm>
              <a:off x="7715160" y="2757600"/>
              <a:ext cx="21456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943760" y="2757600"/>
              <a:ext cx="0" cy="68580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7671960" y="3443400"/>
              <a:ext cx="25740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7674120" y="4110120"/>
            <a:ext cx="269640" cy="452520"/>
            <a:chOff x="7674120" y="4110120"/>
            <a:chExt cx="269640" cy="452520"/>
          </a:xfrm>
        </p:grpSpPr>
        <p:sp>
          <p:nvSpPr>
            <p:cNvPr id="748" name=""/>
            <p:cNvSpPr/>
            <p:nvPr/>
          </p:nvSpPr>
          <p:spPr>
            <a:xfrm>
              <a:off x="7716960" y="4110120"/>
              <a:ext cx="21276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943760" y="4110120"/>
              <a:ext cx="0" cy="45252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7674120" y="4562640"/>
              <a:ext cx="25560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5266800" y="2938320"/>
            <a:ext cx="255960" cy="258840"/>
            <a:chOff x="5266800" y="2938320"/>
            <a:chExt cx="255960" cy="258840"/>
          </a:xfrm>
        </p:grpSpPr>
        <p:sp>
          <p:nvSpPr>
            <p:cNvPr id="752" name=""/>
            <p:cNvSpPr/>
            <p:nvPr/>
          </p:nvSpPr>
          <p:spPr>
            <a:xfrm>
              <a:off x="5308560" y="2938320"/>
              <a:ext cx="20016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522760" y="2938320"/>
              <a:ext cx="0" cy="25884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5266800" y="3197160"/>
              <a:ext cx="24156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5253120" y="3776760"/>
            <a:ext cx="269640" cy="407880"/>
            <a:chOff x="5253120" y="3776760"/>
            <a:chExt cx="269640" cy="407880"/>
          </a:xfrm>
        </p:grpSpPr>
        <p:sp>
          <p:nvSpPr>
            <p:cNvPr id="756" name=""/>
            <p:cNvSpPr/>
            <p:nvPr/>
          </p:nvSpPr>
          <p:spPr>
            <a:xfrm>
              <a:off x="5297400" y="3776760"/>
              <a:ext cx="2113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522760" y="3776760"/>
              <a:ext cx="0" cy="40788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5253120" y="4184640"/>
              <a:ext cx="25560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9037440" y="246204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9037440" y="316872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9037440" y="436716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772640" y="255600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772640" y="281304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772640" y="347832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225320" y="324792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225320" y="344808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697080" y="369108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697080" y="308124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9037080" y="280368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9037080" y="366228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8059680" y="2855880"/>
            <a:ext cx="81000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5827680" y="2804760"/>
            <a:ext cx="793800" cy="1440360"/>
            <a:chOff x="5827680" y="2804760"/>
            <a:chExt cx="793800" cy="1440360"/>
          </a:xfrm>
        </p:grpSpPr>
        <p:sp>
          <p:nvSpPr>
            <p:cNvPr id="773" name=""/>
            <p:cNvSpPr/>
            <p:nvPr/>
          </p:nvSpPr>
          <p:spPr>
            <a:xfrm flipV="1">
              <a:off x="5827680" y="2804760"/>
              <a:ext cx="719280" cy="10476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827680" y="3897360"/>
              <a:ext cx="782640" cy="7920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827680" y="3068640"/>
              <a:ext cx="719280" cy="3816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827680" y="3745080"/>
              <a:ext cx="793800" cy="1440"/>
            </a:xfrm>
            <a:prstGeom prst="line">
              <a:avLst/>
            </a:prstGeom>
            <a:ln w="25560">
              <a:solidFill>
                <a:srgbClr val="cc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827680" y="4064040"/>
              <a:ext cx="773280" cy="18108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8" name=""/>
          <p:cNvSpPr/>
          <p:nvPr/>
        </p:nvSpPr>
        <p:spPr>
          <a:xfrm>
            <a:off x="6692760" y="416556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766880" y="445284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43760" y="3075120"/>
            <a:ext cx="81756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920880" y="2446200"/>
            <a:ext cx="819000" cy="64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920880" y="3816360"/>
            <a:ext cx="807840" cy="5666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920880" y="3543480"/>
            <a:ext cx="807840" cy="6775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920880" y="2297160"/>
            <a:ext cx="777600" cy="5382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920880" y="2608200"/>
            <a:ext cx="779400" cy="4143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920880" y="2606760"/>
            <a:ext cx="765000" cy="21744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914400" y="4062240"/>
            <a:ext cx="814320" cy="4478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021120" y="2552760"/>
            <a:ext cx="382320" cy="65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021120" y="2919240"/>
            <a:ext cx="382320" cy="65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021120" y="3433680"/>
            <a:ext cx="382320" cy="65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7306560" y="1905120"/>
            <a:ext cx="14335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돋움"/>
              </a:rPr>
              <a:t>4077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005800" y="1736640"/>
            <a:ext cx="1207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돋움"/>
              </a:rPr>
              <a:t>13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8067600" y="3946680"/>
            <a:ext cx="81000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DAF14-06C7-487A-B402-6B17F739AD4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1900080" y="243000"/>
            <a:ext cx="516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6.  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의 정확한 이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187280" y="1454040"/>
            <a:ext cx="1352880" cy="224172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692520" y="1454040"/>
            <a:ext cx="1305000" cy="224172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839880" y="1904760"/>
            <a:ext cx="203688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A  AAB  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839880" y="2199960"/>
            <a:ext cx="203688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B  AAC  1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839880" y="2495160"/>
            <a:ext cx="203688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C  ABA  2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839880" y="2787480"/>
            <a:ext cx="203688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D  ABB  2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839880" y="3082680"/>
            <a:ext cx="203688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E  ABC  1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356280" y="1904760"/>
            <a:ext cx="197460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0" bIns="0" anchor="ctr">
            <a:spAutoFit/>
          </a:bodyPr>
          <a:p>
            <a:pPr marL="285840" indent="-285840"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A  10   A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356280" y="2199960"/>
            <a:ext cx="197460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0" bIns="0" anchor="ctr">
            <a:spAutoFit/>
          </a:bodyPr>
          <a:p>
            <a:pPr marL="285840" indent="-285840"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B  10   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356280" y="2495160"/>
            <a:ext cx="197460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0" bIns="0" anchor="ctr">
            <a:spAutoFit/>
          </a:bodyPr>
          <a:p>
            <a:pPr marL="285840" indent="-285840"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C  10   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857680" y="3159000"/>
            <a:ext cx="37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505240" y="1898640"/>
            <a:ext cx="46656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327480" y="1879560"/>
            <a:ext cx="46512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487520" y="3754440"/>
            <a:ext cx="7714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TA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971880" y="3735360"/>
            <a:ext cx="7318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TA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078600" y="1824120"/>
            <a:ext cx="3146400" cy="1562040"/>
          </a:xfrm>
          <a:prstGeom prst="rect">
            <a:avLst/>
          </a:prstGeom>
          <a:solidFill>
            <a:srgbClr val="3c002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121440" y="1879560"/>
            <a:ext cx="3052800" cy="292320"/>
          </a:xfrm>
          <a:prstGeom prst="rect">
            <a:avLst/>
          </a:prstGeom>
          <a:solidFill>
            <a:srgbClr val="dddddd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A    AAB   111    A    10    A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121440" y="2170080"/>
            <a:ext cx="3052800" cy="306360"/>
          </a:xfrm>
          <a:prstGeom prst="rect">
            <a:avLst/>
          </a:prstGeom>
          <a:solidFill>
            <a:srgbClr val="dddddd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B    AAC   123    B    10    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121440" y="2476440"/>
            <a:ext cx="3052800" cy="295200"/>
          </a:xfrm>
          <a:prstGeom prst="rect">
            <a:avLst/>
          </a:prstGeom>
          <a:solidFill>
            <a:srgbClr val="dddddd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C    ABA   222    C    10    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121440" y="2782800"/>
            <a:ext cx="3052800" cy="279360"/>
          </a:xfrm>
          <a:prstGeom prst="rect">
            <a:avLst/>
          </a:prstGeom>
          <a:solidFill>
            <a:srgbClr val="dddddd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D    ABB   2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121440" y="3073320"/>
            <a:ext cx="3052800" cy="262080"/>
          </a:xfrm>
          <a:prstGeom prst="rect">
            <a:avLst/>
          </a:prstGeom>
          <a:solidFill>
            <a:srgbClr val="dddddd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E    ABC   1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857680" y="2876400"/>
            <a:ext cx="37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857680" y="2585880"/>
            <a:ext cx="37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849400" y="2301840"/>
            <a:ext cx="3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849400" y="2013120"/>
            <a:ext cx="3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334120" y="2101680"/>
            <a:ext cx="515880" cy="9846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915240" y="3505320"/>
            <a:ext cx="13017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원하는 결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943600" y="1521000"/>
            <a:ext cx="3282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KEY   FLD1  FLD2  KEY  COL1  COL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-35280" y="4425840"/>
            <a:ext cx="515736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AB1 X  : TAB1_IX : FLD1 +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AB2 Y  : TAB2_IX : COL1 +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8DE2B-714B-4E00-9347-710D3CAB99F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>
            <a:off x="1900080" y="243000"/>
            <a:ext cx="516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6.  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의 정확한 이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26880" y="1098720"/>
            <a:ext cx="205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8440" y="1492200"/>
            <a:ext cx="7425360" cy="14799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X.KEY, X.FLD1, X.FLD2, Y.KEY, Y.COL1, Y.CO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1 X,  TAB2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X.KEY = Y.KEY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X.FLD1 &gt; 'AA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Y.COL1 = 10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5200" y="3267000"/>
            <a:ext cx="7425360" cy="14799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X.KEY, X.FLD1, X.FLD2, Y.KEY, Y.COL1, Y.CO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1 X,  TAB2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X.KEY = Y.KEY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X.FLD1 &gt; 'AA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(Y.COL1 = 10  OR  Y.COL1 IS NULL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1040" y="5041800"/>
            <a:ext cx="7425360" cy="14799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X.KEY, X.FLD1, X.FLD2, Y.KEY, Y.COL1, Y.CO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1 X,  TAB2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X.KEY = Y.KEY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X.FLD1 &gt; 'AA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Y.COL1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(+)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= 10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108840" y="2157480"/>
            <a:ext cx="2685960" cy="335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원하는 결과 나오지 않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108840" y="3726000"/>
            <a:ext cx="3565440" cy="8226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COL1+KEY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순서이므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인덱스 사용 불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KEY+COL1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이면 인덱스 사용 가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108840" y="5614920"/>
            <a:ext cx="3146400" cy="5792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COL1+KEY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인덱스 사용 가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KEY+COL1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이라도 사용 가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123640" y="885960"/>
            <a:ext cx="4414320" cy="554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1  X : TAB1_IX : FLD1 + 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2  Y : TAB2_IX : COL1 + 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174840" y="3009960"/>
            <a:ext cx="598680" cy="230040"/>
          </a:xfrm>
          <a:prstGeom prst="downArrow">
            <a:avLst>
              <a:gd name="adj1" fmla="val 50000"/>
              <a:gd name="adj2" fmla="val 3340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143160" y="4780080"/>
            <a:ext cx="598680" cy="230040"/>
          </a:xfrm>
          <a:prstGeom prst="downArrow">
            <a:avLst>
              <a:gd name="adj1" fmla="val 50000"/>
              <a:gd name="adj2" fmla="val 3340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D5A97-AE4A-4ED4-BC38-A3E760C3B46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28440" y="2717640"/>
            <a:ext cx="7425360" cy="14799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X.KEY, X.FLD1, X.FLD2, Y.KEY, Y.COL1, Y.CO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1 X,  TAB2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X.KEY = Y.KEY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X.FLD1 &gt; 'AA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Y.COL1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(+) IN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(10,30,50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744200" y="243000"/>
            <a:ext cx="5474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7.  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에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IN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24000" y="1027080"/>
            <a:ext cx="9153360" cy="11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AB1 X : TAB1_IX : FLD1 +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AB2 Y : TAB2_IX : COL1 +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594320" y="3332160"/>
            <a:ext cx="2457360" cy="566640"/>
          </a:xfrm>
          <a:custGeom>
            <a:avLst/>
            <a:gdLst>
              <a:gd name="textAreaLeft" fmla="*/ 90720 w 2457360"/>
              <a:gd name="textAreaRight" fmla="*/ 2366640 w 2457360"/>
              <a:gd name="textAreaTop" fmla="*/ 20880 h 566640"/>
              <a:gd name="textAreaBottom" fmla="*/ 452520 h 5666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692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ORA-01719 Error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발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4200" y="4824360"/>
            <a:ext cx="7446960" cy="17758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X.KEY, X.FLD1, X.FLD2, Y.KEY, Y.COL1, Y.CO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1 X,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(SELECT  KEY, COL1, CO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      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FROM  TAB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WHERE  COL1 IN (10,30,50) ) Y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X.KEY = Y.KEY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X.FLD1 &gt; 'AAA'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96720" y="22748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24000" y="2305080"/>
            <a:ext cx="15699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24000" y="4406760"/>
            <a:ext cx="15699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 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10954-6E54-4D99-835A-A1882C89FD1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-440280" y="2414520"/>
            <a:ext cx="9418680" cy="24858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DESCRIPTION, A.MODEL, A.DESRIPTION, NVL(B.QTY1,0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B.QTY2,0), NVL(B.QTY3, 0), NVL(B.QTY4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STPO120 A, STPO096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.SA = B.SA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 A.PART = B.PART(+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SA =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:VALU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PART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BETWEEN :VALUE2 AND :VALUE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B.CENTER = </a:t>
            </a:r>
            <a:r>
              <a:rPr b="1" lang="ko-KR" sz="1800" spc="-1" strike="noStrike">
                <a:solidFill>
                  <a:srgbClr val="00cc99"/>
                </a:solidFill>
                <a:latin typeface="굴림체"/>
                <a:ea typeface="굴림체"/>
              </a:rPr>
              <a:t>:VALUE4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571760" y="243000"/>
            <a:ext cx="7085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8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여러 개의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 컬럼을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09600" y="1027080"/>
            <a:ext cx="92124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1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TPO120  A : STPO120_X1 :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SA + 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1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TPO096  B : STPO096_X1 : CENTER + SA + PA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417920" y="4741920"/>
            <a:ext cx="5183280" cy="2010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EXECUTE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STATEMENT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NESTED LOOP(OUT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TABLE ACCESS (BY ROWID) OF 'STPO12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(RANGE SCAN) OF 'STPO120_X1' (UNIQ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TABLE ACCESS (</a:t>
            </a: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FULL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) OF 'STPO096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08720" y="5356080"/>
            <a:ext cx="4054680" cy="39564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B.CENTER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(+)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=  :VALUE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676680" y="617220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107640" y="5973480"/>
            <a:ext cx="4191840" cy="395640"/>
            <a:chOff x="107640" y="5973480"/>
            <a:chExt cx="4191840" cy="395640"/>
          </a:xfrm>
        </p:grpSpPr>
        <p:sp>
          <p:nvSpPr>
            <p:cNvPr id="850" name=""/>
            <p:cNvSpPr/>
            <p:nvPr/>
          </p:nvSpPr>
          <p:spPr>
            <a:xfrm>
              <a:off x="107640" y="5973480"/>
              <a:ext cx="4191840" cy="39564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3300"/>
                  </a:solidFill>
                  <a:latin typeface="굴림체"/>
                  <a:ea typeface="굴림체"/>
                </a:rPr>
                <a:t>ALL_ROWS      FIRST_ROW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898640" y="6089760"/>
              <a:ext cx="249120" cy="152280"/>
            </a:xfrm>
            <a:prstGeom prst="rightArrow">
              <a:avLst>
                <a:gd name="adj1" fmla="val 50000"/>
                <a:gd name="adj2" fmla="val 81804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8918280" y="5553000"/>
            <a:ext cx="6771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09600" y="4987800"/>
            <a:ext cx="19731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 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FC38C-714C-4CB4-832F-5762A54AA32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2058120" y="243000"/>
            <a:ext cx="672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9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배타적 관계 모델에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 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889240" y="3463920"/>
            <a:ext cx="13968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800000"/>
                </a:solidFill>
                <a:latin typeface="Arial"/>
                <a:ea typeface="돋움"/>
              </a:rPr>
              <a:t>법인고객정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017960" y="2127240"/>
            <a:ext cx="150840" cy="1522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3979440" y="4329000"/>
            <a:ext cx="149400" cy="15264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 rot="10800000">
            <a:off x="4000680" y="4549680"/>
            <a:ext cx="1358640" cy="843120"/>
          </a:xfrm>
          <a:custGeom>
            <a:avLst/>
            <a:gdLst>
              <a:gd name="textAreaLeft" fmla="*/ 50040 w 1358640"/>
              <a:gd name="textAreaRight" fmla="*/ 1308600 w 1358640"/>
              <a:gd name="textAreaTop" fmla="*/ 30960 h 843120"/>
              <a:gd name="textAreaBottom" fmla="*/ 673560 h 8431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44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배타적 관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(EXCLUSIV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3814920" y="2166840"/>
            <a:ext cx="1906560" cy="2286000"/>
            <a:chOff x="3814920" y="2166840"/>
            <a:chExt cx="1906560" cy="2286000"/>
          </a:xfrm>
        </p:grpSpPr>
        <p:sp>
          <p:nvSpPr>
            <p:cNvPr id="860" name=""/>
            <p:cNvSpPr/>
            <p:nvPr/>
          </p:nvSpPr>
          <p:spPr>
            <a:xfrm>
              <a:off x="4917960" y="2319480"/>
              <a:ext cx="8035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814920" y="2319480"/>
              <a:ext cx="1000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917960" y="4300560"/>
              <a:ext cx="8035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14920" y="4300560"/>
              <a:ext cx="1000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814920" y="2166840"/>
              <a:ext cx="20160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3814920" y="2319480"/>
              <a:ext cx="20160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3814920" y="4300560"/>
              <a:ext cx="20160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 flipV="1">
              <a:off x="3814920" y="4147920"/>
              <a:ext cx="20160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8" name=""/>
          <p:cNvSpPr/>
          <p:nvPr/>
        </p:nvSpPr>
        <p:spPr>
          <a:xfrm>
            <a:off x="2143080" y="1722600"/>
            <a:ext cx="1666800" cy="3225600"/>
          </a:xfrm>
          <a:custGeom>
            <a:avLst/>
            <a:gdLst>
              <a:gd name="textAreaLeft" fmla="*/ 60840 w 1666800"/>
              <a:gd name="textAreaRight" fmla="*/ 1605960 w 1666800"/>
              <a:gd name="textAreaTop" fmla="*/ 60840 h 3225600"/>
              <a:gd name="textAreaBottom" fmla="*/ 3164760 h 3225600"/>
            </a:gdLst>
            <a:ahLst/>
            <a:rect l="textAreaLeft" t="textAreaTop" r="textAreaRight" b="textAreaBottom"/>
            <a:pathLst>
              <a:path w="21600" h="41796">
                <a:moveTo>
                  <a:pt x="2699" y="0"/>
                </a:moveTo>
                <a:arcTo wR="2699" hR="2699" stAng="16200000" swAng="-5400000"/>
                <a:lnTo>
                  <a:pt x="0" y="39097"/>
                </a:lnTo>
                <a:arcTo wR="2699" hR="2699" stAng="10800000" swAng="-5400000"/>
                <a:lnTo>
                  <a:pt x="18901" y="41796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14480" bIns="114480" anchor="t">
            <a:no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# *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계좌번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개설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개설지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비밀번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실명확인여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해지상태여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상품종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적용금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565000" y="1300320"/>
            <a:ext cx="6116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800000"/>
                </a:solidFill>
                <a:latin typeface="Arial"/>
                <a:ea typeface="돋움"/>
              </a:rPr>
              <a:t>계좌정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730840" y="3827520"/>
            <a:ext cx="1914480" cy="2442960"/>
          </a:xfrm>
          <a:custGeom>
            <a:avLst/>
            <a:gdLst>
              <a:gd name="textAreaLeft" fmla="*/ 69840 w 1914480"/>
              <a:gd name="textAreaRight" fmla="*/ 1844640 w 1914480"/>
              <a:gd name="textAreaTop" fmla="*/ 69840 h 2442960"/>
              <a:gd name="textAreaBottom" fmla="*/ 2373120 h 2442960"/>
            </a:gdLst>
            <a:ahLst/>
            <a:rect l="textAreaLeft" t="textAreaTop" r="textAreaRight" b="textAreaBottom"/>
            <a:pathLst>
              <a:path w="21600" h="27561">
                <a:moveTo>
                  <a:pt x="2699" y="0"/>
                </a:moveTo>
                <a:arcTo wR="2699" hR="2699" stAng="16200000" swAng="-5400000"/>
                <a:lnTo>
                  <a:pt x="0" y="24862"/>
                </a:lnTo>
                <a:arcTo wR="2699" hR="2699" stAng="10800000" swAng="-5400000"/>
                <a:lnTo>
                  <a:pt x="18901" y="27561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14480" bIns="114480" anchor="t">
            <a:no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# *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고객번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법인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주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사업자등록번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재무상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매출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738760" y="1579680"/>
            <a:ext cx="1668600" cy="1685880"/>
          </a:xfrm>
          <a:custGeom>
            <a:avLst/>
            <a:gdLst>
              <a:gd name="textAreaLeft" fmla="*/ 60840 w 1668600"/>
              <a:gd name="textAreaRight" fmla="*/ 1607760 w 1668600"/>
              <a:gd name="textAreaTop" fmla="*/ 60840 h 1685880"/>
              <a:gd name="textAreaBottom" fmla="*/ 1625040 h 1685880"/>
            </a:gdLst>
            <a:ahLst/>
            <a:rect l="textAreaLeft" t="textAreaTop" r="textAreaRight" b="textAreaBottom"/>
            <a:pathLst>
              <a:path w="21600" h="21824">
                <a:moveTo>
                  <a:pt x="2699" y="0"/>
                </a:moveTo>
                <a:arcTo wR="2699" hR="2699" stAng="16200000" swAng="-5400000"/>
                <a:lnTo>
                  <a:pt x="0" y="19125"/>
                </a:lnTo>
                <a:arcTo wR="2699" hR="2699" stAng="10800000" swAng="-5400000"/>
                <a:lnTo>
                  <a:pt x="18901" y="21824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14480" bIns="114480" anchor="t">
            <a:no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# *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고객번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성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주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주민등록번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074640" y="1231920"/>
            <a:ext cx="82512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800000"/>
                </a:solidFill>
                <a:latin typeface="Arial"/>
                <a:ea typeface="돋움"/>
              </a:rPr>
              <a:t>개인고객정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191120" y="2319480"/>
            <a:ext cx="0" cy="198108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726000" y="2111400"/>
            <a:ext cx="8953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Arial"/>
                <a:ea typeface="돋움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708360" y="4083120"/>
            <a:ext cx="8953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Arial"/>
                <a:ea typeface="돋움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DF259-7467-4553-954C-3FD15851387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20560" y="5703840"/>
            <a:ext cx="9142560" cy="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4440" y="1542960"/>
            <a:ext cx="4510080" cy="443160"/>
          </a:xfrm>
          <a:prstGeom prst="rect">
            <a:avLst/>
          </a:prstGeom>
          <a:solidFill>
            <a:srgbClr val="69f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c0023"/>
                </a:solidFill>
                <a:latin typeface="Arial"/>
                <a:ea typeface="돋움"/>
              </a:rPr>
              <a:t>전  체  범  위  처  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51520" y="1531800"/>
            <a:ext cx="4618080" cy="44316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c0023"/>
                </a:solidFill>
                <a:latin typeface="Arial"/>
                <a:ea typeface="돋움"/>
              </a:rPr>
              <a:t>부  분  범  위  처  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9120" y="1547640"/>
            <a:ext cx="9131400" cy="485460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8200" y="1984320"/>
            <a:ext cx="9110520" cy="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01920" y="2651040"/>
            <a:ext cx="546120" cy="2217960"/>
          </a:xfrm>
          <a:prstGeom prst="rect">
            <a:avLst/>
          </a:prstGeom>
          <a:solidFill>
            <a:srgbClr val="dfdcd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57600" y="2725560"/>
            <a:ext cx="593640" cy="633600"/>
          </a:xfrm>
          <a:prstGeom prst="rect">
            <a:avLst/>
          </a:prstGeom>
          <a:gradFill rotWithShape="0">
            <a:gsLst>
              <a:gs pos="0">
                <a:srgbClr val="009b8c"/>
              </a:gs>
              <a:gs pos="50000">
                <a:srgbClr val="00dfca"/>
              </a:gs>
              <a:gs pos="100000">
                <a:srgbClr val="009b8c"/>
              </a:gs>
            </a:gsLst>
            <a:lin ang="10800000"/>
          </a:gra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82200" y="3189240"/>
            <a:ext cx="3344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42840" y="3402000"/>
            <a:ext cx="611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80202"/>
                </a:solidFill>
                <a:latin typeface="Arial"/>
                <a:ea typeface="돋움"/>
              </a:rPr>
              <a:t>운반단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19360" y="269568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19360" y="286560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19360" y="306864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19360" y="327168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19360" y="345600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19360" y="367344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19360" y="387504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19360" y="404352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19360" y="444816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19360" y="463536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19360" y="4811760"/>
            <a:ext cx="62064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65320" y="3132000"/>
            <a:ext cx="6336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65320" y="2927520"/>
            <a:ext cx="6177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65320" y="2743200"/>
            <a:ext cx="6177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65320" y="4060800"/>
            <a:ext cx="6177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65320" y="4478400"/>
            <a:ext cx="6192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65320" y="4818240"/>
            <a:ext cx="6192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964240" y="4037040"/>
            <a:ext cx="329400" cy="506520"/>
            <a:chOff x="2964240" y="4037040"/>
            <a:chExt cx="329400" cy="506520"/>
          </a:xfrm>
        </p:grpSpPr>
        <p:sp>
          <p:nvSpPr>
            <p:cNvPr id="128" name=""/>
            <p:cNvSpPr/>
            <p:nvPr/>
          </p:nvSpPr>
          <p:spPr>
            <a:xfrm>
              <a:off x="2964240" y="4037040"/>
              <a:ext cx="329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cc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cc99"/>
                  </a:solidFill>
                  <a:latin typeface="Arial"/>
                  <a:ea typeface="돋움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64240" y="4176720"/>
              <a:ext cx="329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cc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cc99"/>
                  </a:solidFill>
                  <a:latin typeface="Arial"/>
                  <a:ea typeface="돋움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4300560" y="2768760"/>
            <a:ext cx="61920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99120" y="2924280"/>
            <a:ext cx="61884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07040" y="3121200"/>
            <a:ext cx="62208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19160" y="2416320"/>
            <a:ext cx="625320" cy="2793960"/>
          </a:xfrm>
          <a:prstGeom prst="rect">
            <a:avLst/>
          </a:prstGeom>
          <a:gradFill rotWithShape="0">
            <a:gsLst>
              <a:gs pos="0">
                <a:srgbClr val="4b4b4b"/>
              </a:gs>
              <a:gs pos="50000">
                <a:srgbClr val="ffffff"/>
              </a:gs>
              <a:gs pos="100000">
                <a:srgbClr val="4b4b4b"/>
              </a:gs>
            </a:gsLst>
            <a:lin ang="10800000"/>
          </a:gradFill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6880" y="2727360"/>
            <a:ext cx="438120" cy="0"/>
          </a:xfrm>
          <a:prstGeom prst="line">
            <a:avLst/>
          </a:prstGeom>
          <a:ln w="25560">
            <a:solidFill>
              <a:srgbClr val="5531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42040" y="4022640"/>
            <a:ext cx="3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cc99"/>
                </a:solidFill>
                <a:latin typeface="Arial"/>
                <a:ea typeface="돋움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42040" y="4165560"/>
            <a:ext cx="3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cc99"/>
                </a:solidFill>
                <a:latin typeface="Arial"/>
                <a:ea typeface="돋움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28880" y="2708280"/>
            <a:ext cx="607680" cy="2108160"/>
          </a:xfrm>
          <a:prstGeom prst="rect">
            <a:avLst/>
          </a:prstGeom>
          <a:solidFill>
            <a:srgbClr val="dddddd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6360" y="3205080"/>
            <a:ext cx="3344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7080" y="2727360"/>
            <a:ext cx="0" cy="2058840"/>
          </a:xfrm>
          <a:prstGeom prst="line">
            <a:avLst/>
          </a:prstGeom>
          <a:ln w="50760">
            <a:solidFill>
              <a:srgbClr val="5531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965320" y="3279600"/>
            <a:ext cx="606600" cy="44640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95880" y="3317760"/>
            <a:ext cx="62208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50160" y="2627280"/>
            <a:ext cx="509400" cy="924120"/>
          </a:xfrm>
          <a:prstGeom prst="rect">
            <a:avLst/>
          </a:prstGeom>
          <a:solidFill>
            <a:srgbClr val="dfdcd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207280" y="2701800"/>
            <a:ext cx="588960" cy="633600"/>
          </a:xfrm>
          <a:prstGeom prst="rect">
            <a:avLst/>
          </a:prstGeom>
          <a:gradFill rotWithShape="0">
            <a:gsLst>
              <a:gs pos="0">
                <a:srgbClr val="009b8c"/>
              </a:gs>
              <a:gs pos="50000">
                <a:srgbClr val="00dfca"/>
              </a:gs>
              <a:gs pos="100000">
                <a:srgbClr val="009b8c"/>
              </a:gs>
            </a:gsLst>
            <a:lin ang="10800000"/>
          </a:gra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41600" y="2614680"/>
            <a:ext cx="3344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192880" y="3378240"/>
            <a:ext cx="611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80202"/>
                </a:solidFill>
                <a:latin typeface="Arial"/>
                <a:ea typeface="돋움"/>
              </a:rPr>
              <a:t>운반단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65800" y="2671920"/>
            <a:ext cx="6159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65800" y="2841480"/>
            <a:ext cx="6159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65800" y="3044880"/>
            <a:ext cx="6159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65800" y="3247920"/>
            <a:ext cx="6159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265800" y="3432240"/>
            <a:ext cx="6159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12120" y="3106800"/>
            <a:ext cx="631800" cy="144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12120" y="2903400"/>
            <a:ext cx="62064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12120" y="2719440"/>
            <a:ext cx="62064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850240" y="2744640"/>
            <a:ext cx="61776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848800" y="2900520"/>
            <a:ext cx="61596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54920" y="3097080"/>
            <a:ext cx="62100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565600" y="2392200"/>
            <a:ext cx="627120" cy="2794320"/>
          </a:xfrm>
          <a:prstGeom prst="rect">
            <a:avLst/>
          </a:prstGeom>
          <a:gradFill rotWithShape="0">
            <a:gsLst>
              <a:gs pos="0">
                <a:srgbClr val="4b4b4b"/>
              </a:gs>
              <a:gs pos="50000">
                <a:srgbClr val="ffffff"/>
              </a:gs>
              <a:gs pos="100000">
                <a:srgbClr val="4b4b4b"/>
              </a:gs>
            </a:gsLst>
            <a:lin ang="10800000"/>
          </a:gradFill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54800" y="2684520"/>
            <a:ext cx="628560" cy="826920"/>
          </a:xfrm>
          <a:prstGeom prst="rect">
            <a:avLst/>
          </a:prstGeom>
          <a:solidFill>
            <a:srgbClr val="dddddd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865120" y="2654280"/>
            <a:ext cx="3344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45320" y="2703600"/>
            <a:ext cx="0" cy="833400"/>
          </a:xfrm>
          <a:prstGeom prst="line">
            <a:avLst/>
          </a:prstGeom>
          <a:ln w="50760">
            <a:solidFill>
              <a:srgbClr val="5531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7534440" y="3255840"/>
            <a:ext cx="587160" cy="19368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844120" y="3294000"/>
            <a:ext cx="62064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48320" y="4859280"/>
            <a:ext cx="654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35680" y="1550880"/>
            <a:ext cx="0" cy="486432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87400" y="5783400"/>
            <a:ext cx="40957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Full Range Scan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후 가공하여        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Array Size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만큼 추출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094360" y="2712960"/>
            <a:ext cx="438120" cy="0"/>
          </a:xfrm>
          <a:prstGeom prst="line">
            <a:avLst/>
          </a:prstGeom>
          <a:ln w="25560">
            <a:solidFill>
              <a:srgbClr val="5531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15840" y="243000"/>
            <a:ext cx="5619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부분범위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(Partial Range Scan)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처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82680" y="1085400"/>
            <a:ext cx="9712080" cy="36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buClr>
                <a:srgbClr val="ff0033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</a:rPr>
              <a:t>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</a:rPr>
              <a:t>조건을 만족하는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</a:rPr>
              <a:t>Row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</a:rPr>
              <a:t>수가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</a:rPr>
              <a:t>Array Size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</a:rPr>
              <a:t>에 도달되면 멈춤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6D40D-AB2B-4281-A2A6-A09402582B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6" name=""/>
          <p:cNvGraphicFramePr/>
          <p:nvPr/>
        </p:nvGraphicFramePr>
        <p:xfrm>
          <a:off x="1217520" y="4102200"/>
          <a:ext cx="8586720" cy="27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7520" y="4102200"/>
                    <a:ext cx="8586720" cy="27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8" name=""/>
          <p:cNvSpPr/>
          <p:nvPr/>
        </p:nvSpPr>
        <p:spPr>
          <a:xfrm>
            <a:off x="2058120" y="243000"/>
            <a:ext cx="672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9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배타적 관계 모델에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 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536280" y="982800"/>
            <a:ext cx="2983320" cy="2918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계좌정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계좌번호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개설지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비밀번호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실명확인여부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해지상태여부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상품종류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적용금리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*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고객번호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*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고객종류  </a:t>
            </a: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&lt;- 1 o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890880" y="1262160"/>
            <a:ext cx="225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17ABA-AC57-4570-8F3F-621F361A2E6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2058120" y="243000"/>
            <a:ext cx="672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9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배타적 관계 모델에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 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47760" y="1042920"/>
            <a:ext cx="31273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763280" y="1192320"/>
            <a:ext cx="5517360" cy="15757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명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정보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LIKE  '199503%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A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 B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AND   A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 C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763280" y="2887560"/>
            <a:ext cx="5517360" cy="15757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명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정보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LIKE  '199503%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( A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 B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OR A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 C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758600" y="5103720"/>
            <a:ext cx="5517360" cy="15757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명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정보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LIKE  '199503%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A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=  B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(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AND   A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=  C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(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47760" y="4707000"/>
            <a:ext cx="31273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해결 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108840" y="1935000"/>
            <a:ext cx="2209680" cy="5792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No Rows Sel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184800" y="3652920"/>
            <a:ext cx="2210040" cy="5792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(A=B)*C + (A=C)*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AB6C3-807E-4BD3-A8F4-3C68FE47444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455480" y="241200"/>
            <a:ext cx="817884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9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배타적 관계 모델에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 활용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004040" y="4576680"/>
            <a:ext cx="5540400" cy="18903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명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정보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LIKE  '199503%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AND   A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개인고객번호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=  B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(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AND   A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법인고객번호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=  C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(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1991520" y="1063800"/>
            <a:ext cx="2406960" cy="2939760"/>
            <a:chOff x="1991520" y="1063800"/>
            <a:chExt cx="2406960" cy="2939760"/>
          </a:xfrm>
        </p:grpSpPr>
        <p:sp>
          <p:nvSpPr>
            <p:cNvPr id="892" name=""/>
            <p:cNvSpPr/>
            <p:nvPr/>
          </p:nvSpPr>
          <p:spPr>
            <a:xfrm>
              <a:off x="1991520" y="1063800"/>
              <a:ext cx="2406960" cy="29397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0" bIns="0" anchor="ctr">
              <a:spAutoFit/>
            </a:bodyPr>
            <a:p>
              <a:pPr marL="343080" indent="-343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계좌정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# *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계좌번호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개설일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개설지점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비밀번호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실명확인여부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해지상태여부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상품종류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적용금리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ff3300"/>
                  </a:solidFill>
                  <a:latin typeface="굴림체"/>
                  <a:ea typeface="굴림체"/>
                </a:rPr>
                <a:t>개인고객번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33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ff3300"/>
                  </a:solidFill>
                  <a:latin typeface="굴림체"/>
                  <a:ea typeface="굴림체"/>
                </a:rPr>
                <a:t>법인고객번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295360" y="1352520"/>
              <a:ext cx="178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347760" y="1181160"/>
            <a:ext cx="31273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CAS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63600" y="4111560"/>
            <a:ext cx="31273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해결 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3D16A-8112-4311-97A8-DD3C2C5A29B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561960" y="1592280"/>
            <a:ext cx="5531040" cy="2710440"/>
          </a:xfrm>
          <a:prstGeom prst="roundRect">
            <a:avLst>
              <a:gd name="adj" fmla="val 939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COL1,  A.COL2,  B.COL3,  B.COL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1  A,  TAB2 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PK1  =  B.PK1 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PK2  =  B.PK2 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(  A.COL5  =  'AAA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OR  A.COL5  =  'BBBB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OR  A.COL5  =  'CCCC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OR  A.COL5  =  'DDDD' 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29880" y="243000"/>
            <a:ext cx="6291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0.  OR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와 같이 사용하는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45960" y="1106640"/>
            <a:ext cx="15033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20760" y="4833360"/>
            <a:ext cx="6691320" cy="12535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해결방안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5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각각의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단위로 낱개의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QL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로 분리한뒤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UNION ALL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을 사용하여 모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070600" y="2371680"/>
            <a:ext cx="4417920" cy="25261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굴림체"/>
                <a:ea typeface="굴림체"/>
              </a:rPr>
              <a:t>EXECUTION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STAT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NESTED LOOPS 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ACCESS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FULL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:TA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ACCESS BY ROWID :TA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UNIQUE SCAN :TAB2_PK1+PK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8805600" y="3606840"/>
            <a:ext cx="67716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71EEE-7FFA-46E2-B96F-A7336FBA1CE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/>
          <p:nvPr/>
        </p:nvSpPr>
        <p:spPr>
          <a:xfrm>
            <a:off x="604800" y="985680"/>
            <a:ext cx="3510000" cy="4221360"/>
          </a:xfrm>
          <a:custGeom>
            <a:avLst/>
            <a:gdLst>
              <a:gd name="textAreaLeft" fmla="*/ 93960 w 3510000"/>
              <a:gd name="textAreaRight" fmla="*/ 3416040 w 3510000"/>
              <a:gd name="textAreaTop" fmla="*/ 93960 h 4221360"/>
              <a:gd name="textAreaBottom" fmla="*/ 4127400 h 4221360"/>
            </a:gdLst>
            <a:ahLst/>
            <a:rect l="textAreaLeft" t="textAreaTop" r="textAreaRight" b="textAreaBottom"/>
            <a:pathLst>
              <a:path w="21600" h="25977">
                <a:moveTo>
                  <a:pt x="1975" y="0"/>
                </a:moveTo>
                <a:arcTo wR="1975" hR="1975" stAng="16200000" swAng="-5400000"/>
                <a:lnTo>
                  <a:pt x="0" y="24002"/>
                </a:lnTo>
                <a:arcTo wR="1975" hR="1975" stAng="10800000" swAng="-5400000"/>
                <a:lnTo>
                  <a:pt x="19625" y="25977"/>
                </a:lnTo>
                <a:arcTo wR="1975" hR="1975" stAng="5400000" swAng="-5400000"/>
                <a:lnTo>
                  <a:pt x="21600" y="1975"/>
                </a:lnTo>
                <a:arcTo wR="1975" hR="1975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600" spc="-1" strike="noStrike">
                <a:solidFill>
                  <a:srgbClr val="ff0033"/>
                </a:solidFill>
                <a:latin typeface="Modern"/>
                <a:ea typeface="굴림체"/>
              </a:rPr>
              <a:t>--+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USE_CONC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.COL1,  A.COL2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.COL3,  B.COL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1  A,  TAB2 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PK1  =  B.PK1 (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A.PK2  =  B.PK2 (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( A.COL5  =  'AAAA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 A.COL5  =  'BBBB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 A.COL5  =  'CCC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 A.COL5  =  'DDDD' )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829880" y="243000"/>
            <a:ext cx="6291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0.  OR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와 같이 사용하는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246560" y="1008000"/>
            <a:ext cx="5226120" cy="7534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굴림체"/>
                <a:ea typeface="굴림체"/>
              </a:rPr>
              <a:t>EXECUTE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STAT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CONCATE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NESTED  LOOPS 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_SCAN  OF  TAB1_COL5_I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UNIQUE SCAN :TAB2_PK1+PK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NESTED  LOOPS 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_SCAN  OF  TAB1_COL5_I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UNIQUE SCAN :TAB2_PK1+PK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NESTED  LOOPS 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_SCAN  OF  TAB1_COL5_I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UNIQUE SCAN :TAB2_PK1+PK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NESTED  LOOPS 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_SCAN  OF  TAB1_COL5_I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UNIQUE SCAN :TAB2_PK1+PK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712000" y="2125800"/>
            <a:ext cx="67716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8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62240" y="1204920"/>
            <a:ext cx="14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해결방안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521CD-5E95-48E0-B237-F3A1AB236D2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"/>
          <p:cNvGrpSpPr/>
          <p:nvPr/>
        </p:nvGrpSpPr>
        <p:grpSpPr>
          <a:xfrm>
            <a:off x="4344840" y="1811160"/>
            <a:ext cx="1298880" cy="185760"/>
            <a:chOff x="4344840" y="1811160"/>
            <a:chExt cx="1298880" cy="185760"/>
          </a:xfrm>
        </p:grpSpPr>
        <p:sp>
          <p:nvSpPr>
            <p:cNvPr id="908" name=""/>
            <p:cNvSpPr/>
            <p:nvPr/>
          </p:nvSpPr>
          <p:spPr>
            <a:xfrm>
              <a:off x="4344840" y="1905120"/>
              <a:ext cx="7207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4987800" y="1901520"/>
              <a:ext cx="65592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468760" y="1811160"/>
              <a:ext cx="140040" cy="185760"/>
            </a:xfrm>
            <a:custGeom>
              <a:avLst/>
              <a:gdLst/>
              <a:ahLst/>
              <a:rect l="l" t="t" r="r" b="b"/>
              <a:pathLst>
                <a:path w="88" h="117">
                  <a:moveTo>
                    <a:pt x="87" y="0"/>
                  </a:moveTo>
                  <a:lnTo>
                    <a:pt x="0" y="58"/>
                  </a:lnTo>
                  <a:lnTo>
                    <a:pt x="87" y="1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394240" y="1811160"/>
              <a:ext cx="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2750760" y="5095800"/>
            <a:ext cx="4558680" cy="1538280"/>
            <a:chOff x="2750760" y="5095800"/>
            <a:chExt cx="4558680" cy="1538280"/>
          </a:xfrm>
        </p:grpSpPr>
        <p:sp>
          <p:nvSpPr>
            <p:cNvPr id="913" name=""/>
            <p:cNvSpPr/>
            <p:nvPr/>
          </p:nvSpPr>
          <p:spPr>
            <a:xfrm>
              <a:off x="2750760" y="5095800"/>
              <a:ext cx="4558680" cy="153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76320" bIns="76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READING_ID   DATE   VALUE   REVISION_N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0      960510   108        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1      960502   11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2      960509   110        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3      960508   212       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4      960504   15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097080" y="5400720"/>
              <a:ext cx="385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4464000" y="4627440"/>
            <a:ext cx="996840" cy="32076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829880" y="243000"/>
            <a:ext cx="6704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1.  NUL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잘못된 사용과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2244600" y="1059120"/>
            <a:ext cx="2111400" cy="1594800"/>
            <a:chOff x="2244600" y="1059120"/>
            <a:chExt cx="2111400" cy="1594800"/>
          </a:xfrm>
        </p:grpSpPr>
        <p:sp>
          <p:nvSpPr>
            <p:cNvPr id="918" name=""/>
            <p:cNvSpPr/>
            <p:nvPr/>
          </p:nvSpPr>
          <p:spPr>
            <a:xfrm>
              <a:off x="2260800" y="1059120"/>
              <a:ext cx="2088360" cy="15948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38160" bIns="38160" anchor="ctr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Arial"/>
                  <a:ea typeface="굴림체"/>
                </a:rPr>
                <a:t>SENSOR_READ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# * READING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D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VA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244600" y="1503360"/>
              <a:ext cx="2111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5369400" y="1058760"/>
            <a:ext cx="3111120" cy="1552320"/>
            <a:chOff x="5369400" y="1058760"/>
            <a:chExt cx="3111120" cy="1552320"/>
          </a:xfrm>
        </p:grpSpPr>
        <p:sp>
          <p:nvSpPr>
            <p:cNvPr id="921" name=""/>
            <p:cNvSpPr/>
            <p:nvPr/>
          </p:nvSpPr>
          <p:spPr>
            <a:xfrm>
              <a:off x="5369400" y="1058760"/>
              <a:ext cx="3111120" cy="1552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38160" bIns="38160" anchor="ctr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SENSOR_READING_REVIS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# *  READING_ID ( FK 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# *  REVISION_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D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VA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592600" y="1503360"/>
              <a:ext cx="264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3" name=""/>
          <p:cNvSpPr/>
          <p:nvPr/>
        </p:nvSpPr>
        <p:spPr>
          <a:xfrm>
            <a:off x="287640" y="1204920"/>
            <a:ext cx="121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62680" y="5016600"/>
            <a:ext cx="135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원하는 결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77200" y="3065400"/>
            <a:ext cx="135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4319640" y="3728880"/>
            <a:ext cx="1298520" cy="185760"/>
            <a:chOff x="4319640" y="3728880"/>
            <a:chExt cx="1298520" cy="185760"/>
          </a:xfrm>
        </p:grpSpPr>
        <p:sp>
          <p:nvSpPr>
            <p:cNvPr id="927" name=""/>
            <p:cNvSpPr/>
            <p:nvPr/>
          </p:nvSpPr>
          <p:spPr>
            <a:xfrm>
              <a:off x="4319640" y="3822840"/>
              <a:ext cx="7207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>
              <a:off x="4962600" y="3819240"/>
              <a:ext cx="6555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443560" y="3728880"/>
              <a:ext cx="139680" cy="185760"/>
            </a:xfrm>
            <a:custGeom>
              <a:avLst/>
              <a:gdLst/>
              <a:ahLst/>
              <a:rect l="l" t="t" r="r" b="b"/>
              <a:pathLst>
                <a:path w="88" h="117">
                  <a:moveTo>
                    <a:pt x="87" y="0"/>
                  </a:moveTo>
                  <a:lnTo>
                    <a:pt x="0" y="58"/>
                  </a:lnTo>
                  <a:lnTo>
                    <a:pt x="87" y="1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369040" y="3728880"/>
              <a:ext cx="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1862640" y="2908440"/>
            <a:ext cx="2851920" cy="1538280"/>
            <a:chOff x="1862640" y="2908440"/>
            <a:chExt cx="2851920" cy="1538280"/>
          </a:xfrm>
        </p:grpSpPr>
        <p:sp>
          <p:nvSpPr>
            <p:cNvPr id="932" name=""/>
            <p:cNvSpPr/>
            <p:nvPr/>
          </p:nvSpPr>
          <p:spPr>
            <a:xfrm>
              <a:off x="1862640" y="2908440"/>
              <a:ext cx="2851920" cy="153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76320" bIns="76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READING_ID   DATE   VA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0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960501   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1      960502   1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2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060502   1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3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960503   2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4      960504   1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082960" y="3224160"/>
              <a:ext cx="241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5253120" y="2881440"/>
            <a:ext cx="4239000" cy="1751400"/>
            <a:chOff x="5253120" y="2881440"/>
            <a:chExt cx="4239000" cy="1751400"/>
          </a:xfrm>
        </p:grpSpPr>
        <p:sp>
          <p:nvSpPr>
            <p:cNvPr id="935" name=""/>
            <p:cNvSpPr/>
            <p:nvPr/>
          </p:nvSpPr>
          <p:spPr>
            <a:xfrm>
              <a:off x="5253120" y="2881440"/>
              <a:ext cx="4239000" cy="1751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76320" bIns="76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READING_ID  REVISION_NO   DATE   VA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00           1       960504   1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00           2       960506   1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0           3       960510   10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2           1       960509   1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03           1       960503   2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3           2       960508   2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575320" y="3182760"/>
              <a:ext cx="359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8FBB2-B7A6-4872-AB37-DB7AEB7893B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-410400" y="1506600"/>
            <a:ext cx="8769240" cy="2274840"/>
          </a:xfrm>
          <a:prstGeom prst="roundRect">
            <a:avLst>
              <a:gd name="adj" fmla="val 604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READING_ID,  NVL(B.DATE, A.DATE 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 (B.VALUE, A.VALUE),  NVL(B.REVISION_NO,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SENSOR_READING  A,  SENSOR_READING_REVISION 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READING_ID  =  B.READING_ID 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B.READING_ID  ||  B.REVISION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 (SELECT  READING_ID  ||  MAX ( REVISION_NO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SENSOR_READING_RE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READING_ID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829880" y="243000"/>
            <a:ext cx="6704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1.  NUL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잘못된 사용과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50920" y="1027080"/>
            <a:ext cx="23781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1544040" y="4359240"/>
            <a:ext cx="4558680" cy="1538280"/>
            <a:chOff x="1544040" y="4359240"/>
            <a:chExt cx="4558680" cy="1538280"/>
          </a:xfrm>
        </p:grpSpPr>
        <p:sp>
          <p:nvSpPr>
            <p:cNvPr id="941" name=""/>
            <p:cNvSpPr/>
            <p:nvPr/>
          </p:nvSpPr>
          <p:spPr>
            <a:xfrm>
              <a:off x="1544040" y="4359240"/>
              <a:ext cx="4558680" cy="153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76320" bIns="76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READING_ID   DATE   VALUE   REVISION_N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0      960510   108        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1      960502   11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2      960509   110        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3      960508   212       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4      960504   15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890720" y="4664160"/>
              <a:ext cx="385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5213520" y="5079960"/>
            <a:ext cx="801360" cy="609480"/>
            <a:chOff x="5213520" y="5079960"/>
            <a:chExt cx="801360" cy="609480"/>
          </a:xfrm>
        </p:grpSpPr>
        <p:sp>
          <p:nvSpPr>
            <p:cNvPr id="944" name=""/>
            <p:cNvSpPr/>
            <p:nvPr/>
          </p:nvSpPr>
          <p:spPr>
            <a:xfrm>
              <a:off x="5213520" y="5079960"/>
              <a:ext cx="801360" cy="0"/>
            </a:xfrm>
            <a:prstGeom prst="line">
              <a:avLst/>
            </a:prstGeom>
            <a:ln w="25560">
              <a:solidFill>
                <a:srgbClr val="33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213520" y="5689440"/>
              <a:ext cx="801360" cy="0"/>
            </a:xfrm>
            <a:prstGeom prst="line">
              <a:avLst/>
            </a:prstGeom>
            <a:ln w="25560">
              <a:solidFill>
                <a:srgbClr val="33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5955480" y="492444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굴림체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968440" y="552132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굴림체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281640" y="5172120"/>
            <a:ext cx="2686320" cy="335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원하는 결과 나오지 않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10D00-B706-42B8-95A0-48963124958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/>
          <p:nvPr/>
        </p:nvSpPr>
        <p:spPr>
          <a:xfrm>
            <a:off x="1829880" y="243000"/>
            <a:ext cx="6704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1.  NUL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잘못된 사용과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-360000" y="1473120"/>
            <a:ext cx="9210240" cy="2578680"/>
          </a:xfrm>
          <a:prstGeom prst="roundRect">
            <a:avLst>
              <a:gd name="adj" fmla="val 724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READING_ID, NVL(B.DATE, A.DATE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B.VALUE, A.VALUE),  NVL(B.REVISION_NO,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SENSOR_READING  A,  SENSOR_READING_REVISION 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READING_ID  =  B.READING_ID 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B.READING_ID  ||  B.REVISION_NO IS NULL 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B.READING_ID  ||  B.REVISION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  (SELECT  READING_ID  ||  MAX ( REVISION_NO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SENSOR_READING_RE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READING_ID)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4492800" y="4057560"/>
            <a:ext cx="5514840" cy="2965320"/>
            <a:chOff x="4492800" y="4057560"/>
            <a:chExt cx="5514840" cy="2965320"/>
          </a:xfrm>
        </p:grpSpPr>
        <p:sp>
          <p:nvSpPr>
            <p:cNvPr id="952" name=""/>
            <p:cNvSpPr/>
            <p:nvPr/>
          </p:nvSpPr>
          <p:spPr>
            <a:xfrm>
              <a:off x="4492800" y="4057560"/>
              <a:ext cx="5514840" cy="296532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cc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cc0000"/>
                  </a:solidFill>
                  <a:latin typeface="굴림체"/>
                  <a:ea typeface="굴림체"/>
                </a:rPr>
                <a:t>EXECUTION PL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------------------------------------------------------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SELECT 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FIL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MERGE JOIN OU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SORT JO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TABLE ACCESS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 FULL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: SENSOR_REA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SORT JO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TABLE ACCESS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FULL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: SENSOR_READING_REVI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FIL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SORT GROUP BY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TABLE ACCESS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FULL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: SENSOR_READING_REVI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9292680" y="5045040"/>
              <a:ext cx="580680" cy="85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80000"/>
                </a:lnSpc>
                <a:buClr>
                  <a:srgbClr val="000000"/>
                </a:buClr>
                <a:buSzPct val="120000"/>
                <a:buFont typeface="Wingdings" charset="2"/>
                <a:buChar char="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buClr>
                  <a:srgbClr val="000000"/>
                </a:buClr>
                <a:buSzPct val="120000"/>
                <a:buFont typeface="Wingdings" charset="2"/>
                <a:buChar char="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4" name=""/>
          <p:cNvSpPr/>
          <p:nvPr/>
        </p:nvSpPr>
        <p:spPr>
          <a:xfrm>
            <a:off x="312840" y="1050840"/>
            <a:ext cx="23778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642960" y="4486320"/>
            <a:ext cx="3782880" cy="2923560"/>
            <a:chOff x="642960" y="4486320"/>
            <a:chExt cx="3782880" cy="2923560"/>
          </a:xfrm>
        </p:grpSpPr>
        <p:sp>
          <p:nvSpPr>
            <p:cNvPr id="956" name=""/>
            <p:cNvSpPr/>
            <p:nvPr/>
          </p:nvSpPr>
          <p:spPr>
            <a:xfrm>
              <a:off x="647640" y="4486320"/>
              <a:ext cx="3772080" cy="292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76320" bIns="76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READING_ID   DATE   VALUE   REVISION_N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0      960510   108        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1      960502   11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2      960509   110        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3      960508   212       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4      960504   15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42960" y="4791240"/>
              <a:ext cx="37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0C3C0-6439-4CA5-8C11-58202D08FC1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671400" y="1636560"/>
            <a:ext cx="8909280" cy="42433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READING_ID,  NVL ( B.DATE, A.DATE 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 ( B.VALUE, A.VALUE ),  NVL ( B.REVISION_NO , 0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SENSOR_READING  A,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SELECT  b1.READING_ID, B2.REVISION_NO, B1.DATE, b1.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FROM SENSOR_READING_REVISION B1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(SELECT  READING_ID, MAX(REVISION_NO) AS REVISION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FROM SENSOR_READING_REVISION b2 GROUP BY READING_ID) B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WHERE   B1.READING_ID  = B2.READING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AND     B1.REVISION_NO = B2.REVISION_NO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)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.READING_ID  =  B.READING_ID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READING_ID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829880" y="243000"/>
            <a:ext cx="6704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1.  NUL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잘못된 사용과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2882880" y="5102280"/>
            <a:ext cx="3797280" cy="2923560"/>
            <a:chOff x="2882880" y="5102280"/>
            <a:chExt cx="3797280" cy="2923560"/>
          </a:xfrm>
        </p:grpSpPr>
        <p:sp>
          <p:nvSpPr>
            <p:cNvPr id="961" name=""/>
            <p:cNvSpPr/>
            <p:nvPr/>
          </p:nvSpPr>
          <p:spPr>
            <a:xfrm>
              <a:off x="2887560" y="5102280"/>
              <a:ext cx="3786120" cy="292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76320" bIns="76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READING_ID   DATE   VALUE   REVISION_N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0      960510   108        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1      960502   11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2      960509   110        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3      960508   212       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4      960504   15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882880" y="5407200"/>
              <a:ext cx="379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"/>
          <p:cNvSpPr/>
          <p:nvPr/>
        </p:nvSpPr>
        <p:spPr>
          <a:xfrm>
            <a:off x="312840" y="1179360"/>
            <a:ext cx="23778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해결 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CFACE-F5C3-44B1-A7B8-B84400B9A01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4" name=""/>
          <p:cNvGrpSpPr/>
          <p:nvPr/>
        </p:nvGrpSpPr>
        <p:grpSpPr>
          <a:xfrm>
            <a:off x="8155080" y="3060360"/>
            <a:ext cx="239760" cy="925920"/>
            <a:chOff x="8155080" y="3060360"/>
            <a:chExt cx="239760" cy="925920"/>
          </a:xfrm>
        </p:grpSpPr>
        <p:sp>
          <p:nvSpPr>
            <p:cNvPr id="965" name=""/>
            <p:cNvSpPr/>
            <p:nvPr/>
          </p:nvSpPr>
          <p:spPr>
            <a:xfrm>
              <a:off x="8280360" y="3519360"/>
              <a:ext cx="0" cy="4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8155080" y="3828960"/>
              <a:ext cx="239760" cy="157320"/>
            </a:xfrm>
            <a:custGeom>
              <a:avLst/>
              <a:gdLst/>
              <a:ahLst/>
              <a:rect l="l" t="t" r="r" b="b"/>
              <a:pathLst>
                <a:path w="151" h="99">
                  <a:moveTo>
                    <a:pt x="0" y="98"/>
                  </a:moveTo>
                  <a:lnTo>
                    <a:pt x="76" y="0"/>
                  </a:lnTo>
                  <a:lnTo>
                    <a:pt x="150" y="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8280360" y="3060360"/>
              <a:ext cx="0" cy="4539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228456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하는 테이블의 순서에 따른 차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6039000" y="4675320"/>
            <a:ext cx="1358640" cy="222120"/>
            <a:chOff x="6039000" y="4675320"/>
            <a:chExt cx="1358640" cy="222120"/>
          </a:xfrm>
        </p:grpSpPr>
        <p:sp>
          <p:nvSpPr>
            <p:cNvPr id="970" name=""/>
            <p:cNvSpPr/>
            <p:nvPr/>
          </p:nvSpPr>
          <p:spPr>
            <a:xfrm>
              <a:off x="6713640" y="4776840"/>
              <a:ext cx="671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165800" y="4675320"/>
              <a:ext cx="231840" cy="222120"/>
            </a:xfrm>
            <a:custGeom>
              <a:avLst/>
              <a:gdLst/>
              <a:ahLst/>
              <a:rect l="l" t="t" r="r" b="b"/>
              <a:pathLst>
                <a:path w="146" h="140">
                  <a:moveTo>
                    <a:pt x="145" y="139"/>
                  </a:moveTo>
                  <a:lnTo>
                    <a:pt x="0" y="67"/>
                  </a:lnTo>
                  <a:lnTo>
                    <a:pt x="13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>
              <a:off x="6039000" y="4776840"/>
              <a:ext cx="6588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2879640" y="3648240"/>
            <a:ext cx="1230480" cy="201600"/>
            <a:chOff x="2879640" y="3648240"/>
            <a:chExt cx="1230480" cy="201600"/>
          </a:xfrm>
        </p:grpSpPr>
        <p:sp>
          <p:nvSpPr>
            <p:cNvPr id="974" name=""/>
            <p:cNvSpPr/>
            <p:nvPr/>
          </p:nvSpPr>
          <p:spPr>
            <a:xfrm flipH="1">
              <a:off x="2890440" y="3741840"/>
              <a:ext cx="60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879640" y="3648240"/>
              <a:ext cx="211320" cy="201600"/>
            </a:xfrm>
            <a:custGeom>
              <a:avLst/>
              <a:gdLst/>
              <a:ahLst/>
              <a:rect l="l" t="t" r="r" b="b"/>
              <a:pathLst>
                <a:path w="133" h="127">
                  <a:moveTo>
                    <a:pt x="0" y="126"/>
                  </a:moveTo>
                  <a:lnTo>
                    <a:pt x="132" y="61"/>
                  </a:lnTo>
                  <a:lnTo>
                    <a:pt x="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511440" y="3741840"/>
              <a:ext cx="5986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8235000" y="4106880"/>
            <a:ext cx="307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6135840" y="2681280"/>
            <a:ext cx="1357200" cy="222120"/>
            <a:chOff x="6135840" y="2681280"/>
            <a:chExt cx="1357200" cy="222120"/>
          </a:xfrm>
        </p:grpSpPr>
        <p:sp>
          <p:nvSpPr>
            <p:cNvPr id="979" name=""/>
            <p:cNvSpPr/>
            <p:nvPr/>
          </p:nvSpPr>
          <p:spPr>
            <a:xfrm flipH="1">
              <a:off x="6145200" y="2784600"/>
              <a:ext cx="67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135840" y="2681280"/>
              <a:ext cx="231480" cy="222120"/>
            </a:xfrm>
            <a:custGeom>
              <a:avLst/>
              <a:gdLst/>
              <a:ahLst/>
              <a:rect l="l" t="t" r="r" b="b"/>
              <a:pathLst>
                <a:path w="146" h="140">
                  <a:moveTo>
                    <a:pt x="0" y="139"/>
                  </a:moveTo>
                  <a:lnTo>
                    <a:pt x="145" y="68"/>
                  </a:lnTo>
                  <a:lnTo>
                    <a:pt x="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831000" y="2784600"/>
              <a:ext cx="6620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2" name=""/>
          <p:cNvSpPr/>
          <p:nvPr/>
        </p:nvSpPr>
        <p:spPr>
          <a:xfrm>
            <a:off x="7345440" y="3983040"/>
            <a:ext cx="1827000" cy="272268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수주진행현황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회사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직원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V="1">
            <a:off x="7334280" y="4489200"/>
            <a:ext cx="1846080" cy="6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302600" y="1079640"/>
            <a:ext cx="1869840" cy="209520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이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민등록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출고정지구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319880" y="1600200"/>
            <a:ext cx="1851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059360" y="2362320"/>
            <a:ext cx="2090520" cy="293832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직원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076640" y="2979720"/>
            <a:ext cx="2071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033560" y="2394000"/>
            <a:ext cx="1869840" cy="32943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114480" bIns="1144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납품실행계획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직원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납품예정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소요비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완료여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047600" y="3049560"/>
            <a:ext cx="183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F79FC-7080-4989-9512-1BD7825B9A5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76920" y="3135240"/>
            <a:ext cx="3554640" cy="23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주 범위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Driving 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넓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넓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좁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좁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09920" y="3135240"/>
            <a:ext cx="3285000" cy="23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돋움"/>
              </a:rPr>
              <a:t>부 범위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돋움"/>
              </a:rPr>
              <a:t>(Checking 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넓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좁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넓다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좁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565440" y="3048120"/>
            <a:ext cx="3002040" cy="2422440"/>
            <a:chOff x="3565440" y="3048120"/>
            <a:chExt cx="3002040" cy="2422440"/>
          </a:xfrm>
        </p:grpSpPr>
        <p:sp>
          <p:nvSpPr>
            <p:cNvPr id="172" name=""/>
            <p:cNvSpPr/>
            <p:nvPr/>
          </p:nvSpPr>
          <p:spPr>
            <a:xfrm>
              <a:off x="3565440" y="3048120"/>
              <a:ext cx="0" cy="24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567480" y="3048120"/>
              <a:ext cx="0" cy="24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6632280" y="3135240"/>
            <a:ext cx="1149840" cy="23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돋움"/>
              </a:rPr>
              <a:t>성 능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0099"/>
                </a:solidFill>
                <a:latin typeface="Arial"/>
                <a:ea typeface="돋움"/>
              </a:rPr>
              <a:t>양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돋움"/>
              </a:rPr>
              <a:t>불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0099"/>
                </a:solidFill>
                <a:latin typeface="Arial"/>
                <a:ea typeface="돋움"/>
              </a:rPr>
              <a:t>양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0099"/>
                </a:solidFill>
                <a:latin typeface="Arial"/>
                <a:ea typeface="돋움"/>
              </a:rPr>
              <a:t>양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6560" y="3054240"/>
            <a:ext cx="7012080" cy="24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730080" y="3594240"/>
            <a:ext cx="7024680" cy="1385640"/>
            <a:chOff x="730080" y="3594240"/>
            <a:chExt cx="7024680" cy="1385640"/>
          </a:xfrm>
        </p:grpSpPr>
        <p:sp>
          <p:nvSpPr>
            <p:cNvPr id="177" name=""/>
            <p:cNvSpPr/>
            <p:nvPr/>
          </p:nvSpPr>
          <p:spPr>
            <a:xfrm>
              <a:off x="730080" y="3594240"/>
              <a:ext cx="702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730080" y="4030560"/>
              <a:ext cx="7010640" cy="949320"/>
              <a:chOff x="730080" y="4030560"/>
              <a:chExt cx="7010640" cy="949320"/>
            </a:xfrm>
          </p:grpSpPr>
          <p:sp>
            <p:nvSpPr>
              <p:cNvPr id="179" name=""/>
              <p:cNvSpPr/>
              <p:nvPr/>
            </p:nvSpPr>
            <p:spPr>
              <a:xfrm>
                <a:off x="730080" y="4030560"/>
                <a:ext cx="7010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30080" y="4505400"/>
                <a:ext cx="7010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30080" y="4979880"/>
                <a:ext cx="7010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2" name=""/>
          <p:cNvSpPr/>
          <p:nvPr/>
        </p:nvSpPr>
        <p:spPr>
          <a:xfrm>
            <a:off x="7655040" y="3487680"/>
            <a:ext cx="1652400" cy="760320"/>
          </a:xfrm>
          <a:custGeom>
            <a:avLst/>
            <a:gdLst>
              <a:gd name="textAreaLeft" fmla="*/ 61200 w 1652400"/>
              <a:gd name="textAreaRight" fmla="*/ 1591200 w 1652400"/>
              <a:gd name="textAreaTop" fmla="*/ 28080 h 760320"/>
              <a:gd name="textAreaBottom" fmla="*/ 607320 h 7603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0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굴림체"/>
              </a:rPr>
              <a:t>주 </a:t>
            </a: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굴림체"/>
              </a:rPr>
              <a:t>/ </a:t>
            </a: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굴림체"/>
              </a:rPr>
              <a:t>부 조건의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굴림체"/>
              </a:rPr>
              <a:t>변경 가능  </a:t>
            </a: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굴림체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99920" y="1209600"/>
            <a:ext cx="23911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부분범위 처리의 성능 결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22200" y="2104920"/>
            <a:ext cx="2259360" cy="968400"/>
          </a:xfrm>
          <a:custGeom>
            <a:avLst/>
            <a:gdLst>
              <a:gd name="textAreaLeft" fmla="*/ 83520 w 2259360"/>
              <a:gd name="textAreaRight" fmla="*/ 2175840 w 2259360"/>
              <a:gd name="textAreaTop" fmla="*/ 35640 h 968400"/>
              <a:gd name="textAreaBottom" fmla="*/ 773640 h 9684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698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사용 된 </a:t>
            </a: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INDEX</a:t>
            </a: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의해서 결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15840" y="243000"/>
            <a:ext cx="5619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부분범위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(Partial Range Scan)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처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0640B-B9F6-49E9-A6B2-18BC6EBA6F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/>
          <p:nvPr/>
        </p:nvSpPr>
        <p:spPr>
          <a:xfrm>
            <a:off x="228456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하는 테이블의 순서에 따른 차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66760" y="976320"/>
            <a:ext cx="9820080" cy="16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납품실행계획 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A :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납품실행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_PK      : </a:t>
            </a:r>
            <a:r>
              <a:rPr b="1" lang="ko-KR" sz="1500" spc="-1" strike="noStrike">
                <a:solidFill>
                  <a:srgbClr val="990066"/>
                </a:solidFill>
                <a:latin typeface="굴림체"/>
                <a:ea typeface="굴림체"/>
              </a:rPr>
              <a:t>주문번호</a:t>
            </a:r>
            <a:r>
              <a:rPr b="1" lang="ko-KR" sz="1500" spc="-1" strike="noStrike">
                <a:solidFill>
                  <a:srgbClr val="990066"/>
                </a:solidFill>
                <a:latin typeface="굴림체"/>
                <a:ea typeface="굴림체"/>
              </a:rPr>
              <a:t> </a:t>
            </a:r>
            <a:r>
              <a:rPr b="1" lang="ko-KR" sz="1500" spc="-1" strike="noStrike">
                <a:solidFill>
                  <a:srgbClr val="990066"/>
                </a:solidFill>
                <a:latin typeface="굴림체"/>
                <a:ea typeface="굴림체"/>
              </a:rPr>
              <a:t>+</a:t>
            </a:r>
            <a:r>
              <a:rPr b="1" lang="ko-KR" sz="1500" spc="-1" strike="noStrike">
                <a:solidFill>
                  <a:srgbClr val="990066"/>
                </a:solidFill>
                <a:latin typeface="굴림체"/>
                <a:ea typeface="굴림체"/>
              </a:rPr>
              <a:t> </a:t>
            </a:r>
            <a:r>
              <a:rPr b="1" lang="ko-KR" sz="1500" spc="-1" strike="noStrike">
                <a:solidFill>
                  <a:srgbClr val="990066"/>
                </a:solidFill>
                <a:latin typeface="굴림체"/>
                <a:ea typeface="굴림체"/>
              </a:rPr>
              <a:t>부서번호</a:t>
            </a:r>
            <a:r>
              <a:rPr b="1" lang="ko-KR" sz="1500" spc="-1" strike="noStrike">
                <a:solidFill>
                  <a:srgbClr val="00cc99"/>
                </a:solidFill>
                <a:latin typeface="굴림체"/>
                <a:ea typeface="굴림체"/>
              </a:rPr>
              <a:t>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+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주문직원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주문         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B :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주문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_PK          : </a:t>
            </a:r>
            <a:r>
              <a:rPr b="1" lang="ko-KR" sz="1500" spc="-1" strike="noStrike">
                <a:solidFill>
                  <a:srgbClr val="009900"/>
                </a:solidFill>
                <a:latin typeface="굴림체"/>
                <a:ea typeface="굴림체"/>
              </a:rPr>
              <a:t>주문번호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수주진행현황 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C :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수주진행현황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_PK  : </a:t>
            </a: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회사번호 </a:t>
            </a: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+ </a:t>
            </a: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부서번호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+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+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+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    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고객         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D :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고객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_PK          : </a:t>
            </a:r>
            <a:r>
              <a:rPr b="1" lang="ko-KR" sz="1500" spc="-1" strike="noStrike">
                <a:solidFill>
                  <a:srgbClr val="ff3300"/>
                </a:solidFill>
                <a:latin typeface="굴림체"/>
                <a:ea typeface="굴림체"/>
              </a:rPr>
              <a:t>고객번호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84280" y="2462040"/>
            <a:ext cx="8163000" cy="4059720"/>
          </a:xfrm>
          <a:prstGeom prst="roundRect">
            <a:avLst>
              <a:gd name="adj" fmla="val 404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600" spc="-1" strike="noStrike">
                <a:solidFill>
                  <a:srgbClr val="00cc99"/>
                </a:solidFill>
                <a:latin typeface="굴림체"/>
                <a:ea typeface="굴림체"/>
              </a:rPr>
              <a:t>DISTINCT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직원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D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출고중지구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납품실행계획 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A</a:t>
            </a:r>
            <a:r>
              <a:rPr b="1" lang="ko-KR" sz="1600" spc="-1" strike="noStrike">
                <a:solidFill>
                  <a:srgbClr val="00cc99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 </a:t>
            </a:r>
            <a:r>
              <a:rPr b="1" lang="ko-KR" sz="1600" spc="-1" strike="noStrike">
                <a:solidFill>
                  <a:srgbClr val="009900"/>
                </a:solidFill>
                <a:latin typeface="굴림체"/>
                <a:ea typeface="굴림체"/>
              </a:rPr>
              <a:t>주문 </a:t>
            </a:r>
            <a:r>
              <a:rPr b="1" lang="ko-KR" sz="1600" spc="-1" strike="noStrike">
                <a:solidFill>
                  <a:srgbClr val="009900"/>
                </a:solidFill>
                <a:latin typeface="굴림체"/>
                <a:ea typeface="굴림체"/>
              </a:rPr>
              <a:t>B ,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수주진행현황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C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고객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A.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부서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A.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주문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직원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직원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009900"/>
                </a:solidFill>
                <a:latin typeface="굴림체"/>
                <a:ea typeface="굴림체"/>
              </a:rPr>
              <a:t>B.</a:t>
            </a:r>
            <a:r>
              <a:rPr b="1" lang="ko-KR" sz="1600" spc="-1" strike="noStrike">
                <a:solidFill>
                  <a:srgbClr val="009900"/>
                </a:solidFill>
                <a:latin typeface="굴림체"/>
                <a:ea typeface="굴림체"/>
              </a:rPr>
              <a:t>주문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D.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C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부서번호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3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C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회사번호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완료여부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S NULL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3" name=""/>
          <p:cNvGrpSpPr/>
          <p:nvPr/>
        </p:nvGrpSpPr>
        <p:grpSpPr>
          <a:xfrm>
            <a:off x="4294080" y="3713040"/>
            <a:ext cx="5743800" cy="3012840"/>
            <a:chOff x="4294080" y="3713040"/>
            <a:chExt cx="5743800" cy="3012840"/>
          </a:xfrm>
        </p:grpSpPr>
        <p:sp>
          <p:nvSpPr>
            <p:cNvPr id="994" name=""/>
            <p:cNvSpPr/>
            <p:nvPr/>
          </p:nvSpPr>
          <p:spPr>
            <a:xfrm>
              <a:off x="4294080" y="3713040"/>
              <a:ext cx="5743800" cy="301284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cc0000"/>
                  </a:solidFill>
                  <a:latin typeface="굴림체"/>
                  <a:ea typeface="굴림체"/>
                </a:rPr>
                <a:t>ROWS  EXECUTION PL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----  ----------------------------------------------------------------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0  SELECT STAT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7   </a:t>
              </a:r>
              <a:r>
                <a:rPr b="1" lang="ko-KR" sz="1200" spc="-1" strike="noStrike">
                  <a:solidFill>
                    <a:srgbClr val="00cc99"/>
                  </a:solidFill>
                  <a:latin typeface="굴림체"/>
                  <a:ea typeface="굴림체"/>
                </a:rPr>
                <a:t>SORT (UNIQU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7     NESTED LOO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43       NESTED LOO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75         NESTED LOO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75           TABLE ACCESS (BY ROWID) OF '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수주진행현황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76            INDEX (RANGE SCAN) OF '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수주진행현황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_PK' (UNIQU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75           TABLE ACCESS (BY ROWID) OF '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고객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75            INDEX (UNIQUE SCAN) OF '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고객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_PK' (UNIQU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43         TABLE ACCESS (BY ROWID) OF '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주문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75           INDEX (UNIQUE SCAN) OF '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주문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_PK' (UNIQU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2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20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TABLE ACCESS (BY ROWID) OF '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납품실행계획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263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  INDEX (RANGE SCAN) OF '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납품실행계획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_PK' (UNIQU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9364680" y="4925880"/>
              <a:ext cx="654120" cy="14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45000"/>
                </a:lnSpc>
                <a:buClr>
                  <a:srgbClr val="000000"/>
                </a:buClr>
                <a:buSzPct val="120000"/>
                <a:buFont typeface="Wingdings" charset="2"/>
                <a:buChar char="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5000"/>
                </a:lnSpc>
                <a:buClr>
                  <a:srgbClr val="000000"/>
                </a:buClr>
                <a:buSzPct val="120000"/>
                <a:buFont typeface="Wingdings" charset="2"/>
                <a:buChar char="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65000"/>
                </a:lnSpc>
                <a:buClr>
                  <a:srgbClr val="000000"/>
                </a:buClr>
                <a:buSzPct val="120000"/>
                <a:buFont typeface="Wingdings" charset="2"/>
                <a:buChar char="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65000"/>
                </a:lnSpc>
                <a:buClr>
                  <a:srgbClr val="000000"/>
                </a:buClr>
                <a:buSzPct val="120000"/>
                <a:buFont typeface="Wingdings" charset="2"/>
                <a:buChar char="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D02CC-DF60-4DE1-B1C7-38BCA2C10BB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228456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하는 테이블의 순서에 따른 차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31720" y="1766880"/>
            <a:ext cx="274680" cy="393552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rot="16200000">
            <a:off x="69840" y="193356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굴림체"/>
              </a:rPr>
              <a:t>12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278000" y="1776240"/>
            <a:ext cx="923760" cy="393552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894240" y="1230480"/>
            <a:ext cx="14882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수주진행현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957400" y="1766880"/>
            <a:ext cx="285840" cy="395748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728880" y="1776240"/>
            <a:ext cx="924120" cy="399132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819920" y="1766880"/>
            <a:ext cx="298440" cy="395748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8597880" y="1776240"/>
            <a:ext cx="927000" cy="393552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372280" y="1766880"/>
            <a:ext cx="285480" cy="395748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153120" y="1776240"/>
            <a:ext cx="927000" cy="393552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651840" y="1254240"/>
            <a:ext cx="1000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983920" y="1254240"/>
            <a:ext cx="1000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8279280" y="1230480"/>
            <a:ext cx="14882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납품실행계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41720" y="192564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rot="16200000">
            <a:off x="2539800" y="193032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911680" y="192564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347000" y="192564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5320080" y="192564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rot="16200000">
            <a:off x="7375320" y="193356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굴림체"/>
              </a:rPr>
              <a:t>12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882920" y="1925640"/>
            <a:ext cx="982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8136000" y="3629160"/>
            <a:ext cx="750960" cy="923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8136000" y="3036600"/>
            <a:ext cx="765000" cy="13856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352760" y="2887560"/>
            <a:ext cx="971640" cy="14670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4352760" y="5072040"/>
            <a:ext cx="970200" cy="6048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4352760" y="3598920"/>
            <a:ext cx="984240" cy="2602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4352760" y="2734920"/>
            <a:ext cx="854280" cy="14828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9193320" y="2900520"/>
            <a:ext cx="590400" cy="6667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9190080" y="3051000"/>
            <a:ext cx="592200" cy="16164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6786720" y="2676600"/>
            <a:ext cx="873000" cy="2793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6786720" y="2749680"/>
            <a:ext cx="931680" cy="18921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6786720" y="4437000"/>
            <a:ext cx="931680" cy="68904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8136000" y="4682880"/>
            <a:ext cx="750960" cy="1429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541440" y="2697120"/>
            <a:ext cx="261720" cy="2617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9318600" y="1925640"/>
            <a:ext cx="8830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5654520" y="2935080"/>
            <a:ext cx="800280" cy="5634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654520" y="5054760"/>
            <a:ext cx="873360" cy="7776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654520" y="4354560"/>
            <a:ext cx="851040" cy="3096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V="1">
            <a:off x="3255840" y="2892600"/>
            <a:ext cx="839880" cy="727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259080" y="4913280"/>
            <a:ext cx="804960" cy="21924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V="1">
            <a:off x="3255840" y="3571560"/>
            <a:ext cx="811440" cy="2286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255840" y="4127400"/>
            <a:ext cx="811440" cy="795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806400" y="2813040"/>
            <a:ext cx="679680" cy="1843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V="1">
            <a:off x="806400" y="4538520"/>
            <a:ext cx="663480" cy="52704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V="1">
            <a:off x="806400" y="5029200"/>
            <a:ext cx="663480" cy="1872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806400" y="2805120"/>
            <a:ext cx="695520" cy="4716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887480" y="2827440"/>
            <a:ext cx="1042920" cy="9982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V="1">
            <a:off x="1887480" y="2965320"/>
            <a:ext cx="1036800" cy="2858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1873080" y="4127040"/>
            <a:ext cx="1051200" cy="9018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916280" y="4552920"/>
            <a:ext cx="1014120" cy="34596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7824960" y="4387680"/>
            <a:ext cx="284040" cy="466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7" name=""/>
          <p:cNvGrpSpPr/>
          <p:nvPr/>
        </p:nvGrpSpPr>
        <p:grpSpPr>
          <a:xfrm>
            <a:off x="221760" y="2752560"/>
            <a:ext cx="397440" cy="2659320"/>
            <a:chOff x="221760" y="2752560"/>
            <a:chExt cx="397440" cy="2659320"/>
          </a:xfrm>
        </p:grpSpPr>
        <p:sp>
          <p:nvSpPr>
            <p:cNvPr id="1048" name=""/>
            <p:cNvSpPr/>
            <p:nvPr/>
          </p:nvSpPr>
          <p:spPr>
            <a:xfrm>
              <a:off x="287280" y="275256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19200" y="2752560"/>
              <a:ext cx="0" cy="265932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221760" y="541188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7631280" y="4452840"/>
            <a:ext cx="293400" cy="505080"/>
            <a:chOff x="7631280" y="4452840"/>
            <a:chExt cx="293400" cy="505080"/>
          </a:xfrm>
        </p:grpSpPr>
        <p:sp>
          <p:nvSpPr>
            <p:cNvPr id="1052" name=""/>
            <p:cNvSpPr/>
            <p:nvPr/>
          </p:nvSpPr>
          <p:spPr>
            <a:xfrm>
              <a:off x="7680240" y="4452840"/>
              <a:ext cx="2332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7924680" y="4452840"/>
              <a:ext cx="0" cy="50508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H="1">
              <a:off x="7631280" y="4957920"/>
              <a:ext cx="28224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5" name=""/>
          <p:cNvSpPr/>
          <p:nvPr/>
        </p:nvSpPr>
        <p:spPr>
          <a:xfrm>
            <a:off x="8986680" y="294948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8986320" y="353844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8986320" y="464184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963880" y="293364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2963880" y="377820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963880" y="411804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963880" y="487692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381640" y="348948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381640" y="430524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381640" y="503568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27840" y="3592440"/>
            <a:ext cx="8175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813720" y="194796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931520" y="4375080"/>
            <a:ext cx="802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8" name=""/>
          <p:cNvGrpSpPr/>
          <p:nvPr/>
        </p:nvGrpSpPr>
        <p:grpSpPr>
          <a:xfrm>
            <a:off x="7669080" y="2517840"/>
            <a:ext cx="347760" cy="290520"/>
            <a:chOff x="7669080" y="2517840"/>
            <a:chExt cx="347760" cy="290520"/>
          </a:xfrm>
        </p:grpSpPr>
        <p:sp>
          <p:nvSpPr>
            <p:cNvPr id="1069" name=""/>
            <p:cNvSpPr/>
            <p:nvPr/>
          </p:nvSpPr>
          <p:spPr>
            <a:xfrm>
              <a:off x="7669080" y="2517840"/>
              <a:ext cx="347760" cy="29052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750080" y="2597040"/>
              <a:ext cx="236880" cy="17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0033"/>
                  </a:solidFill>
                  <a:latin typeface="Arial"/>
                  <a:ea typeface="굴림체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1" name=""/>
          <p:cNvGrpSpPr/>
          <p:nvPr/>
        </p:nvGrpSpPr>
        <p:grpSpPr>
          <a:xfrm>
            <a:off x="5210280" y="2517840"/>
            <a:ext cx="347400" cy="290520"/>
            <a:chOff x="5210280" y="2517840"/>
            <a:chExt cx="347400" cy="290520"/>
          </a:xfrm>
        </p:grpSpPr>
        <p:sp>
          <p:nvSpPr>
            <p:cNvPr id="1072" name=""/>
            <p:cNvSpPr/>
            <p:nvPr/>
          </p:nvSpPr>
          <p:spPr>
            <a:xfrm>
              <a:off x="5210280" y="2517840"/>
              <a:ext cx="347400" cy="29052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91280" y="2597040"/>
              <a:ext cx="236880" cy="17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0033"/>
                  </a:solidFill>
                  <a:latin typeface="Arial"/>
                  <a:ea typeface="굴림체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801720" y="3143160"/>
            <a:ext cx="725400" cy="5731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V="1">
            <a:off x="1844640" y="3289320"/>
            <a:ext cx="1089000" cy="4269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963880" y="324324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265560" y="3289320"/>
            <a:ext cx="815760" cy="651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375080" y="3343320"/>
            <a:ext cx="961920" cy="1699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381640" y="382896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662440" y="3838680"/>
            <a:ext cx="857520" cy="61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V="1">
            <a:off x="6765840" y="3552840"/>
            <a:ext cx="892440" cy="2779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824960" y="3502080"/>
            <a:ext cx="284040" cy="3207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3" name=""/>
          <p:cNvGrpSpPr/>
          <p:nvPr/>
        </p:nvGrpSpPr>
        <p:grpSpPr>
          <a:xfrm>
            <a:off x="7631280" y="3552840"/>
            <a:ext cx="293400" cy="342720"/>
            <a:chOff x="7631280" y="3552840"/>
            <a:chExt cx="293400" cy="342720"/>
          </a:xfrm>
        </p:grpSpPr>
        <p:sp>
          <p:nvSpPr>
            <p:cNvPr id="1084" name=""/>
            <p:cNvSpPr/>
            <p:nvPr/>
          </p:nvSpPr>
          <p:spPr>
            <a:xfrm>
              <a:off x="7680240" y="3552840"/>
              <a:ext cx="23328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924680" y="3552840"/>
              <a:ext cx="0" cy="34272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>
              <a:off x="7631280" y="3895560"/>
              <a:ext cx="28224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" name=""/>
          <p:cNvSpPr/>
          <p:nvPr/>
        </p:nvSpPr>
        <p:spPr>
          <a:xfrm flipV="1">
            <a:off x="8129520" y="2690640"/>
            <a:ext cx="728640" cy="9036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8994600" y="264168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7896600" y="3430440"/>
            <a:ext cx="802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rot="16200000">
            <a:off x="4943520" y="191448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919520" y="190512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F9B23-DA3D-430B-B4C8-77F8CF685DF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"/>
          <p:cNvSpPr/>
          <p:nvPr/>
        </p:nvSpPr>
        <p:spPr>
          <a:xfrm>
            <a:off x="228456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하는 테이블의 순서에 따른 차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239840" y="1581120"/>
            <a:ext cx="6226200" cy="4558680"/>
          </a:xfrm>
          <a:prstGeom prst="roundRect">
            <a:avLst>
              <a:gd name="adj" fmla="val 6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/*+ ORDERE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DISTINCT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직원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D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출고중지구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수주진행현황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C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,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납품실행계획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A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고객 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D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1" lang="ko-KR" sz="1600" spc="-1" strike="noStrike">
                <a:solidFill>
                  <a:srgbClr val="339933"/>
                </a:solidFill>
                <a:latin typeface="굴림체"/>
                <a:ea typeface="굴림체"/>
              </a:rPr>
              <a:t>주문 </a:t>
            </a:r>
            <a:r>
              <a:rPr b="1" lang="ko-KR" sz="1600" spc="-1" strike="noStrike">
                <a:solidFill>
                  <a:srgbClr val="339933"/>
                </a:solidFill>
                <a:latin typeface="굴림체"/>
                <a:ea typeface="굴림체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부서번호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A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부서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주문번호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A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주문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주문일자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339933"/>
                </a:solidFill>
                <a:latin typeface="굴림체"/>
                <a:ea typeface="굴림체"/>
              </a:rPr>
              <a:t>B.</a:t>
            </a:r>
            <a:r>
              <a:rPr b="1" lang="ko-KR" sz="1600" spc="-1" strike="noStrike">
                <a:solidFill>
                  <a:srgbClr val="339933"/>
                </a:solidFill>
                <a:latin typeface="굴림체"/>
                <a:ea typeface="굴림체"/>
              </a:rPr>
              <a:t>주문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D.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3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회사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완료여부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S NULL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1C495-291A-4F0F-8738-92E81247D33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"/>
          <p:cNvSpPr/>
          <p:nvPr/>
        </p:nvSpPr>
        <p:spPr>
          <a:xfrm>
            <a:off x="228456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하는 테이블의 순서에 따른 차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47560" y="1936800"/>
            <a:ext cx="277920" cy="399564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6440" y="205272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359000" y="1940040"/>
            <a:ext cx="936360" cy="400824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978480" y="1392120"/>
            <a:ext cx="14882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수주진행현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046320" y="1936800"/>
            <a:ext cx="308160" cy="401796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816360" y="1940040"/>
            <a:ext cx="939960" cy="406404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7732800" y="1936800"/>
            <a:ext cx="288720" cy="401796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8507520" y="1940040"/>
            <a:ext cx="939600" cy="400824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345280" y="1936800"/>
            <a:ext cx="277560" cy="401796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119640" y="1940040"/>
            <a:ext cx="938520" cy="400824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057000" y="1403280"/>
            <a:ext cx="1000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8508240" y="1393920"/>
            <a:ext cx="1000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543840" y="1403280"/>
            <a:ext cx="14882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납품실행계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198800" y="203832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543760" y="2052720"/>
            <a:ext cx="12625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12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735360" y="2052720"/>
            <a:ext cx="10098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001480" y="2052720"/>
            <a:ext cx="982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089040" y="2052720"/>
            <a:ext cx="982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7384320" y="2052720"/>
            <a:ext cx="982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8476560" y="2052720"/>
            <a:ext cx="982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V="1">
            <a:off x="3362400" y="2951280"/>
            <a:ext cx="747720" cy="4586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3354480" y="3429000"/>
            <a:ext cx="755640" cy="923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V="1">
            <a:off x="3344760" y="4770000"/>
            <a:ext cx="750960" cy="572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1946160" y="2460240"/>
            <a:ext cx="936720" cy="2761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1960560" y="2532240"/>
            <a:ext cx="879480" cy="4060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V="1">
            <a:off x="1932120" y="2575080"/>
            <a:ext cx="966600" cy="6523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1946160" y="4333680"/>
            <a:ext cx="920880" cy="2062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1933560" y="2677680"/>
            <a:ext cx="979560" cy="1220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V="1">
            <a:off x="841320" y="2715840"/>
            <a:ext cx="876240" cy="3142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V="1">
            <a:off x="841320" y="2949480"/>
            <a:ext cx="876240" cy="3175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 flipV="1">
            <a:off x="841320" y="4554360"/>
            <a:ext cx="830160" cy="5176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flipV="1">
            <a:off x="841320" y="3905280"/>
            <a:ext cx="816120" cy="8920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841320" y="2639880"/>
            <a:ext cx="876240" cy="6271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55480" y="2583000"/>
            <a:ext cx="263520" cy="2657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9254880" y="2035080"/>
            <a:ext cx="8830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221760" y="2638440"/>
            <a:ext cx="397440" cy="2658960"/>
            <a:chOff x="221760" y="2638440"/>
            <a:chExt cx="397440" cy="2658960"/>
          </a:xfrm>
        </p:grpSpPr>
        <p:sp>
          <p:nvSpPr>
            <p:cNvPr id="1131" name=""/>
            <p:cNvSpPr/>
            <p:nvPr/>
          </p:nvSpPr>
          <p:spPr>
            <a:xfrm>
              <a:off x="287280" y="263844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19200" y="2638440"/>
              <a:ext cx="0" cy="265896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221760" y="529740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4" name=""/>
          <p:cNvSpPr/>
          <p:nvPr/>
        </p:nvSpPr>
        <p:spPr>
          <a:xfrm>
            <a:off x="3054240" y="4273560"/>
            <a:ext cx="293760" cy="5968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5" name=""/>
          <p:cNvGrpSpPr/>
          <p:nvPr/>
        </p:nvGrpSpPr>
        <p:grpSpPr>
          <a:xfrm>
            <a:off x="2855880" y="4334040"/>
            <a:ext cx="289080" cy="637920"/>
            <a:chOff x="2855880" y="4334040"/>
            <a:chExt cx="289080" cy="637920"/>
          </a:xfrm>
        </p:grpSpPr>
        <p:sp>
          <p:nvSpPr>
            <p:cNvPr id="1136" name=""/>
            <p:cNvSpPr/>
            <p:nvPr/>
          </p:nvSpPr>
          <p:spPr>
            <a:xfrm>
              <a:off x="2903400" y="4334040"/>
              <a:ext cx="23184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144960" y="4334040"/>
              <a:ext cx="0" cy="63792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2855880" y="4971960"/>
              <a:ext cx="27936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9" name=""/>
          <p:cNvSpPr/>
          <p:nvPr/>
        </p:nvSpPr>
        <p:spPr>
          <a:xfrm>
            <a:off x="5351400" y="3159000"/>
            <a:ext cx="260280" cy="730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351400" y="3830760"/>
            <a:ext cx="260280" cy="730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351400" y="4416480"/>
            <a:ext cx="260280" cy="730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737480" y="3159000"/>
            <a:ext cx="276120" cy="828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737480" y="3830760"/>
            <a:ext cx="276120" cy="82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737480" y="4416480"/>
            <a:ext cx="276120" cy="82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5661000" y="2936880"/>
            <a:ext cx="816120" cy="2649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V="1">
            <a:off x="5661000" y="3397320"/>
            <a:ext cx="801720" cy="4809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640480" y="4465800"/>
            <a:ext cx="865080" cy="3459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737400" y="2951280"/>
            <a:ext cx="923760" cy="2188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721560" y="3411360"/>
            <a:ext cx="988920" cy="455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6751800" y="4444560"/>
            <a:ext cx="958680" cy="3380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8037360" y="2930040"/>
            <a:ext cx="816120" cy="2653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8037360" y="3390840"/>
            <a:ext cx="801720" cy="4809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016840" y="4459320"/>
            <a:ext cx="865080" cy="3459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4334040" y="2957400"/>
            <a:ext cx="988920" cy="1831680"/>
            <a:chOff x="4334040" y="2957400"/>
            <a:chExt cx="988920" cy="1831680"/>
          </a:xfrm>
        </p:grpSpPr>
        <p:sp>
          <p:nvSpPr>
            <p:cNvPr id="1155" name=""/>
            <p:cNvSpPr/>
            <p:nvPr/>
          </p:nvSpPr>
          <p:spPr>
            <a:xfrm>
              <a:off x="4349880" y="2957400"/>
              <a:ext cx="923760" cy="21924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334040" y="3417840"/>
              <a:ext cx="988920" cy="45576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4363920" y="4451040"/>
              <a:ext cx="959040" cy="33804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8" name=""/>
          <p:cNvSpPr/>
          <p:nvPr/>
        </p:nvSpPr>
        <p:spPr>
          <a:xfrm flipV="1">
            <a:off x="9136080" y="3414600"/>
            <a:ext cx="660240" cy="64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8910720" y="289548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8910720" y="473544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8910000" y="339408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841320" y="3441600"/>
            <a:ext cx="873360" cy="18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V="1">
            <a:off x="1932120" y="3400200"/>
            <a:ext cx="966600" cy="428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2906640" y="2409840"/>
            <a:ext cx="347760" cy="290520"/>
            <a:chOff x="2906640" y="2409840"/>
            <a:chExt cx="347760" cy="290520"/>
          </a:xfrm>
        </p:grpSpPr>
        <p:sp>
          <p:nvSpPr>
            <p:cNvPr id="1165" name=""/>
            <p:cNvSpPr/>
            <p:nvPr/>
          </p:nvSpPr>
          <p:spPr>
            <a:xfrm>
              <a:off x="2906640" y="2409840"/>
              <a:ext cx="347760" cy="29052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987640" y="2489040"/>
              <a:ext cx="236880" cy="17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0033"/>
                  </a:solidFill>
                  <a:latin typeface="Arial"/>
                  <a:ea typeface="굴림체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7" name=""/>
          <p:cNvSpPr/>
          <p:nvPr/>
        </p:nvSpPr>
        <p:spPr>
          <a:xfrm>
            <a:off x="3054240" y="3344760"/>
            <a:ext cx="284400" cy="3207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8" name=""/>
          <p:cNvGrpSpPr/>
          <p:nvPr/>
        </p:nvGrpSpPr>
        <p:grpSpPr>
          <a:xfrm>
            <a:off x="2855520" y="3381480"/>
            <a:ext cx="294120" cy="342720"/>
            <a:chOff x="2855520" y="3381480"/>
            <a:chExt cx="294120" cy="342720"/>
          </a:xfrm>
        </p:grpSpPr>
        <p:sp>
          <p:nvSpPr>
            <p:cNvPr id="1169" name=""/>
            <p:cNvSpPr/>
            <p:nvPr/>
          </p:nvSpPr>
          <p:spPr>
            <a:xfrm>
              <a:off x="2905200" y="3381480"/>
              <a:ext cx="23328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149640" y="3381480"/>
              <a:ext cx="0" cy="34272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2855520" y="3724200"/>
              <a:ext cx="28260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2" name=""/>
          <p:cNvSpPr/>
          <p:nvPr/>
        </p:nvSpPr>
        <p:spPr>
          <a:xfrm>
            <a:off x="3111840" y="3324240"/>
            <a:ext cx="802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105720" y="4398840"/>
            <a:ext cx="802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627840" y="3652920"/>
            <a:ext cx="81756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3150720" y="2063880"/>
            <a:ext cx="982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70976-1069-4725-8F6D-0DACC869FAD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-350640" y="2625840"/>
            <a:ext cx="7567200" cy="153864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DETL,  PGM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A01003M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MENU_ID  = 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NVL(MAST_MENU_ID, ' ')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= NVL(:B2, ' '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746720" y="243000"/>
            <a:ext cx="667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3.  NULL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처리를 위해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DEFAULT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50920" y="1103400"/>
            <a:ext cx="98200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6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01003M20  :  A01003M20_U2 : MENU_ID + MAST_MENU_ID  (UN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27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768840" y="2289240"/>
            <a:ext cx="5900760" cy="15843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ROWS   EXECUTION 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   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0   SELECT   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1     TABLE  ACCESS ( BY ROWID )  OF  'A01003M2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2321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INDEX ( RANGE SCAN )  OF  'A01003M20_U2' ( UNIQU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-166320" y="4914000"/>
            <a:ext cx="6469920" cy="153864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DETL,  PGM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A01003M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MENU_ID  = 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 MAST_MENU_ID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=  NVL(:B2, 'X'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93760" y="4454640"/>
            <a:ext cx="181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902DC-5CBB-48B8-99C1-4751A66F567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"/>
          <p:cNvSpPr/>
          <p:nvPr/>
        </p:nvSpPr>
        <p:spPr>
          <a:xfrm>
            <a:off x="-350280" y="2475000"/>
            <a:ext cx="7538400" cy="1729800"/>
          </a:xfrm>
          <a:prstGeom prst="roundRect">
            <a:avLst>
              <a:gd name="adj" fmla="val 829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STOCK_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LM6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IO_DATE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= (SELECT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MAX(IO_D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LM600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CAR_CODE = :VALU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OX_CODE = :VALUE2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1671840" y="243000"/>
            <a:ext cx="3642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4.  MAX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값의 처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50920" y="1103400"/>
            <a:ext cx="9348840" cy="13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LM600 : GFLM600_PK : CAR_CODE + BOX_CODE + IO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6916680" y="1774800"/>
            <a:ext cx="2720880" cy="758880"/>
          </a:xfrm>
          <a:custGeom>
            <a:avLst/>
            <a:gdLst>
              <a:gd name="textAreaLeft" fmla="*/ 100440 w 2720880"/>
              <a:gd name="textAreaRight" fmla="*/ 2620440 w 2720880"/>
              <a:gd name="textAreaTop" fmla="*/ 28080 h 758880"/>
              <a:gd name="textAreaBottom" fmla="*/ 606240 h 758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62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두 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SUB-Query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의 차이는 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-80640" y="4410000"/>
            <a:ext cx="7730640" cy="2151720"/>
          </a:xfrm>
          <a:prstGeom prst="roundRect">
            <a:avLst>
              <a:gd name="adj" fmla="val 1104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STOCK_Q  FROM  GFLM600 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IO_DATE = (SELECT  MAX(IO_D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LM600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B.CAR_CODE = :VALU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.BOX_CODE = :VALU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AND  A.CAR_CODE = B.CAR_CO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 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AND  A.BOX_CODE = B.BOX_CODE 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746680" y="2978280"/>
            <a:ext cx="3214800" cy="335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원하는 대로 결과 나오지 않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3CEE0-AFB4-4DAC-848A-D7BC7F4FEFB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"/>
          <p:cNvSpPr/>
          <p:nvPr/>
        </p:nvSpPr>
        <p:spPr>
          <a:xfrm>
            <a:off x="-42120" y="1987560"/>
            <a:ext cx="8129520" cy="17269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14480" bIns="1144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/*+ INDEX_DESC(A GFLM600_PK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TOCK_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LM600 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CAR_CODE = :VALUE1  AND  BOX_CODE = :VALU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 ROWNUM = 1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-47520" y="4656240"/>
            <a:ext cx="8223480" cy="11350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14480" bIns="1144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BSTR (MAX (IO_DATE || STOCK_Q), 9, 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LM6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CAR_CODE = :VALUE1  AND  BOX_CODE = :VALUE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439640" y="254160"/>
            <a:ext cx="817884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4.  MAX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값의 처리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266760" y="1082520"/>
            <a:ext cx="4797360" cy="3650040"/>
          </a:xfrm>
          <a:prstGeom prst="roundRect">
            <a:avLst>
              <a:gd name="adj" fmla="val 1249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해결 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1)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역순 인덱스 사용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-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효율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2) SUBSTR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사용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 없을 때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1159A-CBC0-4510-9986-2165BA98D8D6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1601640" y="243000"/>
            <a:ext cx="5817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5.  MAX / MIN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에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SQ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분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66760" y="1103400"/>
            <a:ext cx="7367400" cy="18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HISEQPM : THISEQPM_X1 :  EQPMDEPT + EQPMPART + EQPM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-427680" y="4237200"/>
            <a:ext cx="9234720" cy="2353680"/>
          </a:xfrm>
          <a:prstGeom prst="roundRect">
            <a:avLst>
              <a:gd name="adj" fmla="val 974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/*+ INDEX_ASC(A THISEQPM_X1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V.MAX_ROOM - A.EQPMROOM + 1  INTO  :NEXT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( </a:t>
            </a: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SELECT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/*+ INDEX_DESC(THISEQPM THISEQPM_X1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              </a:t>
            </a: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EQPMROOM  AS  MAX_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FROM    THISEQ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WHERE   EQPMDEPT = :VALUE1  AND  EQPMPART = :VALU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ROWNUM  = 1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INV ,  THISEQPM 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EQPMDEPT = :VALUE1  AND  EQPMPART = :VALU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ROWNUM = 1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-447120" y="2676600"/>
            <a:ext cx="9214560" cy="946080"/>
          </a:xfrm>
          <a:prstGeom prst="roundRect">
            <a:avLst>
              <a:gd name="adj" fmla="val 2054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(MAX(EQPMROOM) - MIN(EQPMROOM)) + 1  INTO  :NEXT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HISEQ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EQPMDEPT = :VALUE1  AND  EQPMPART = :VALUE2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09600" y="3811680"/>
            <a:ext cx="181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EC6E0-A085-4434-A1E6-A121FE3A4491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"/>
          <p:cNvSpPr/>
          <p:nvPr/>
        </p:nvSpPr>
        <p:spPr>
          <a:xfrm>
            <a:off x="1886760" y="243000"/>
            <a:ext cx="6041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6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서브쿼리 사용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MIN / MAX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30120" y="1103400"/>
            <a:ext cx="9363240" cy="14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_TAB : A_TAB_IX1 : ID + S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-741600" y="2611440"/>
            <a:ext cx="11730960" cy="3517920"/>
          </a:xfrm>
          <a:prstGeom prst="roundRect">
            <a:avLst>
              <a:gd name="adj" fmla="val 784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NVL(COUNT(*), 0) INTO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</a:t>
            </a:r>
            <a:r>
              <a:rPr b="1" lang="ko-KR" sz="1800" spc="-1" strike="noStrike">
                <a:solidFill>
                  <a:srgbClr val="00cc99"/>
                </a:solidFill>
                <a:latin typeface="굴림체"/>
                <a:ea typeface="굴림체"/>
              </a:rPr>
              <a:t>A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SDATE &gt;= :B2  AND  SDATE &lt;= :B3   AND  PATH = :B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(ID, SD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 (SELECT  ID, S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FROM  B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SDATE BETWEEN :B2 AND :B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AND  DEPT = :B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(ID, SDATE, SERL) IN (SELECT  ID, SDATE, MIN(SER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 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FROM  B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SDATE BETWEEN :B2 AND :B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ID, SDATE)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4AA10-A343-4746-850D-8B354DD4E86C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"/>
          <p:cNvSpPr/>
          <p:nvPr/>
        </p:nvSpPr>
        <p:spPr>
          <a:xfrm>
            <a:off x="1886760" y="243000"/>
            <a:ext cx="6041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6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서브쿼리 사용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MIN / MAX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22440" y="1514520"/>
            <a:ext cx="8080200" cy="305964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NVL(COUNT(*), 0) INTO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A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SDATE  BETWEEN :B2 AND :B3   AND   PATH = :B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(ID, SDATE) IN (SELECT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ID, SUBSTR(MIN(SDATE || SERL),1,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B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SDATE BETWEEN :B2 AND :B3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DEPT = :B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ID, SDATE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378000" y="4437000"/>
            <a:ext cx="44384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2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9900cc"/>
                </a:solidFill>
                <a:latin typeface="굴림체"/>
                <a:ea typeface="굴림체"/>
              </a:rPr>
              <a:t>문제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9900cc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9900cc"/>
                </a:solidFill>
                <a:latin typeface="굴림체"/>
                <a:ea typeface="굴림체"/>
              </a:rPr>
              <a:t>(</a:t>
            </a:r>
            <a:r>
              <a:rPr b="1" lang="ko-KR" sz="1600" spc="-1" strike="noStrike">
                <a:solidFill>
                  <a:srgbClr val="9900cc"/>
                </a:solidFill>
                <a:latin typeface="굴림체"/>
                <a:ea typeface="굴림체"/>
              </a:rPr>
              <a:t>원래 </a:t>
            </a:r>
            <a:r>
              <a:rPr b="1" lang="ko-KR" sz="1600" spc="-1" strike="noStrike">
                <a:solidFill>
                  <a:srgbClr val="9900cc"/>
                </a:solidFill>
                <a:latin typeface="굴림체"/>
                <a:ea typeface="굴림체"/>
              </a:rPr>
              <a:t>SQL</a:t>
            </a:r>
            <a:r>
              <a:rPr b="1" lang="ko-KR" sz="1600" spc="-1" strike="noStrike">
                <a:solidFill>
                  <a:srgbClr val="9900cc"/>
                </a:solidFill>
                <a:latin typeface="굴림체"/>
                <a:ea typeface="굴림체"/>
              </a:rPr>
              <a:t>과 결과 다름</a:t>
            </a:r>
            <a:r>
              <a:rPr b="1" lang="ko-KR" sz="1600" spc="-1" strike="noStrike">
                <a:solidFill>
                  <a:srgbClr val="9900cc"/>
                </a:solidFill>
                <a:latin typeface="굴림체"/>
                <a:ea typeface="굴림체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:B7 = 20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인 경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원래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SQL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은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③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번이 선택되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:B7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에서 걸러져 결과가 나오지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않지만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이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SQL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은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①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번 로우가 나온다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182920" y="4675320"/>
            <a:ext cx="4299840" cy="162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ID      SDATE    SERL   DEPT</a:t>
            </a: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00   19970310     3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100   19970310     4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100   19970310     1   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100   19970310     2    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994800" y="4253040"/>
            <a:ext cx="94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B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764600" y="5141880"/>
            <a:ext cx="107244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504040" y="5084640"/>
            <a:ext cx="36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400640" y="5506920"/>
            <a:ext cx="450720" cy="441360"/>
          </a:xfrm>
          <a:prstGeom prst="rightArrow">
            <a:avLst>
              <a:gd name="adj1" fmla="val 75009"/>
              <a:gd name="adj2" fmla="val 35747"/>
            </a:avLst>
          </a:prstGeom>
          <a:solidFill>
            <a:srgbClr val="00cc99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378000" y="985680"/>
            <a:ext cx="42750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2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9900cc"/>
                </a:solidFill>
                <a:latin typeface="굴림체"/>
                <a:ea typeface="굴림체"/>
              </a:rPr>
              <a:t>중간 </a:t>
            </a:r>
            <a:r>
              <a:rPr b="1" lang="ko-KR" sz="1800" spc="-1" strike="noStrike">
                <a:solidFill>
                  <a:srgbClr val="99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9E291-7D95-4FFA-B8DA-5306E2C9340F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214360" y="243000"/>
            <a:ext cx="571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년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/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월이 분리된 경우에도 인덱스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2600" y="1103400"/>
            <a:ext cx="85582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AB_A : TAB_A_X1 :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YY + MM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+ DD + SALE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-217800" y="2933640"/>
            <a:ext cx="7428600" cy="15195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YY || A.MM, DEPT, SUM(SALE_Q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_A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A.YY || A.MM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ETWEEN '9410' AND '9504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A.YY || A.MM, DEPT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DF68A-95B8-4642-B5AC-2FCCF74118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/>
          <p:nvPr/>
        </p:nvSpPr>
        <p:spPr>
          <a:xfrm>
            <a:off x="-318240" y="1712880"/>
            <a:ext cx="10888920" cy="2703960"/>
          </a:xfrm>
          <a:prstGeom prst="roundRect">
            <a:avLst>
              <a:gd name="adj" fmla="val 904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NVL(COUNT(*), 0) INTO :B1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A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SDATE  BETWEEN :B2 AND :B3   AND   PATH = :B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(ID, SDATE) IN (SELECT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V.ID, DECODE(V.DEPT, :B7, V.SDATE, NU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(SELECT ID, SDAT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BSTR(MIN(SERL || DEPT),4,2) AS DE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B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SDATE BETWEEN :B2 AND :B3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ID, SDATE ) V  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886760" y="243000"/>
            <a:ext cx="6041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6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서브쿼리 사용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MIN / MAX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266760" y="1246320"/>
            <a:ext cx="98200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7212240" y="4556160"/>
            <a:ext cx="94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B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946760" y="1386000"/>
            <a:ext cx="4514760" cy="915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*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전제조건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: SERL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은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3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자리 숫자이며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ID + SDATE + SERL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이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PK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를 구성한다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4" name=""/>
          <p:cNvGrpSpPr/>
          <p:nvPr/>
        </p:nvGrpSpPr>
        <p:grpSpPr>
          <a:xfrm>
            <a:off x="5293080" y="5005440"/>
            <a:ext cx="4718160" cy="1532520"/>
            <a:chOff x="5293080" y="5005440"/>
            <a:chExt cx="4718160" cy="1532520"/>
          </a:xfrm>
        </p:grpSpPr>
        <p:sp>
          <p:nvSpPr>
            <p:cNvPr id="1215" name=""/>
            <p:cNvSpPr/>
            <p:nvPr/>
          </p:nvSpPr>
          <p:spPr>
            <a:xfrm>
              <a:off x="5711400" y="5005440"/>
              <a:ext cx="4299840" cy="1532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ID      SDATE    SERL   DEPT</a:t>
              </a: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100   19970310     3     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800" spc="-1" strike="noStrike">
                  <a:solidFill>
                    <a:srgbClr val="339933"/>
                  </a:solidFill>
                  <a:latin typeface="굴림체"/>
                  <a:ea typeface="굴림체"/>
                </a:rPr>
                <a:t>100   19970310</a:t>
              </a: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  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</a:t>
              </a: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    </a:t>
              </a:r>
              <a:r>
                <a:rPr b="1" lang="ko-KR" sz="1800" spc="-1" strike="noStrike">
                  <a:solidFill>
                    <a:srgbClr val="339933"/>
                  </a:solidFill>
                  <a:latin typeface="굴림체"/>
                  <a:ea typeface="굴림체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800" spc="-1" strike="noStrike">
                  <a:solidFill>
                    <a:srgbClr val="330099"/>
                  </a:solidFill>
                  <a:latin typeface="굴림체"/>
                  <a:ea typeface="굴림체"/>
                </a:rPr>
                <a:t>100   19970310   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</a:t>
              </a:r>
              <a:r>
                <a:rPr b="1" lang="ko-KR" sz="1800" spc="-1" strike="noStrike">
                  <a:solidFill>
                    <a:srgbClr val="330099"/>
                  </a:solidFill>
                  <a:latin typeface="굴림체"/>
                  <a:ea typeface="굴림체"/>
                </a:rPr>
                <a:t>     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100   19970310     2     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293080" y="5345280"/>
              <a:ext cx="1072440" cy="11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②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④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043680" y="5369040"/>
              <a:ext cx="364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8" name=""/>
          <p:cNvSpPr/>
          <p:nvPr/>
        </p:nvSpPr>
        <p:spPr>
          <a:xfrm>
            <a:off x="399960" y="4656240"/>
            <a:ext cx="456084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SERL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에 중복이 발생할 때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 문제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:B7 = 20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인 경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여기서는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③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번 로우가 선택되었다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:B7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에서 걸러져 아무 로우도 선택되지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않으나 </a:t>
            </a:r>
            <a:r>
              <a:rPr b="1" lang="ko-KR" sz="1600" spc="-1" strike="noStrike">
                <a:solidFill>
                  <a:srgbClr val="339933"/>
                </a:solidFill>
                <a:latin typeface="굴림체"/>
                <a:ea typeface="굴림체"/>
              </a:rPr>
              <a:t>원래 </a:t>
            </a:r>
            <a:r>
              <a:rPr b="1" lang="ko-KR" sz="1600" spc="-1" strike="noStrike">
                <a:solidFill>
                  <a:srgbClr val="339933"/>
                </a:solidFill>
                <a:latin typeface="굴림체"/>
                <a:ea typeface="굴림체"/>
              </a:rPr>
              <a:t>SQL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은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②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번 로우가 선택된다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5010120" y="5433840"/>
            <a:ext cx="450720" cy="441360"/>
          </a:xfrm>
          <a:prstGeom prst="rightArrow">
            <a:avLst>
              <a:gd name="adj1" fmla="val 75009"/>
              <a:gd name="adj2" fmla="val 35747"/>
            </a:avLst>
          </a:prstGeom>
          <a:solidFill>
            <a:srgbClr val="00cc99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480CC-5D08-46A8-A16F-71FD403AE5B5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/>
          <p:nvPr/>
        </p:nvSpPr>
        <p:spPr>
          <a:xfrm>
            <a:off x="1899360" y="243000"/>
            <a:ext cx="3822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7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불필요한 상수 조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66760" y="1103400"/>
            <a:ext cx="9820080" cy="14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5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PNW : CPNU_PK : DLT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946440" y="4673520"/>
            <a:ext cx="8146440" cy="19656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UPDATE  CPN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T  DLTF = :B1, SYSF = :B2, RTDT = :B3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RITM = :B4, USER = :B5, VALUE = :B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DLTF = :B11  AND  SYSF = :B12  AND  RTDT = :B13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 RITM = :B14  AND  USER = :B15  AND  VALUE = :B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AND  (:B19 != 'Y' OR :B19 IS NULL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AND   :B21  = 'Y'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266760" y="4595760"/>
            <a:ext cx="1303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09480" y="2063880"/>
            <a:ext cx="8715600" cy="22467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UPDATE  CPN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T  DLTF = :B1, SYSF = :B2, RTDT = :B3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RITM = :B4, USER = :B5, VALUE = :B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(DLTF, SYSF, RTDT, RITM, USER, VALUE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SELECT  :B11, :B12, :B13, :B14, :B15, :B1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FROM  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(:B19 != 'Y' OR :B19 IS NULL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(:B21 = 'Y'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OR :B21 IS NOT NULL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39CB5-1D6A-4A48-AB6A-31F368E9FEA9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"/>
          <p:cNvSpPr/>
          <p:nvPr/>
        </p:nvSpPr>
        <p:spPr>
          <a:xfrm>
            <a:off x="1688040" y="243000"/>
            <a:ext cx="7166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8.  UNION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과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UNION AL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명확한 구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266760" y="947880"/>
            <a:ext cx="7667640" cy="19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HSNO A : HSNO_PK  : HSNO + SERIAL_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OL  B : COL_PK1  : YEAR + HOUSE + SERIAL_NO + HSNO + SERIAL_NO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OM  C : COM_IX   : YEAR + HOUSE + SERIAL_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OM  C : COM_IDX1 : CLASS + D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82520" y="2655720"/>
            <a:ext cx="4884840" cy="3956040"/>
          </a:xfrm>
          <a:prstGeom prst="roundRect">
            <a:avLst>
              <a:gd name="adj" fmla="val 664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noAutofit/>
          </a:bodyPr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C.CODE, C.HSNO, A.DESCR, SUM(B.AM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HSNO A, COL B, COM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HSNO = B.HSNO AND B.YEAR = C.YE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B.HOUSE = C.HOUSE AND C.CODE LIKE :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DAT BETWEEN :B2 AND :B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CLASS &lt;&gt; '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C.CODE, C.HSNO, A.DES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UN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C.CODE, C.HSNO, A.DESCR, SUM(B.AM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HSNO A, COL B, COM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HSNO = B.HSNO AND B.YEAR = C.YE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B.HOUSE = C.HOUSE AND C.CODE LIKE :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DAT BETWEEN :B2 AND :B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CLASS = '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C.CODE, C.HSNO, A.DESCR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5024520" y="2532240"/>
            <a:ext cx="4952880" cy="4853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ROWS  EXECUTION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----  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8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ROJ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8    </a:t>
            </a:r>
            <a:r>
              <a:rPr b="1" lang="ko-KR" sz="1200" spc="-1" strike="noStrike">
                <a:solidFill>
                  <a:srgbClr val="ff0033"/>
                </a:solidFill>
                <a:latin typeface="굴림체"/>
                <a:ea typeface="굴림체"/>
              </a:rPr>
              <a:t>SORT (UNIQ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8</a:t>
            </a:r>
            <a:r>
              <a:rPr b="1" lang="ko-KR" sz="1200" spc="-1" strike="noStrike">
                <a:solidFill>
                  <a:srgbClr val="3333cc"/>
                </a:solidFill>
                <a:latin typeface="굴림체"/>
                <a:ea typeface="굴림체"/>
              </a:rPr>
              <a:t>      UNION-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733  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SORT (GROUP B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733        NESTED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820          NESTED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678        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TABLE ACCESS (BY ROWID) OF 'COM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1738             INDEX (RANGE SCAN) OF 'COM_IX' (NON-UN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820        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TABLE ACCESS (BY ROWID) OF 'COL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1498             INDEX (RANGE SCAN) OF 'COL_PK' (UNIQ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733      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TABLE ACCESS (BY ROWID) OF 'HSNO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820           INDEX (RANGE SCAN) OF 'HSNO_PK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0  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SORT (GROUP B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0        NESTED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0          NESTED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1391            TABLE ACCESS (BY ROWID) OF 'COM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6359             INDEX (RANGE SCAN) OF 'COM_IX' (NON-UN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1829            TABLE ACCESS (BY ROWID) OF 'COL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3220             INDEX (RANGE SCAN) OF 'COL_PK1' (UNIQ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0          TABLE ACCESS (BY ROWID) OF 'HSNO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0           INDEX (RANGE SCAN) OF 'HSNO_PK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919680" y="2066760"/>
            <a:ext cx="1585800" cy="594000"/>
          </a:xfrm>
          <a:custGeom>
            <a:avLst/>
            <a:gdLst>
              <a:gd name="textAreaLeft" fmla="*/ 58680 w 1585800"/>
              <a:gd name="textAreaRight" fmla="*/ 1527120 w 1585800"/>
              <a:gd name="textAreaTop" fmla="*/ 21960 h 594000"/>
              <a:gd name="textAreaBottom" fmla="*/ 474480 h 5940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272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330099"/>
                </a:solidFill>
                <a:latin typeface="Arial"/>
                <a:ea typeface="굴림체"/>
              </a:rPr>
              <a:t>Query</a:t>
            </a:r>
            <a:r>
              <a:rPr b="1" lang="ko-KR" sz="1400" spc="-1" strike="noStrike">
                <a:solidFill>
                  <a:srgbClr val="330099"/>
                </a:solidFill>
                <a:latin typeface="Arial"/>
                <a:ea typeface="굴림체"/>
              </a:rPr>
              <a:t>의 목적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330099"/>
                </a:solidFill>
                <a:latin typeface="Arial"/>
                <a:ea typeface="굴림체"/>
              </a:rPr>
              <a:t>따라 효율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62891-170D-4391-A51C-D1C132B6961D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"/>
          <p:cNvSpPr/>
          <p:nvPr/>
        </p:nvSpPr>
        <p:spPr>
          <a:xfrm>
            <a:off x="1629360" y="243000"/>
            <a:ext cx="382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9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불필요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66760" y="1166760"/>
            <a:ext cx="13669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41160" y="4652280"/>
            <a:ext cx="8818920" cy="17758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ID, DEPT, WARD, 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TO  :B1, :B2, :B3, :B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PAT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WARD = :C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NVL(DAT,'999999') &gt;=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TO_CHAR(SYSDATE, 'YYYYMMDD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DEPT, ROOM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828000" y="1684440"/>
            <a:ext cx="9251640" cy="20718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ID, DEPT, WARD, 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TO  :B1, :B2, :B3, :B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PAT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WARD = :C1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DAT, '999999') &gt;= 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ELECT  TO_CHAR(SYSDATE, 'YYMMDD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                   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FROM  SYS.DUAL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DEPT, ROOM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66760" y="4121280"/>
            <a:ext cx="20127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52C52-DAC5-404F-9F8E-5DB7B16C96E3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"/>
          <p:cNvSpPr/>
          <p:nvPr/>
        </p:nvSpPr>
        <p:spPr>
          <a:xfrm>
            <a:off x="1769400" y="243000"/>
            <a:ext cx="445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0.  O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용 시 주의할 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66760" y="1103400"/>
            <a:ext cx="9820080" cy="22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HULGOT : CHULGOT_IX     : CHULDATE + ITEM (CASE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HULGOT : CH_STATUS_ITEM : STATUS + ITEM (CASE 3,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HULGOT : CH_CHULNO      : CHULNO (CASE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(CASE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713160" y="4159080"/>
            <a:ext cx="8868600" cy="24670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SUM(C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(SELECT  COUNT(*) AS C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WHERE  :SW = 1  AND  CHULDATE  =  '941130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UNION 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COUNT(*) AS C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WHERE  :SW = 2  AND  CHULDATE+0  LIKE  '96%'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144080" y="2682720"/>
            <a:ext cx="7129440" cy="118404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COUNT(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(:SW =  1  AND  CHULDATE  =  '941130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OR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(:SW  = 2  AND  </a:t>
            </a:r>
            <a:r>
              <a:rPr b="1" lang="ko-KR" sz="1800" spc="-1" strike="noStrike">
                <a:solidFill>
                  <a:srgbClr val="00cc99"/>
                </a:solidFill>
                <a:latin typeface="굴림체"/>
                <a:ea typeface="굴림체"/>
              </a:rPr>
              <a:t>CHULDATE+0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LIKE  '96%'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66760" y="4103640"/>
            <a:ext cx="1303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98A5C-F77A-4B2F-B810-9E7369F62C8C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"/>
          <p:cNvSpPr/>
          <p:nvPr/>
        </p:nvSpPr>
        <p:spPr>
          <a:xfrm>
            <a:off x="1769400" y="243000"/>
            <a:ext cx="445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0.  O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용 시 주의할 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281960" y="1593720"/>
            <a:ext cx="5360760" cy="13842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8160" bIns="3816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COUNT(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CHULNO = '254'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OR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(:FILED1 + :FILED2 )  &gt;  0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1191600" y="3571920"/>
            <a:ext cx="6553080" cy="26866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8160" bIns="3816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SUM(C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( SELECT  COUNT(*) AS C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CHULNO = '254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UNION 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COUNT(*) AS C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(:FILED1 + :FILED2) &gt; 0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66760" y="1103400"/>
            <a:ext cx="27860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 (CASE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266760" y="3693960"/>
            <a:ext cx="1303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D446D-EF9F-48D0-A932-040D10361961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"/>
          <p:cNvSpPr/>
          <p:nvPr/>
        </p:nvSpPr>
        <p:spPr>
          <a:xfrm>
            <a:off x="1769400" y="243000"/>
            <a:ext cx="445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0.  O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용 시 주의할 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487520" y="5299200"/>
            <a:ext cx="7818480" cy="18450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600" spc="-1" strike="noStrike">
                <a:solidFill>
                  <a:srgbClr val="000000"/>
                </a:solidFill>
                <a:latin typeface="Modern"/>
                <a:ea typeface="굴림체"/>
              </a:rPr>
              <a:t>--+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R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HULNO, CUSTNO, CHULDATE,UN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STATUS  LIKE  DECODE( :SW, 1, '2%')             </a:t>
            </a:r>
            <a:r>
              <a:rPr b="1" lang="ko-KR" sz="1600" spc="-1" strike="noStrike">
                <a:solidFill>
                  <a:srgbClr val="800000"/>
                </a:solidFill>
                <a:latin typeface="굴림체"/>
                <a:ea typeface="굴림체"/>
              </a:rPr>
              <a:t>&lt;---- 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OR  STATUS  LIKE  DECODE( :SW, 1, '1%' , '3%') ;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800000"/>
                </a:solidFill>
                <a:latin typeface="굴림체"/>
                <a:ea typeface="굴림체"/>
              </a:rPr>
              <a:t>&lt;---- 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114200" y="3306600"/>
            <a:ext cx="5196600" cy="18450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600" spc="-1" strike="noStrike">
                <a:solidFill>
                  <a:srgbClr val="000000"/>
                </a:solidFill>
                <a:latin typeface="Modern"/>
                <a:ea typeface="굴림체"/>
              </a:rPr>
              <a:t>--+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R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HULNO, CUSTNO, CHULDATE,UN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(:SW = 1 AND (STATUS  LIKE '1%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OR  (:SW = 1 AND (STATUS  LIKE '2%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OR  (:SW = 2 AND (STATUS  LIKE '3%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STATUS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533600" y="1378080"/>
            <a:ext cx="7419960" cy="20649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000000"/>
                </a:solidFill>
                <a:latin typeface="Modern"/>
                <a:ea typeface="굴림체"/>
              </a:rPr>
              <a:t>--+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R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HULNO, CUSTNO, CHULDATE,UN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(:SW = 1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STATUS  LIKE '1%'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OR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TATUS LIKE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2%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’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  (:SW = 2 AND (STATUS  LIKE '3%')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STATUS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66760" y="976320"/>
            <a:ext cx="27860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 (CASE 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66760" y="3233880"/>
            <a:ext cx="13032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942240" y="5189400"/>
            <a:ext cx="2273040" cy="501840"/>
          </a:xfrm>
          <a:custGeom>
            <a:avLst/>
            <a:gdLst>
              <a:gd name="textAreaLeft" fmla="*/ 83880 w 2273040"/>
              <a:gd name="textAreaRight" fmla="*/ 2189160 w 2273040"/>
              <a:gd name="textAreaTop" fmla="*/ 18360 h 501840"/>
              <a:gd name="textAreaBottom" fmla="*/ 401040 h 5018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302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ORDER BY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절 없음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66760" y="5291280"/>
            <a:ext cx="13032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B8979-1203-4BAA-9624-6A097BB3A3BD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461520" y="1598760"/>
            <a:ext cx="7865640" cy="18745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000000"/>
                </a:solidFill>
                <a:latin typeface="Modern"/>
                <a:ea typeface="굴림체"/>
              </a:rPr>
              <a:t>--+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R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HULNO, CUSTNO, CHULDATE,UN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( :SW = 1 AND  STATUS = 10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OR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( :SW = 2 AND  STATUS  BETWEEN  20  AND  40 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769400" y="243000"/>
            <a:ext cx="445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0.  O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용 시 주의할 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42800" y="4270320"/>
            <a:ext cx="8150760" cy="20221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000000"/>
                </a:solidFill>
                <a:latin typeface="Modern"/>
                <a:ea typeface="굴림체"/>
              </a:rPr>
              <a:t>--+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R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HULNO, CUSTNO, CHULDATE,UN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STATUS BETWEEN  DECODE ( :SW , 1 , 10 , 2, 20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 DECODE ( :SW , 1 , 10 , 2, 40 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66760" y="1119240"/>
            <a:ext cx="27860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 (CASE 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66760" y="3852720"/>
            <a:ext cx="24066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C07EB-C13E-4FDF-B30E-691743A62105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"/>
          <p:cNvSpPr/>
          <p:nvPr/>
        </p:nvSpPr>
        <p:spPr>
          <a:xfrm>
            <a:off x="1599480" y="243000"/>
            <a:ext cx="3074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1.  OR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69720" y="1135080"/>
            <a:ext cx="6551640" cy="11937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DRW_NO           VARCHAR2(16)  PRIMARY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DESIGN_ID        VARCHAR(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REVISION_DATE    VARCHAR2(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rot="5400000">
            <a:off x="5879520" y="2212560"/>
            <a:ext cx="5245200" cy="2899080"/>
          </a:xfrm>
          <a:custGeom>
            <a:avLst/>
            <a:gdLst>
              <a:gd name="textAreaLeft" fmla="*/ 194040 w 5245200"/>
              <a:gd name="textAreaRight" fmla="*/ 5051160 w 5245200"/>
              <a:gd name="textAreaTop" fmla="*/ 107280 h 2899080"/>
              <a:gd name="textAreaBottom" fmla="*/ 2315520 h 2899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113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DRW_NO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구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5678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5678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56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5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69-730-3478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69-730-34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47760" y="2717640"/>
            <a:ext cx="6805440" cy="3632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&lt;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프로그램 코딩으로 해결한  방법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F D1 =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567845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* FROM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도면정보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DRW_NO = :D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F NOT F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* FROM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도면정보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DRW_NO = SUSTR(:D1,1,15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F NOT F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* FROM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도면정보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DRW_NO = SUSTR(:D1,1,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6F85C-232E-4186-94AF-37F64BCEC4E1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"/>
          <p:cNvSpPr/>
          <p:nvPr/>
        </p:nvSpPr>
        <p:spPr>
          <a:xfrm>
            <a:off x="1599480" y="243000"/>
            <a:ext cx="3074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1.  OR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97000" y="2163600"/>
            <a:ext cx="4300560" cy="4141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2480" y="2290680"/>
            <a:ext cx="445536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SELECT   *  FROM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도면정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WHERE   ( DRW_NO = SUBSTR( :d1 , 1, 8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SUBSTR( :d1 , 1, 9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SUBSTR( :d1 , 1, 10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SUBSTR( :d1 , 1, 11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SUBSTR( :d1 , 1, 12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SUBSTR( :d1 , 1, 13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SUBSTR( :d1 , 1, 14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SUBSTR( :d1 , 1, 15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                 :d1           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돋움"/>
              </a:rPr>
              <a:t>AND          ROWNUM  =  1 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395960" y="1123920"/>
            <a:ext cx="6090840" cy="55404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EXECUTION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CONCATE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( BY ROWID ) OF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도면정보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 ( UNIQUE  SCAN )  OF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SYS_C001328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( BY ROWID ) OF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도면정보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 ( UNIQUE SCAN )  OF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SYS_C001328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( BY ROWID ) OF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도면정보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 ( UNIQUE SCAN )  OF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SYS_C001328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( BY ROWID ) OF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도면정보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 ( UNIQUE SCAN )  OF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SYS_C001328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6" name=""/>
          <p:cNvGrpSpPr/>
          <p:nvPr/>
        </p:nvGrpSpPr>
        <p:grpSpPr>
          <a:xfrm>
            <a:off x="4202280" y="2733840"/>
            <a:ext cx="1511280" cy="3340080"/>
            <a:chOff x="4202280" y="2733840"/>
            <a:chExt cx="1511280" cy="3340080"/>
          </a:xfrm>
        </p:grpSpPr>
        <p:sp>
          <p:nvSpPr>
            <p:cNvPr id="1267" name=""/>
            <p:cNvSpPr/>
            <p:nvPr/>
          </p:nvSpPr>
          <p:spPr>
            <a:xfrm flipV="1">
              <a:off x="4229280" y="2733840"/>
              <a:ext cx="1469880" cy="2992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214880" y="2824200"/>
              <a:ext cx="1484280" cy="324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214880" y="3201840"/>
              <a:ext cx="1484280" cy="1951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V="1">
              <a:off x="4202280" y="3656160"/>
              <a:ext cx="1511280" cy="170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1" name=""/>
          <p:cNvSpPr/>
          <p:nvPr/>
        </p:nvSpPr>
        <p:spPr>
          <a:xfrm>
            <a:off x="3992040" y="3952800"/>
            <a:ext cx="81756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901920" y="4064040"/>
            <a:ext cx="81756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E9A83-3873-4B3C-BED4-3100C9C38217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60080" y="1330200"/>
            <a:ext cx="1735560" cy="479160"/>
          </a:xfrm>
          <a:prstGeom prst="roundRect">
            <a:avLst>
              <a:gd name="adj" fmla="val 1084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14360" y="243000"/>
            <a:ext cx="571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년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/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월이 분리된 경우에도 인덱스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20" y="1892160"/>
            <a:ext cx="7739280" cy="20221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YY || A.MM, DEPT, SUM(SALE_Q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_A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(A.YY = '94' AND A.MM BETWEEN '10'  AND '12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OR  (A.YY = '95' AND A.MM BETWEEN '01'  AND '04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A.YY || A.MM, DEPT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73B8F-6FBD-4B8A-9580-FBFE0997F8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"/>
          <p:cNvSpPr/>
          <p:nvPr/>
        </p:nvSpPr>
        <p:spPr>
          <a:xfrm>
            <a:off x="1843560" y="243000"/>
            <a:ext cx="6402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두 개의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UPDATE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문을 하나로 통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66760" y="1103400"/>
            <a:ext cx="9820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-206640" y="1606680"/>
            <a:ext cx="10555560" cy="4619880"/>
          </a:xfrm>
          <a:prstGeom prst="roundRect">
            <a:avLst>
              <a:gd name="adj" fmla="val 30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EXEC SQL UPDAT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A003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T  ( DC_STUS_ID, INACT_RSN, TOT_AMT_OF_WON, TOT_AMT_OF_DLR,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US_DUTY_TOT_AMT, CONSUM_TAX_TOT_AMT, HOLD_DATE) 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 SELECT  'Z', 'A', SUM(AMT_OF_WON), SUM(AMT_OF_DLR),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CUS_DUTY_AMT), SUM(CONSUM_TAX_AMT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O_DATE(:SYS_DATE, 'YYYYMMDD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</a:t>
            </a:r>
            <a:r>
              <a:rPr b="1" lang="ko-KR" sz="1800" spc="-1" strike="noStrike">
                <a:solidFill>
                  <a:srgbClr val="339933"/>
                </a:solidFill>
                <a:latin typeface="굴림체"/>
                <a:ea typeface="굴림체"/>
              </a:rPr>
              <a:t>BA004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BRK_CD  = :BRK_CD  AND  DCL_YEAR = :DCL_YE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800000"/>
                </a:solidFill>
                <a:latin typeface="굴림체"/>
                <a:ea typeface="굴림체"/>
              </a:rPr>
              <a:t>WHERE  BRK_CD = :BRK_CD  AND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DCL_YEAR = </a:t>
            </a:r>
            <a:r>
              <a:rPr b="1" lang="ko-KR" sz="1800" spc="-1" strike="noStrike">
                <a:solidFill>
                  <a:srgbClr val="800000"/>
                </a:solidFill>
                <a:latin typeface="굴림체"/>
                <a:ea typeface="굴림체"/>
              </a:rPr>
              <a:t>:DCL_YEAR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EXEC SQL UPDAT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A003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T  DUTY_TOT_AMT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SELECT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CUS_DUTY_TOT_AMT + CONSUM_TAX_TOT_AMT +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LATE_F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A003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BRK_CD  = :BRK_CD  AND  DCL_YEAR = :DCL_YE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800000"/>
                </a:solidFill>
                <a:latin typeface="굴림체"/>
                <a:ea typeface="굴림체"/>
              </a:rPr>
              <a:t>WHERE  BRK_CD = :BRK_CD  AND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DCL_CD = </a:t>
            </a:r>
            <a:r>
              <a:rPr b="1" lang="ko-KR" sz="1800" spc="-1" strike="noStrike">
                <a:solidFill>
                  <a:srgbClr val="800000"/>
                </a:solidFill>
                <a:latin typeface="굴림체"/>
                <a:ea typeface="굴림체"/>
              </a:rPr>
              <a:t>:DCL_YEAR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3AC7C-D472-4A6A-A6C1-892368FB42F4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"/>
          <p:cNvSpPr/>
          <p:nvPr/>
        </p:nvSpPr>
        <p:spPr>
          <a:xfrm>
            <a:off x="1843560" y="243000"/>
            <a:ext cx="6402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두 개의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UPDATE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문을 하나로 통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531720" y="236520"/>
            <a:ext cx="9082080" cy="7228440"/>
          </a:xfrm>
          <a:prstGeom prst="roundRect">
            <a:avLst>
              <a:gd name="adj" fmla="val 529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EXEC SQ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UPDAT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A003DM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T  (DC_STUS_ID, INACT_RSN, TOT_AMT_OF_WON, TOT_AMT_OF_DL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US_DUTY_TOT_AMT, CONSUM_TAX_TOT_AMT, HOLD_DATE,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DUTY_TOT_AMT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 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SELECT  'Z', 'A', TOT_AMT_OF_WON, TOT_AMT_OF_DL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US_DUTY_TOT_AMT, CONSUM_TAX_TOT_AM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O_DATE(:SYS_DATE, 'YYYYMMDD'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CUS_DUTY_TOT_AMT + CONSUM_TAX_TOT_AMT + A.LATE_F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(SELECT  SUM(AMT_OF_WON) AS TOT_AMT_OF_WO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                      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SUM(AMT_OF_DIR) AS TOT_AMT_OF_DL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                      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SUM(CUS_DUTY_AMT) AS CUS_DUTY_TOT_AMT,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                      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SUM(CONSUM_TAX_AMT) AS CONSUM_TAX_TOT_AM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                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FROM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A004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               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WHERE  BRK_CD = :BRK_C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                 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AND  DCL_YEAR = :DCL_YEAR )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V1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BA003DM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BRK_CD = :BRK_CD  AND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DCL_YEAR =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:DCL_YEAR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BRK_CD = :BRK_CD  AND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DCL_CD =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:DCL_YEAR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5FBA1-62D0-41F2-803A-8EF563C45FB9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"/>
          <p:cNvSpPr/>
          <p:nvPr/>
        </p:nvSpPr>
        <p:spPr>
          <a:xfrm>
            <a:off x="1673640" y="243000"/>
            <a:ext cx="5910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3.  DECODE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를 활용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SQL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통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43080" y="1103400"/>
            <a:ext cx="18475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85800" y="1635120"/>
            <a:ext cx="6330960" cy="6025680"/>
          </a:xfrm>
          <a:prstGeom prst="roundRect">
            <a:avLst>
              <a:gd name="adj" fmla="val 529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NVL(SUM(DACT_MH),0), NVL(SUM(DACT_AMT)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S_DAY_ACT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ORDERNO = :B1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ITEMNO  = :B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NVL(SUM(DACT_MH),0), NVL(SUM(DACT_AMT)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S_DAY_ACT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ORDERNO = :B1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ITEMNO  = :B2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 CON_CODE IS NOT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NVL(SUM(DACT_MH),0), NVL(SUM(DACT_AMT)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S_DAY_ACT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ORDERNO = :B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ITEMNO  = :B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 (CON_CODE IS NULL OR LENGTH(CON_CODE) = 1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BD678-BB4B-4AF2-8F69-E1DF8E0A362D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3.  DECODE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를 활용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SQL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통합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-133200" y="1941480"/>
            <a:ext cx="10631160" cy="3844440"/>
          </a:xfrm>
          <a:prstGeom prst="roundRect">
            <a:avLst>
              <a:gd name="adj" fmla="val 70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NVL(SUM(DACT_MH ),0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SUM(DACT_AMT),0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M(DECODE(CON_CODE, NULL, 0, DACT_MH )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0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M(DECODE(CON_CODE, NULL, 0, DACT_AMT)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0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M(DECODE</a:t>
            </a:r>
            <a:r>
              <a:rPr b="1" lang="ko-KR" sz="1800" spc="-1" strike="noStrike">
                <a:solidFill>
                  <a:srgbClr val="339933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CON_CODE, NULL, DACT_MH,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DECODE(LENGTH(CON_CODE), 1, DACT_MH,  0)</a:t>
            </a:r>
            <a:r>
              <a:rPr b="1" lang="ko-KR" sz="1800" spc="-1" strike="noStrike">
                <a:solidFill>
                  <a:srgbClr val="339933"/>
                </a:solidFill>
                <a:latin typeface="굴림체"/>
                <a:ea typeface="굴림체"/>
              </a:rPr>
              <a:t>)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0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M(DECODE</a:t>
            </a:r>
            <a:r>
              <a:rPr b="1" lang="ko-KR" sz="1800" spc="-1" strike="noStrike">
                <a:solidFill>
                  <a:srgbClr val="339933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CON_CODE, NULL, DACT_AMT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DECODE(LENGTH(CON_CODE), 1, DACT_AMT, 0)</a:t>
            </a:r>
            <a:r>
              <a:rPr b="1" lang="ko-KR" sz="1800" spc="-1" strike="noStrike">
                <a:solidFill>
                  <a:srgbClr val="339933"/>
                </a:solidFill>
                <a:latin typeface="굴림체"/>
                <a:ea typeface="굴림체"/>
              </a:rPr>
              <a:t>)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0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S_DAY_ACT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ORDERNO =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ITEMNO  = :B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392040" y="1281240"/>
            <a:ext cx="18478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2FD40-B74E-431C-93EA-F70C87E00FB3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"/>
          <p:cNvSpPr/>
          <p:nvPr/>
        </p:nvSpPr>
        <p:spPr>
          <a:xfrm>
            <a:off x="1672920" y="243000"/>
            <a:ext cx="5083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4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과도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DECODE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266760" y="1027080"/>
            <a:ext cx="2089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-220680" y="1407960"/>
            <a:ext cx="9406440" cy="5156280"/>
          </a:xfrm>
          <a:prstGeom prst="roundRect">
            <a:avLst>
              <a:gd name="adj" fmla="val 50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B.TM, M.TAX, M.PUMMOK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1', P.SSU, 0))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1', P.KUMEK1, 0))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SUM(DECODE(NAPBAN, '1', DECODE(B.BOKWAN, '1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SUM(DECODE(NAPBAN, '1', DECODE(B.BOKWAN, '2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SUM(DECODE(NAPBAN, '1', DECODE(B.BOKWAN, '3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2', P.SSU, 0))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2', P.KUMEK1, 0))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2', DECODE(B.BOKWAN, '1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2', DECODE(B.BOKWAN, '2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2', DECODE(B.BOKWAN, '3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3', P.SSU, 0))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3', P.KUMEK1, 0))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3', DECODE(B.BOKWAN, '1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3', DECODE(B.BOKWAN, '2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3', DECODE(B.BOKWAN, '3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FROM  GGB M, GPM P, MJ 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WHERE  B.YT = P.YT AND  B.MAEJANG = P.MAEJANG AND  M.CODE = P.PUMMO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AND  P.DATE BETWEEN :B1 AND :B2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GROUP BY  B.TM, M.TAX, M.PUMMO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cc99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00cc99"/>
                </a:solidFill>
                <a:latin typeface="굴림체"/>
                <a:ea typeface="굴림체"/>
              </a:rPr>
              <a:t>ORDER BY  B.TM, M.TAX, M.PUMMOK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BD9DF-1E40-4651-804F-F0597E6A381E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/>
          <p:nvPr/>
        </p:nvSpPr>
        <p:spPr>
          <a:xfrm>
            <a:off x="1672920" y="243000"/>
            <a:ext cx="5083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4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과도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DECODE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11360" y="1473120"/>
            <a:ext cx="8523000" cy="5296320"/>
          </a:xfrm>
          <a:prstGeom prst="roundRect">
            <a:avLst>
              <a:gd name="adj" fmla="val 379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B.TM, M.TAX, M.PUMMOK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1', P.SSU, 0)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1', P.KUMEK1, 0)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M(DECODE(NAPBAN||B.BOKWAN, '11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M(DECODE(NAPBAN||B.BOKWAN, '12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M(DECODE(NAPBAN||B.BOKWAN, '13', P.KUMEK2, 0)),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2', P.SSU, 0)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2', P.KUMEK1, 0)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||B.BOKWAN, '21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||B.BOKWAN, '22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||B.BOKWAN, '23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3', P.SSU, 0)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3', P.KUMEK1, 0)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||B.BOKWAN, '31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||B.BOKWAN, '32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||B.BOKWAN, '33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GB M, GPM P, MJ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B.YT = P.YT AND  B.MAEJANG = P.MAEJANG AND  M.CODE = P.PUMM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P.DATE BETWEEN :B1 AND :B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GROUP BY  B.TM, M.TAX, M.PUMMOK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20760" y="1012680"/>
            <a:ext cx="18478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6C102-4315-4114-A443-CFB58C82EF46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31640" y="4714920"/>
            <a:ext cx="4011840" cy="163764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NVL (DEPTNO, ' 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TO 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E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EMPNO  =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:B2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89000" y="243000"/>
            <a:ext cx="576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4. BINDING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변수의 인덱스 사용 확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0000" y="1103400"/>
            <a:ext cx="4097160" cy="38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테이블 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 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EMP :  EMP_EMPNO_PK :  EMP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84680" y="4886280"/>
            <a:ext cx="5859360" cy="1771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cc0000"/>
                </a:solidFill>
                <a:latin typeface="굴림체"/>
                <a:ea typeface="굴림체"/>
              </a:rPr>
              <a:t>ROWS   EXECUTION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------  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0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SELECT  STAT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13148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TABLE ACCESS (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BY ROWI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) OF 'EMP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13149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INDEX (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RANGE SCAN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) OF 'EMP_EMPNO_PK' (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UNIQUE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02360" y="3998880"/>
            <a:ext cx="3268800" cy="951120"/>
          </a:xfrm>
          <a:custGeom>
            <a:avLst/>
            <a:gdLst>
              <a:gd name="textAreaLeft" fmla="*/ 120960 w 3268800"/>
              <a:gd name="textAreaRight" fmla="*/ 3147840 w 3268800"/>
              <a:gd name="textAreaTop" fmla="*/ 34920 h 951120"/>
              <a:gd name="textAreaBottom" fmla="*/ 759600 h 9511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518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1) Dynamic SQL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에서 주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2)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HOST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변수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선언에서 주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576080" y="1147680"/>
            <a:ext cx="4117320" cy="1962360"/>
            <a:chOff x="1576080" y="1147680"/>
            <a:chExt cx="4117320" cy="1962360"/>
          </a:xfrm>
        </p:grpSpPr>
        <p:sp>
          <p:nvSpPr>
            <p:cNvPr id="198" name=""/>
            <p:cNvSpPr/>
            <p:nvPr/>
          </p:nvSpPr>
          <p:spPr>
            <a:xfrm>
              <a:off x="1576080" y="1147680"/>
              <a:ext cx="4117320" cy="1962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0" bIns="0" anchor="t">
              <a:spAutoFit/>
            </a:bodyPr>
            <a:p>
              <a:pPr marL="343080" indent="-3430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Arial"/>
                  <a:ea typeface="굴림체"/>
                </a:rPr>
                <a:t>       </a:t>
              </a:r>
              <a:r>
                <a:rPr b="1" lang="ko-KR" sz="2000" spc="-1" strike="noStrike">
                  <a:solidFill>
                    <a:srgbClr val="000000"/>
                  </a:solidFill>
                  <a:latin typeface="Arial"/>
                  <a:ea typeface="굴림체"/>
                </a:rPr>
                <a:t>E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# * EMPNO    </a:t>
              </a:r>
              <a:r>
                <a:rPr b="1" lang="ko-KR" sz="16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VARCHAR2(5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ENAME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VARCHAR2(2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DEPTNO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VARCHAR2(5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(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총 로우 수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:13,148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89160" y="1571760"/>
              <a:ext cx="28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939D5-7AE2-42D9-B298-FBC14C383C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-695160" y="2751120"/>
            <a:ext cx="11445840" cy="3714840"/>
          </a:xfrm>
          <a:prstGeom prst="roundRect">
            <a:avLst>
              <a:gd name="adj" fmla="val 694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INPTIDNO,INPTPKND,INPT,INPTLEVL,INPTMNDR,INPTDEPT,INPTCHRS,PBSCPNM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LOOR(MONTH_BETWEEN(SYSDATE,TO_DATE(PBSCBIRT,'YYMMDD'))/12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PBSCRSEX,PBSCPHNI,CODEDE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HISCODE  A,  THISPBSC  B,  THISINPT 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C.INPTCHRS =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BSTR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00cc99"/>
                </a:solidFill>
                <a:latin typeface="굴림체"/>
                <a:ea typeface="굴림체"/>
              </a:rPr>
              <a:t>A.CODENAM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, 1,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 u="sng">
                <a:solidFill>
                  <a:srgbClr val="3333cc"/>
                </a:solidFill>
                <a:uFillTx/>
                <a:latin typeface="굴림체"/>
                <a:ea typeface="굴림체"/>
              </a:rPr>
              <a:t>C.INPTDATE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굴림체"/>
                <a:ea typeface="굴림체"/>
              </a:rPr>
              <a:t>=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C.INPTGUBN IN  ('A', 'B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C.INPTBYBY LIKE  '1%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C.INPTIDNO = B.PBSCID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800" spc="-1" strike="noStrike" u="sng">
                <a:solidFill>
                  <a:srgbClr val="00cc99"/>
                </a:solidFill>
                <a:uFillTx/>
                <a:latin typeface="굴림체"/>
                <a:ea typeface="굴림체"/>
              </a:rPr>
              <a:t>A.CODEGUBN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굴림체"/>
                <a:ea typeface="굴림체"/>
              </a:rPr>
              <a:t> = '11'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42440" y="243000"/>
            <a:ext cx="565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5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인덱스 컬럼의 분리에 따른 문제 해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6760" y="988920"/>
            <a:ext cx="9728280" cy="17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HISCODE  A : THISCODE_PK1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 CODEGUBN + CODE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HISPBSC  B : THISPBSC_PK1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 PBSCID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HISINPT  C : THISINPT_IDX1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 INPTDATE + INPTCH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4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91080" y="4662360"/>
            <a:ext cx="5226120" cy="283032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cc0000"/>
                </a:solidFill>
                <a:latin typeface="굴림체"/>
                <a:ea typeface="굴림체"/>
              </a:rPr>
              <a:t>ROWS  EXECUTION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------ 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 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0   NESTED 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0    NESTED 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80      TABLE  ACCESS (BY ROWID)  OF  'THISINPT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81       INDEX (RANGE SCAN) OF 'THISINPT_IDX1'(NON-UNIQ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ff0033"/>
                </a:solidFill>
                <a:latin typeface="굴림체"/>
                <a:ea typeface="굴림체"/>
              </a:rPr>
              <a:t>40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TABLE  ACCESS (BY ROWID)  OF  'THISCODE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33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ff3300"/>
                </a:solidFill>
                <a:latin typeface="굴림체"/>
                <a:ea typeface="굴림체"/>
              </a:rPr>
              <a:t>3290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INDEX (</a:t>
            </a:r>
            <a:r>
              <a:rPr b="1" lang="ko-KR" sz="1200" spc="-1" strike="noStrike">
                <a:solidFill>
                  <a:srgbClr val="ff0033"/>
                </a:solidFill>
                <a:latin typeface="굴림체"/>
                <a:ea typeface="굴림체"/>
              </a:rPr>
              <a:t>RANGE SCAN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) OF 'THISCODE_PK1'(UNIQ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0    TABLE  ACCESS (BY ROWID)  OF  'THISPBSC'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0      INDEX (UNIQUE SCAN) OF 'THISPBSC_PK1'(UNIQ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35600" y="3848040"/>
            <a:ext cx="2343240" cy="749520"/>
          </a:xfrm>
          <a:custGeom>
            <a:avLst/>
            <a:gdLst>
              <a:gd name="textAreaLeft" fmla="*/ 86760 w 2343240"/>
              <a:gd name="textAreaRight" fmla="*/ 2256480 w 2343240"/>
              <a:gd name="textAreaTop" fmla="*/ 27720 h 749520"/>
              <a:gd name="textAreaBottom" fmla="*/ 598680 h 7495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698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Access 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비 효율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발생 부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174600" y="5465880"/>
            <a:ext cx="6786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F33A2-4275-49E6-A463-22F9E39149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어진수</dc:creator>
  <dc:description/>
  <dc:language>en-US</dc:language>
  <cp:lastModifiedBy>kssong</cp:lastModifiedBy>
  <cp:lastPrinted>1997-11-14T05:28:08Z</cp:lastPrinted>
  <dcterms:modified xsi:type="dcterms:W3CDTF">2001-04-13T00:24:03Z</dcterms:modified>
  <cp:revision>251</cp:revision>
  <dc:subject/>
  <dc:title>슬라이드 제목 없음</dc:title>
</cp:coreProperties>
</file>